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BEB02-09D6-4C82-B11F-1F4AB88CB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2F00E-365D-4BE5-AF36-C53C93F72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B17D3-30C1-41A8-AA55-9674CB66D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C61D6-676F-4D7E-80D0-64FAB4B78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A4079-6A9D-4F06-AA9F-157AD9F28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9ED63-5553-47E0-8FEC-EAA5A97FF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2345A-FD2E-496B-B466-FF34AFD1A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56645-27BB-4034-AA9F-AD523621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29795-9BCF-4A4D-9487-FAD871AA6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E3944-C7D4-4FBA-A026-0863E448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B85B7-1D3E-46A4-B2AD-95530D044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86F43-DFF6-41D9-8D05-8FD5E5AFB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D188-F442-42C4-9E51-C35D9ED515D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graphicFrame>
        <p:nvGraphicFramePr>
          <p:cNvPr id="42" name=""/>
          <p:cNvGraphicFramePr/>
          <p:nvPr/>
        </p:nvGraphicFramePr>
        <p:xfrm>
          <a:off x="228600" y="609480"/>
          <a:ext cx="8686800" cy="5807160"/>
        </p:xfrm>
        <a:graphic>
          <a:graphicData uri="http://schemas.openxmlformats.org/drawingml/2006/table">
            <a:tbl>
              <a:tblPr/>
              <a:tblGrid>
                <a:gridCol w="762120"/>
                <a:gridCol w="2361960"/>
                <a:gridCol w="762120"/>
                <a:gridCol w="2209680"/>
                <a:gridCol w="2590920"/>
              </a:tblGrid>
              <a:tr h="432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33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ESENTAZIONE DOMAN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l cliente che intende aprire un rapporto di Deposito a Risparmio deve inoltrare all’operatore la domanda di Apertura di Deposito a Risparm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Times New Roman"/>
                        </a:rPr>
                        <a:t>ACQUISIZIONE DOCUMENTAZIONE IDENTIFICATIVA DEL CLIENTE</a:t>
                      </a:r>
                      <a:endParaRPr b="0" lang="en-US" sz="1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L’operatore, che riceve dal Cliente la domanda d’apertura di Deposito a Risparmio</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Deve acquisire documentazione identificativa del cliente e verificare le caratteristiche del cliente. </a:t>
                      </a:r>
                      <a:endParaRPr b="0" lang="en-US" sz="8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ea typeface="Times New Roman"/>
                        </a:rPr>
                        <a:t>VERIFICA CENSIMENTO CLIENTE IN ANAGRAFICA</a:t>
                      </a:r>
                      <a:endParaRPr b="0" lang="en-US" sz="10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L’operatore deve verificare sei il/i clienti siano già censiti in Anagrafe Generale e dunque già identificati da un CDG</a:t>
                      </a:r>
                      <a:endParaRPr b="0" lang="en-US" sz="8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imes New Roman"/>
                        </a:rPr>
                        <a:t>Il cliente deve compilare apposito modulo denominato DR/Domanda in tutte le sue parti.</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L’operatore deve:</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verificare le caratteristiche del cliente, riguardo la natura (persona fisica, persona giuridica), numero di intestatari,</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acquisire dal cliente il documento identificativo e il codice fiscale,</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se vi sono più titolari, deve acquisire la documentazione di ciascuno,</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verificare la validità dei documenti ricevuti,</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acquisire eventuale documentazione per l’apertura di Deposito a risparmio convenzionat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La richiesta d’apertura può avvenire anche da un soggetto munito di apposita procura; in questo caso l’operatore dev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effettuare le relative verifiche anche con riferimento al soggetto esecutore.</a:t>
                      </a:r>
                      <a:r>
                        <a:rPr b="0" lang="it-IT" sz="800" spc="-1" strike="noStrike">
                          <a:solidFill>
                            <a:srgbClr val="000000"/>
                          </a:solidFill>
                          <a:latin typeface="Times New Roman"/>
                        </a:rPr>
                        <a:t> </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ea typeface="Tahoma"/>
                        </a:rPr>
                        <a:t>L’operatore deve verificare sei il/i clienti siano già censiti in Anagrafe Generale e dunque già identificati da un CDG; a tal fine, occorre:</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avviare la procedura </a:t>
                      </a:r>
                      <a:r>
                        <a:rPr b="0" lang="it-IT" sz="800" spc="-1" strike="noStrike" u="sng">
                          <a:solidFill>
                            <a:srgbClr val="0000ff"/>
                          </a:solidFill>
                          <a:uFillTx/>
                          <a:latin typeface="Tahoma"/>
                          <a:ea typeface="Tahoma"/>
                        </a:rPr>
                        <a:t>Anagrafe Cliente</a:t>
                      </a:r>
                      <a:endParaRPr b="0" lang="en-US" sz="800" spc="-1" strike="noStrike">
                        <a:solidFill>
                          <a:srgbClr val="000000"/>
                        </a:solidFill>
                        <a:latin typeface="Times New Roman"/>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ahoma"/>
                          <a:ea typeface="Tahoma"/>
                        </a:rPr>
                        <a:t>verificare se il cliente è già identificato con un codice di anagrafe C.D.G.; tale verifica viene effettuata utilizzando la funzione di Ricerca Anagrafica.</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1914C06-1D51-4DE6-A7C7-2BB8438D911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graphicFrame>
        <p:nvGraphicFramePr>
          <p:cNvPr id="44" name=""/>
          <p:cNvGraphicFramePr/>
          <p:nvPr/>
        </p:nvGraphicFramePr>
        <p:xfrm>
          <a:off x="152280" y="609480"/>
          <a:ext cx="8763120" cy="6053400"/>
        </p:xfrm>
        <a:graphic>
          <a:graphicData uri="http://schemas.openxmlformats.org/drawingml/2006/table">
            <a:tbl>
              <a:tblPr/>
              <a:tblGrid>
                <a:gridCol w="762120"/>
                <a:gridCol w="2362320"/>
                <a:gridCol w="1143000"/>
                <a:gridCol w="1828800"/>
                <a:gridCol w="26668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09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VERIFICA REQUISITI CLIENTE</a:t>
                      </a:r>
                      <a:endParaRPr b="0" lang="en-US" sz="10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L’operatore procede alla verifica delle condizioni necessarie per l’autorizzazione all’apertura del rapporto con operazione diversa a seconda che il cliente risulti censito o meno in anagrafica.</a:t>
                      </a: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UTORIZZAZIONE APERTURA DR</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L’operatore deve effettuare l’indagine sull’archivio protesti e pregiudizievoli:</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nel caso di clienti censiti, consultando:</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la fase </a:t>
                      </a:r>
                      <a:r>
                        <a:rPr b="0" lang="en-US" sz="900" spc="-1" strike="noStrike" u="sng">
                          <a:solidFill>
                            <a:srgbClr val="0000ff"/>
                          </a:solidFill>
                          <a:uFillTx/>
                          <a:latin typeface="Tahoma"/>
                          <a:ea typeface="Times New Roman"/>
                        </a:rPr>
                        <a:t>Gestione Notizie</a:t>
                      </a:r>
                      <a:r>
                        <a:rPr b="0" lang="en-US" sz="900" spc="-1" strike="noStrike">
                          <a:solidFill>
                            <a:srgbClr val="000000"/>
                          </a:solidFill>
                          <a:latin typeface="Tahoma"/>
                          <a:ea typeface="Times New Roman"/>
                        </a:rPr>
                        <a:t> di Anagrafe Generale, per visualizzare le eventuali notizie sui clienti utili a stabilirne l’affidabilità;</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la fase </a:t>
                      </a:r>
                      <a:r>
                        <a:rPr b="0" lang="en-US" sz="900" spc="-1" strike="noStrike" u="sng">
                          <a:solidFill>
                            <a:srgbClr val="0000ff"/>
                          </a:solidFill>
                          <a:uFillTx/>
                          <a:latin typeface="Tahoma"/>
                          <a:ea typeface="Times New Roman"/>
                        </a:rPr>
                        <a:t>Clienti Negativi</a:t>
                      </a:r>
                      <a:r>
                        <a:rPr b="0" lang="en-US" sz="900" spc="-1" strike="noStrike">
                          <a:solidFill>
                            <a:srgbClr val="000000"/>
                          </a:solidFill>
                          <a:latin typeface="Tahoma"/>
                          <a:ea typeface="Times New Roman"/>
                        </a:rPr>
                        <a:t> di Anagrafe Generale, verificando se il C.d.G. del/dei cliente/i è avvalorato con il simbolo N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nel caso di clienti non censiti, consultando le fasi di CRIF: VISURA PREGIUDIZIEVOLI </a:t>
                      </a:r>
                      <a:r>
                        <a:rPr b="0" lang="en-US" sz="900" spc="-1" strike="noStrike" u="sng">
                          <a:solidFill>
                            <a:srgbClr val="0000ff"/>
                          </a:solidFill>
                          <a:uFillTx/>
                          <a:latin typeface="Tahoma"/>
                          <a:ea typeface="Times New Roman"/>
                        </a:rPr>
                        <a:t>CF02</a:t>
                      </a:r>
                      <a:r>
                        <a:rPr b="0" lang="en-US" sz="900" spc="-1" strike="noStrike">
                          <a:solidFill>
                            <a:srgbClr val="000000"/>
                          </a:solidFill>
                          <a:latin typeface="Tahoma"/>
                          <a:ea typeface="Times New Roman"/>
                        </a:rPr>
                        <a:t> e VISURA PROTESTI </a:t>
                      </a:r>
                      <a:r>
                        <a:rPr b="0" lang="en-US" sz="900" spc="-1" strike="noStrike" u="sng">
                          <a:solidFill>
                            <a:srgbClr val="0000ff"/>
                          </a:solidFill>
                          <a:uFillTx/>
                          <a:latin typeface="Tahoma"/>
                          <a:ea typeface="Times New Roman"/>
                        </a:rPr>
                        <a:t>CF03</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 </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L’operatore, una volta raccolte le suddette informazioni, dev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darne evidenza attraverso la stampa</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ahoma"/>
                          <a:ea typeface="Times New Roman"/>
                        </a:rPr>
                        <a:t>sottoporre tutta la documentazione acquisita al </a:t>
                      </a:r>
                      <a:r>
                        <a:rPr b="1" lang="en-US" sz="900" spc="-1" strike="noStrike">
                          <a:solidFill>
                            <a:srgbClr val="008000"/>
                          </a:solidFill>
                          <a:latin typeface="Tahoma"/>
                          <a:ea typeface="Times New Roman"/>
                        </a:rPr>
                        <a:t>Capo Filial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Il </a:t>
                      </a:r>
                      <a:r>
                        <a:rPr b="1" lang="en-US" sz="900" spc="-1" strike="noStrike">
                          <a:solidFill>
                            <a:srgbClr val="008000"/>
                          </a:solidFill>
                          <a:latin typeface="Tahoma,Bold"/>
                          <a:ea typeface="Times New Roman"/>
                        </a:rPr>
                        <a:t>Capo Filiale </a:t>
                      </a:r>
                      <a:r>
                        <a:rPr b="0" lang="en-US" sz="900" spc="-1" strike="noStrike">
                          <a:solidFill>
                            <a:srgbClr val="000000"/>
                          </a:solidFill>
                          <a:latin typeface="Tahoma"/>
                          <a:ea typeface="Tahoma"/>
                        </a:rPr>
                        <a:t>verifica la documentazione presentata dall’operatore; in base ad essa, decide se dare o meno l’autorizzazione all’apertura del deposito a risparmio, specificando il tipo di conto e le eventuali convenzioni da applicar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Nel caso in cui l’operatore non riceve l’autorizzazione da parte del </a:t>
                      </a:r>
                      <a:r>
                        <a:rPr b="1" lang="en-US" sz="900" spc="-1" strike="noStrike">
                          <a:solidFill>
                            <a:srgbClr val="008000"/>
                          </a:solidFill>
                          <a:latin typeface="Tahoma,Bold"/>
                          <a:ea typeface="Times New Roman"/>
                        </a:rPr>
                        <a:t>Capo Filiale</a:t>
                      </a:r>
                      <a:r>
                        <a:rPr b="0" lang="en-US" sz="900" spc="-1" strike="noStrike">
                          <a:solidFill>
                            <a:srgbClr val="000000"/>
                          </a:solidFill>
                          <a:latin typeface="Tahoma"/>
                          <a:ea typeface="Tahoma"/>
                        </a:rPr>
                        <a:t>, deve archiviare la documentazione relativa, in un apposita cartella delle richieste di apertura deposito a risparmio respinte</a:t>
                      </a:r>
                      <a:r>
                        <a:rPr b="0" lang="en-US" sz="900" spc="-1" strike="noStrike" u="sng">
                          <a:solidFill>
                            <a:srgbClr val="ccccff"/>
                          </a:solidFill>
                          <a:uFillTx/>
                          <a:latin typeface="Tahoma"/>
                          <a:ea typeface="Tahoma"/>
                          <a:hlinkClick r:id="rId1" action="ppaction://hlinksldjump"/>
                        </a:rPr>
                        <a:t>[1]</a:t>
                      </a:r>
                      <a:r>
                        <a:rPr b="0" lang="en-US" sz="900" spc="-1" strike="noStrike">
                          <a:solidFill>
                            <a:srgbClr val="000000"/>
                          </a:solidFill>
                          <a:latin typeface="Tahoma"/>
                          <a:ea typeface="Tahoma"/>
                        </a:rPr>
                        <a:t>.</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L’autorizzazione del </a:t>
                      </a:r>
                      <a:r>
                        <a:rPr b="1" lang="en-US" sz="900" spc="-1" strike="noStrike">
                          <a:solidFill>
                            <a:srgbClr val="008000"/>
                          </a:solidFill>
                          <a:latin typeface="Tahoma,Bold"/>
                          <a:ea typeface="Times New Roman"/>
                        </a:rPr>
                        <a:t>Capo filiale</a:t>
                      </a:r>
                      <a:r>
                        <a:rPr b="0" lang="en-US" sz="900" spc="-1" strike="noStrike">
                          <a:solidFill>
                            <a:srgbClr val="000000"/>
                          </a:solidFill>
                          <a:latin typeface="Tahoma"/>
                          <a:ea typeface="Tahoma"/>
                        </a:rPr>
                        <a:t> viene concessa tramite apposizione della firma sul modulo di domanda; inoltre sul modulo di domanda</a:t>
                      </a:r>
                      <a:r>
                        <a:rPr b="0" lang="en-US" sz="900" spc="-1" strike="noStrike" u="sng">
                          <a:solidFill>
                            <a:srgbClr val="ccccff"/>
                          </a:solidFill>
                          <a:uFillTx/>
                          <a:latin typeface="Tahoma"/>
                          <a:ea typeface="Tahoma"/>
                          <a:hlinkClick r:id="rId2" action="ppaction://hlinksldjump"/>
                        </a:rPr>
                        <a:t>[2]</a:t>
                      </a:r>
                      <a:r>
                        <a:rPr b="0" lang="en-US" sz="900" spc="-1" strike="noStrike">
                          <a:solidFill>
                            <a:srgbClr val="000000"/>
                          </a:solidFill>
                          <a:latin typeface="Tahoma"/>
                          <a:ea typeface="Tahoma"/>
                        </a:rPr>
                        <a:t> il </a:t>
                      </a:r>
                      <a:r>
                        <a:rPr b="1" lang="en-US" sz="900" spc="-1" strike="noStrike">
                          <a:solidFill>
                            <a:srgbClr val="008000"/>
                          </a:solidFill>
                          <a:latin typeface="Tahoma,Bold"/>
                          <a:ea typeface="Times New Roman"/>
                        </a:rPr>
                        <a:t>Capo Filiale </a:t>
                      </a:r>
                      <a:r>
                        <a:rPr b="0" lang="en-US" sz="900" spc="-1" strike="noStrike">
                          <a:solidFill>
                            <a:srgbClr val="000000"/>
                          </a:solidFill>
                          <a:latin typeface="Tahoma"/>
                          <a:ea typeface="Tahoma"/>
                        </a:rPr>
                        <a:t>deve specificare le condizioni da applicare ai clienti.</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F8D81C8-C2BB-4CE6-9835-4EF70F664C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graphicFrame>
        <p:nvGraphicFramePr>
          <p:cNvPr id="46" name=""/>
          <p:cNvGraphicFramePr/>
          <p:nvPr/>
        </p:nvGraphicFramePr>
        <p:xfrm>
          <a:off x="152280" y="457200"/>
          <a:ext cx="8975880" cy="6019920"/>
        </p:xfrm>
        <a:graphic>
          <a:graphicData uri="http://schemas.openxmlformats.org/drawingml/2006/table">
            <a:tbl>
              <a:tblPr/>
              <a:tblGrid>
                <a:gridCol w="762120"/>
                <a:gridCol w="2362320"/>
                <a:gridCol w="761760"/>
                <a:gridCol w="2590920"/>
                <a:gridCol w="249876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GGIORNAMENTO POSIZIONE CLIENTE IN ANAGRAFICA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peratore deve provvedere all’aggiornamento della posizione anagrafica del cliente. In caso di cliente non censito, dovrà assegnargli un CDG; qualora fosse già presente in anagrafica, si dovrà aggiornare la sua posizione.</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DENTIFICAZIONE CONTO</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peratore assegna un numero di conto al cliente in automatico in funzione del tipo di rapporto scelto dal cliente. E’ prevista la possibilità che il cliente richieda un numero di conto personalizzato: in questo caso l’operatore dovrà inserirlo manualm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Nel caso in cui l’operatore riceve l’autorizzazione da parte del </a:t>
                      </a:r>
                      <a:r>
                        <a:rPr b="1" lang="it-IT" sz="900" spc="-1" strike="noStrike">
                          <a:solidFill>
                            <a:srgbClr val="008000"/>
                          </a:solidFill>
                          <a:latin typeface="Tahoma,Bold"/>
                          <a:ea typeface="Times New Roman"/>
                        </a:rPr>
                        <a:t>Capo Filiale</a:t>
                      </a:r>
                      <a:r>
                        <a:rPr b="0" lang="it-IT" sz="900" spc="-1" strike="noStrike">
                          <a:solidFill>
                            <a:srgbClr val="000000"/>
                          </a:solidFill>
                          <a:latin typeface="Tahoma"/>
                          <a:ea typeface="Tahoma"/>
                        </a:rPr>
                        <a:t>, deve procedere con le successive sottofasi previste dal processo di apertura deposito a risparmio.</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u="sng">
                          <a:solidFill>
                            <a:srgbClr val="ccccff"/>
                          </a:solidFill>
                          <a:uFillTx/>
                          <a:latin typeface="Tahoma"/>
                          <a:ea typeface="Tahoma"/>
                          <a:hlinkClick r:id="rId1" action="ppaction://hlinksldjump"/>
                        </a:rPr>
                        <a:t>[1]</a:t>
                      </a:r>
                      <a:r>
                        <a:rPr b="0" lang="it-IT" sz="900" spc="-1" strike="noStrike">
                          <a:solidFill>
                            <a:srgbClr val="000000"/>
                          </a:solidFill>
                          <a:latin typeface="Times New Roman"/>
                          <a:ea typeface="Times New Roman"/>
                        </a:rPr>
                        <a:t> Predisporre tale cartella e verificare come darne evidenza elettronicamente in circolarità.</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u="sng">
                          <a:solidFill>
                            <a:srgbClr val="ccccff"/>
                          </a:solidFill>
                          <a:uFillTx/>
                          <a:latin typeface="Tahoma"/>
                          <a:ea typeface="Tahoma"/>
                          <a:hlinkClick r:id="rId2" action="ppaction://hlinksldjump"/>
                        </a:rPr>
                        <a:t>[2]</a:t>
                      </a:r>
                      <a:r>
                        <a:rPr b="0" lang="it-IT" sz="900" spc="-1" strike="noStrike">
                          <a:solidFill>
                            <a:srgbClr val="000000"/>
                          </a:solidFill>
                          <a:latin typeface="Times New Roman"/>
                          <a:ea typeface="Times New Roman"/>
                        </a:rPr>
                        <a:t> Inserire parte del modulo per la compilazione del Capo Filiale.</a:t>
                      </a:r>
                      <a:endParaRPr b="0" lang="en-US" sz="9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Se dalla Ricerca Anagrafica si rileva che il cliente non è censito, per cui non esiste un CDG già aperto presso la Banca, l’operatore dev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NewRoman"/>
                          <a:ea typeface="Times New Roman"/>
                        </a:rPr>
                        <a:t>- </a:t>
                      </a:r>
                      <a:r>
                        <a:rPr b="0" lang="it-IT" sz="900" spc="-1" strike="noStrike">
                          <a:solidFill>
                            <a:srgbClr val="000000"/>
                          </a:solidFill>
                          <a:latin typeface="Tahoma"/>
                          <a:ea typeface="Tahoma"/>
                        </a:rPr>
                        <a:t>provvedere alla assegnazione di un CdG ai richiedenti, attraverso la fase di </a:t>
                      </a:r>
                      <a:r>
                        <a:rPr b="0" lang="it-IT" sz="900" spc="-1" strike="noStrike" u="sng">
                          <a:solidFill>
                            <a:srgbClr val="0000ff"/>
                          </a:solidFill>
                          <a:uFillTx/>
                          <a:latin typeface="Tahoma"/>
                          <a:ea typeface="Tahoma"/>
                        </a:rPr>
                        <a:t>Inserimento Anagrafica;</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NewRoman"/>
                          <a:ea typeface="Times New Roman"/>
                        </a:rPr>
                        <a:t>- </a:t>
                      </a:r>
                      <a:r>
                        <a:rPr b="0" lang="it-IT" sz="900" spc="-1" strike="noStrike">
                          <a:solidFill>
                            <a:srgbClr val="000000"/>
                          </a:solidFill>
                          <a:latin typeface="Tahoma"/>
                          <a:ea typeface="Tahoma"/>
                        </a:rPr>
                        <a:t>provvedere alla raccolta del consenso (ex LEGGE N.675 DD.31/12/1996 TUTELA PRIVACY), tramite la fase </a:t>
                      </a:r>
                      <a:r>
                        <a:rPr b="0" lang="it-IT" sz="900" spc="-1" strike="noStrike">
                          <a:solidFill>
                            <a:srgbClr val="0000ff"/>
                          </a:solidFill>
                          <a:latin typeface="Tahoma"/>
                          <a:ea typeface="Tahoma"/>
                        </a:rPr>
                        <a:t>Manifestazione del Consenso.</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Se dalla Ricerca Anagrafica si rileva che il cliente è già presente nell’Anagrafe clienti, l’operatore deve</a:t>
                      </a:r>
                      <a:r>
                        <a:rPr b="0" lang="it-IT" sz="900" spc="-1" strike="noStrike">
                          <a:solidFill>
                            <a:srgbClr val="000000"/>
                          </a:solidFill>
                          <a:latin typeface="TimesNewRoman"/>
                          <a:ea typeface="Times New Roman"/>
                        </a:rPr>
                        <a:t> </a:t>
                      </a:r>
                      <a:r>
                        <a:rPr b="0" lang="it-IT" sz="900" spc="-1" strike="noStrike">
                          <a:solidFill>
                            <a:srgbClr val="000000"/>
                          </a:solidFill>
                          <a:latin typeface="Tahoma"/>
                          <a:ea typeface="Tahoma"/>
                        </a:rPr>
                        <a:t>provvedere all’eventuale aggiornamento della posizione in Anagrafe Generale, verificando tra l’altro l’avvenuta </a:t>
                      </a:r>
                      <a:r>
                        <a:rPr b="0" lang="it-IT" sz="900" spc="-1" strike="noStrike">
                          <a:solidFill>
                            <a:srgbClr val="0000ff"/>
                          </a:solidFill>
                          <a:latin typeface="Tahoma"/>
                          <a:ea typeface="Tahoma"/>
                        </a:rPr>
                        <a:t>Manifestazione del Consenso.</a:t>
                      </a:r>
                      <a:endParaRPr b="0" lang="en-US" sz="900" spc="-1" strike="noStrike">
                        <a:solidFill>
                          <a:srgbClr val="000000"/>
                        </a:solidFill>
                        <a:latin typeface="Times New Roman"/>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Questa sottofase consente di assegnare un codice identificativo del rapporto. L’operatore, una volta provveduto all’aggiornamento della procedura anagrafe, entra nel menu MDRR- Gestione rapporto D/R ed avvia la transazione DRAK - Apertura Deposito a Risparmio.</a:t>
                      </a:r>
                      <a:r>
                        <a:rPr b="0" lang="it-IT"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201F80C-D19D-45A6-998F-53B180E747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152280" y="609480"/>
          <a:ext cx="8823600" cy="6005520"/>
        </p:xfrm>
        <a:graphic>
          <a:graphicData uri="http://schemas.openxmlformats.org/drawingml/2006/table">
            <a:tbl>
              <a:tblPr/>
              <a:tblGrid>
                <a:gridCol w="755640"/>
                <a:gridCol w="2216160"/>
                <a:gridCol w="804960"/>
                <a:gridCol w="1938240"/>
                <a:gridCol w="31086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2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L’operatore procede ad avvalorare i diversi campi richiesti, secondo le seguenti modalità: </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Filiale di assegnazione: </a:t>
                      </a:r>
                      <a:r>
                        <a:rPr b="0" lang="it-IT" sz="900" spc="-1" strike="noStrike">
                          <a:solidFill>
                            <a:srgbClr val="000000"/>
                          </a:solidFill>
                          <a:latin typeface="Tahoma"/>
                          <a:ea typeface="Tahoma"/>
                        </a:rPr>
                        <a:t>la transazione assegna automaticamente il codice della Dipendenza operante. Non è possibile operare in circolarità, per cui ogni filiale può aprire depositi a risparmio solo sulla propria dipendenza</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Tipo conto e sottotipo: </a:t>
                      </a:r>
                      <a:r>
                        <a:rPr b="0" lang="it-IT" sz="900" spc="-1" strike="noStrike">
                          <a:solidFill>
                            <a:srgbClr val="000000"/>
                          </a:solidFill>
                          <a:latin typeface="Tahoma"/>
                          <a:ea typeface="Tahoma"/>
                        </a:rPr>
                        <a:t>Codice Tipo conto e sottotipo. Indica la categoria di condizioni da applicare al deposito a risparmio. I primi due campi identificano il “tipo conto” gli altri tre il “sottotipo”. L’operatore deve inserire il tipo conto e sottotipo così come autorizzato dal </a:t>
                      </a:r>
                      <a:r>
                        <a:rPr b="1" lang="it-IT" sz="900" spc="-1" strike="noStrike">
                          <a:solidFill>
                            <a:srgbClr val="008000"/>
                          </a:solidFill>
                          <a:latin typeface="Tahoma,Bold"/>
                          <a:ea typeface="Times New Roman"/>
                        </a:rPr>
                        <a:t>Capo Filiale </a:t>
                      </a:r>
                      <a:r>
                        <a:rPr b="0" lang="it-IT" sz="900" spc="-1" strike="noStrike">
                          <a:solidFill>
                            <a:srgbClr val="000000"/>
                          </a:solidFill>
                          <a:latin typeface="Tahoma"/>
                          <a:ea typeface="Tahoma"/>
                        </a:rPr>
                        <a:t>sul a modulo DR/Domanda. Per individuare correttamente il codice delle condizioni da applicare scelte dal </a:t>
                      </a:r>
                      <a:r>
                        <a:rPr b="1" lang="it-IT" sz="900" spc="-1" strike="noStrike">
                          <a:solidFill>
                            <a:srgbClr val="008000"/>
                          </a:solidFill>
                          <a:latin typeface="Tahoma,Bold"/>
                          <a:ea typeface="Times New Roman"/>
                        </a:rPr>
                        <a:t>Capo Filiale </a:t>
                      </a:r>
                      <a:r>
                        <a:rPr b="0" lang="it-IT" sz="900" spc="-1" strike="noStrike">
                          <a:solidFill>
                            <a:srgbClr val="000000"/>
                          </a:solidFill>
                          <a:latin typeface="Tahoma,Bold"/>
                          <a:ea typeface="Times New Roman"/>
                        </a:rPr>
                        <a:t>è possibile  </a:t>
                      </a:r>
                      <a:r>
                        <a:rPr b="0" lang="it-IT" sz="900" spc="-1" strike="noStrike">
                          <a:solidFill>
                            <a:srgbClr val="000000"/>
                          </a:solidFill>
                          <a:latin typeface="Tahoma"/>
                          <a:ea typeface="Tahoma"/>
                        </a:rPr>
                        <a:t>digitare il carattere “?” nel campo e visualizzare i tipi di conto e i sottotipi in essere (</a:t>
                      </a:r>
                      <a:r>
                        <a:rPr b="0" lang="it-IT" sz="900" spc="-1" strike="noStrike">
                          <a:solidFill>
                            <a:srgbClr val="0000ff"/>
                          </a:solidFill>
                          <a:latin typeface="Tahoma"/>
                          <a:ea typeface="Tahoma"/>
                        </a:rPr>
                        <a:t>Tabella DR6S). </a:t>
                      </a:r>
                      <a:r>
                        <a:rPr b="0" lang="it-IT" sz="900" spc="-1" strike="noStrike" u="sng">
                          <a:solidFill>
                            <a:srgbClr val="ccccff"/>
                          </a:solidFill>
                          <a:uFillTx/>
                          <a:latin typeface="Tahoma"/>
                          <a:ea typeface="Tahoma"/>
                          <a:hlinkClick r:id="rId1" action="ppaction://hlinksldjump"/>
                        </a:rPr>
                        <a:t>[1]</a:t>
                      </a:r>
                      <a:r>
                        <a:rPr b="0" lang="it-IT" sz="900" spc="-1" strike="noStrike">
                          <a:solidFill>
                            <a:srgbClr val="0000ff"/>
                          </a:solidFill>
                          <a:latin typeface="Tahoma"/>
                          <a:ea typeface="Tahoma"/>
                        </a:rPr>
                        <a:t>l</a:t>
                      </a:r>
                      <a:r>
                        <a:rPr b="0" lang="it-IT" sz="900" spc="-1" strike="noStrike">
                          <a:solidFill>
                            <a:srgbClr val="000000"/>
                          </a:solidFill>
                          <a:latin typeface="Tahoma"/>
                          <a:ea typeface="Tahoma"/>
                        </a:rPr>
                        <a:t>a categoria di appartenenza è identificata dalle prime due cifre; le tre cifre seguenti sono:</a:t>
                      </a:r>
                      <a:endParaRPr b="0" lang="en-US" sz="900" spc="-1" strike="noStrike">
                        <a:solidFill>
                          <a:srgbClr val="000000"/>
                        </a:solidFill>
                        <a:latin typeface="Times New Roman"/>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          </a:t>
                      </a:r>
                      <a:r>
                        <a:rPr b="0" lang="it-IT" sz="900" spc="-1" strike="noStrike">
                          <a:solidFill>
                            <a:srgbClr val="000000"/>
                          </a:solidFill>
                          <a:latin typeface="Tahoma"/>
                          <a:ea typeface="Tahoma"/>
                        </a:rPr>
                        <a:t>la prima per identificare se il deposito da aprire è (N)ominativo o al (P)ortatore; </a:t>
                      </a:r>
                      <a:endParaRPr b="0" lang="en-US" sz="900" spc="-1" strike="noStrike">
                        <a:solidFill>
                          <a:srgbClr val="000000"/>
                        </a:solidFill>
                        <a:latin typeface="Times New Roman"/>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          </a:t>
                      </a:r>
                      <a:r>
                        <a:rPr b="0" lang="it-IT" sz="900" spc="-1" strike="noStrike">
                          <a:solidFill>
                            <a:srgbClr val="000000"/>
                          </a:solidFill>
                          <a:latin typeface="Tahoma"/>
                          <a:ea typeface="Tahoma"/>
                        </a:rPr>
                        <a:t>le seconde 2 rappresentano la categoria di condizioni del deposito risparmio da applicare.</a:t>
                      </a:r>
                      <a:endParaRPr b="0" lang="en-US" sz="9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it-IT" sz="900" spc="-1" strike="noStrike" u="sng">
                          <a:solidFill>
                            <a:srgbClr val="ccccff"/>
                          </a:solidFill>
                          <a:uFillTx/>
                          <a:latin typeface="Tahoma"/>
                          <a:ea typeface="Tahoma"/>
                          <a:hlinkClick r:id="rId2" action="ppaction://hlinksldjump"/>
                        </a:rPr>
                        <a:t>[1]</a:t>
                      </a:r>
                      <a:r>
                        <a:rPr b="0" lang="it-IT" sz="900" spc="-1" strike="noStrike">
                          <a:solidFill>
                            <a:srgbClr val="000000"/>
                          </a:solidFill>
                          <a:latin typeface="Times New Roman"/>
                          <a:ea typeface="Times New Roman"/>
                        </a:rPr>
                        <a:t> È corretto o è un’altra tabella?</a:t>
                      </a:r>
                      <a:endParaRPr b="0" lang="en-US" sz="900" spc="-1" strike="noStrike">
                        <a:solidFill>
                          <a:srgbClr val="000000"/>
                        </a:solidFill>
                        <a:latin typeface="Times New Roman"/>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Divisa (default): </a:t>
                      </a:r>
                      <a:r>
                        <a:rPr b="0" lang="it-IT" sz="900" spc="-1" strike="noStrike">
                          <a:solidFill>
                            <a:srgbClr val="000000"/>
                          </a:solidFill>
                          <a:latin typeface="Tahoma"/>
                          <a:ea typeface="Tahoma"/>
                        </a:rPr>
                        <a:t>Divisa di tenuta del deposito a risparmio; valori ammessi: EUR (default).</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Motto (se al portatore): </a:t>
                      </a:r>
                      <a:r>
                        <a:rPr b="0" lang="it-IT" sz="900" spc="-1" strike="noStrike">
                          <a:solidFill>
                            <a:srgbClr val="000000"/>
                          </a:solidFill>
                          <a:latin typeface="Tahoma"/>
                          <a:ea typeface="Tahoma"/>
                        </a:rPr>
                        <a:t>nel caso di depositi con libretto al portatore è possibile, su richiesta del cliente, personalizzare l’intestazione del libretto inserendola in questo campo.</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Cdg Titolare (obbligatorio): </a:t>
                      </a:r>
                      <a:r>
                        <a:rPr b="0" lang="it-IT" sz="900" spc="-1" strike="noStrike">
                          <a:solidFill>
                            <a:srgbClr val="000000"/>
                          </a:solidFill>
                          <a:latin typeface="Tahoma"/>
                          <a:ea typeface="Tahoma"/>
                        </a:rPr>
                        <a:t>Codice direzione generale dell’intestatario del conto. Indica il codice identificativo dell’intestazione anagrafica. Deve prima essere stata aperta l’eventuale nuova intestazione anagrafica nella sottofase precedente.</a:t>
                      </a:r>
                      <a:r>
                        <a:rPr b="1" lang="it-IT" sz="900" spc="-1" strike="noStrike">
                          <a:solidFill>
                            <a:srgbClr val="000000"/>
                          </a:solidFill>
                          <a:latin typeface="Tahoma,Bold"/>
                          <a:ea typeface="Times New Roman"/>
                        </a:rPr>
                        <a:t> </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685800" y="152280"/>
            <a:ext cx="7772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sp>
        <p:nvSpPr>
          <p:cNvPr id="49" name=""/>
          <p:cNvSpPr/>
          <p:nvPr/>
        </p:nvSpPr>
        <p:spPr>
          <a:xfrm>
            <a:off x="1219320" y="1066680"/>
            <a:ext cx="0" cy="533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1E36EB-5280-4C4D-88EC-D6F72DE405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graphicFrame>
        <p:nvGraphicFramePr>
          <p:cNvPr id="51" name=""/>
          <p:cNvGraphicFramePr/>
          <p:nvPr/>
        </p:nvGraphicFramePr>
        <p:xfrm>
          <a:off x="304920" y="609480"/>
          <a:ext cx="8610480" cy="6019920"/>
        </p:xfrm>
        <a:graphic>
          <a:graphicData uri="http://schemas.openxmlformats.org/drawingml/2006/table">
            <a:tbl>
              <a:tblPr/>
              <a:tblGrid>
                <a:gridCol w="761760"/>
                <a:gridCol w="1981440"/>
                <a:gridCol w="838080"/>
                <a:gridCol w="2133720"/>
                <a:gridCol w="28954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VERIFICA CORRISPONDENZA DATI INSERITI E AUTORIZZATI</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peratore deve accertarsi che i dati inseriti manualmente ed in automatica siano corrispondenti a quelli autorizzati (numero di conto, tipo e sottotipo di con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Bold"/>
                          <a:ea typeface="Times New Roman"/>
                        </a:rPr>
                        <a:t>Cdg Esecutore/codice fiscale: </a:t>
                      </a:r>
                      <a:r>
                        <a:rPr b="0" lang="it-IT" sz="900" spc="-1" strike="noStrike">
                          <a:solidFill>
                            <a:srgbClr val="000000"/>
                          </a:solidFill>
                          <a:latin typeface="Tahoma"/>
                          <a:ea typeface="Tahoma"/>
                        </a:rPr>
                        <a:t>Codice direzione generale di chi materialmente effettua l’operazione di apertura, se differente dal titolare, munito di documentazione idonea a testimoniare il rapporto di delega. E’ evidente che occorre preventivamente aprire l’eventuale nuova intestazione anagrafica, qualora non esistente.</a:t>
                      </a:r>
                      <a:endParaRPr b="0" lang="en-US" sz="9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SymbolMT"/>
                          <a:ea typeface="Times New Roman"/>
                        </a:rPr>
                        <a:t>• </a:t>
                      </a:r>
                      <a:r>
                        <a:rPr b="1" lang="it-IT" sz="900" spc="-1" strike="noStrike">
                          <a:solidFill>
                            <a:srgbClr val="000000"/>
                          </a:solidFill>
                          <a:latin typeface="Tahoma"/>
                          <a:ea typeface="Tahoma"/>
                        </a:rPr>
                        <a:t>Num. Conto personalizzato</a:t>
                      </a:r>
                      <a:r>
                        <a:rPr b="0" lang="it-IT" sz="900" spc="-1" strike="noStrike">
                          <a:solidFill>
                            <a:srgbClr val="000000"/>
                          </a:solidFill>
                          <a:latin typeface="Tahoma"/>
                          <a:ea typeface="Tahoma"/>
                        </a:rPr>
                        <a:t>: il numero personalizzato, campo opzionale, può essere indicato per soddisfare le richieste di alcuni clienti e viene accettato solo se non preesistente. Normalmente il numero di conto viene assegnato automaticamente dalla procedura ed è progressivo per Filiale;</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Gli altri campi (Promotore, Identif.Prom./Luogo/Assegnato) non devono essere avvalorati. </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Dopo aver verificato l'esattezza degli elementi inseriti li conferma premendo il tasto ‘invio’. In questo modo, la procedura verifica le informazioni digitate come l’esistenza e completezza di dati dei Cdg in “Anagrafe generale”, l’esistenza del codice “Tipo e sottotipo Conto”. </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ahoma"/>
                        </a:rPr>
                        <a:t>Verificata l’esattezza dei dati inseriti l’operatore conferma la maschera con “S”, quindi, il sistema passa automaticamente ad una successiva sottofase KCPT, relativa alla transazione “DRPT -modifica delle particolarità operative deposito a risparmio”.</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55B5AC7-BB98-4589-8B86-C02B9025E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04920" y="609480"/>
          <a:ext cx="8610480" cy="6019920"/>
        </p:xfrm>
        <a:graphic>
          <a:graphicData uri="http://schemas.openxmlformats.org/drawingml/2006/table">
            <a:tbl>
              <a:tblPr/>
              <a:tblGrid>
                <a:gridCol w="761760"/>
                <a:gridCol w="1981440"/>
                <a:gridCol w="838080"/>
                <a:gridCol w="2133720"/>
                <a:gridCol w="28954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E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O FILI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TRUZION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
          <p:cNvSpPr/>
          <p:nvPr/>
        </p:nvSpPr>
        <p:spPr>
          <a:xfrm>
            <a:off x="3203640" y="152280"/>
            <a:ext cx="21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A APERTURA D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E3237BE-47A4-41DF-AFFE-E7FA651C7698}"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8:34:18Z</dcterms:created>
  <dc:creator>Fausto Vittucci</dc:creator>
  <dc:description/>
  <dc:language>en-US</dc:language>
  <cp:lastModifiedBy>M.Francesca Renzi</cp:lastModifiedBy>
  <cp:lastPrinted>2004-04-07T07:26:31Z</cp:lastPrinted>
  <dcterms:modified xsi:type="dcterms:W3CDTF">2004-11-03T09:24:17Z</dcterms:modified>
  <cp:revision>32</cp:revision>
  <dc:subject/>
  <dc:title>Presentazione di PowerPoint</dc:title>
</cp:coreProperties>
</file>