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wmf" ContentType="image/x-wmf"/>
  <Override PartName="/ppt/media/RULLIO.WAV" ContentType="audio/x-wav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1040" y="990360"/>
            <a:ext cx="74484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1040" y="3736800"/>
            <a:ext cx="74484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1040" y="990360"/>
            <a:ext cx="3634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990360"/>
            <a:ext cx="3634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1040" y="3736800"/>
            <a:ext cx="3634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7760" y="3736800"/>
            <a:ext cx="3634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1040" y="990360"/>
            <a:ext cx="23983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69600" y="990360"/>
            <a:ext cx="23983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88160" y="990360"/>
            <a:ext cx="23983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1040" y="3736800"/>
            <a:ext cx="23983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69600" y="3736800"/>
            <a:ext cx="23983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88160" y="3736800"/>
            <a:ext cx="23983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1040" y="990360"/>
            <a:ext cx="7448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1040" y="990360"/>
            <a:ext cx="7448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1040" y="990360"/>
            <a:ext cx="36345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7760" y="990360"/>
            <a:ext cx="36345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51040" y="108000"/>
            <a:ext cx="744840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1040" y="990360"/>
            <a:ext cx="3634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990360"/>
            <a:ext cx="36345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1040" y="3736800"/>
            <a:ext cx="3634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1040" y="990360"/>
            <a:ext cx="36345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990360"/>
            <a:ext cx="3634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7760" y="3736800"/>
            <a:ext cx="3634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1040" y="990360"/>
            <a:ext cx="3634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990360"/>
            <a:ext cx="36345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1040" y="3736800"/>
            <a:ext cx="74484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1040" y="990360"/>
            <a:ext cx="7448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spcBef>
                <a:spcPts val="7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276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956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11464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1146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1146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0960" y="6553080"/>
            <a:ext cx="15480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RULLIO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audio" Target="../media/RULLIO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audio" Target="../media/RULLIO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RULLIO.WAV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RULLIO.WAV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RULLIO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RULLIO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RULLIO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47760" y="5715000"/>
            <a:ext cx="781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03440" y="2746440"/>
            <a:ext cx="792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Gestione per Proces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47760" y="604800"/>
            <a:ext cx="373536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1000" y="5029200"/>
            <a:ext cx="7821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ff"/>
                </a:solidFill>
                <a:latin typeface="Times New Roman"/>
              </a:rPr>
              <a:t>Relatore: Valentina Vittucci</a:t>
            </a:r>
            <a:r>
              <a:rPr b="1" lang="it-IT" sz="1800" spc="-1" strike="noStrike">
                <a:solidFill>
                  <a:srgbClr val="66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99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PROCESSI DI SUPPORTO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03440" y="137160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90000"/>
              </a:lnSpc>
              <a:spcBef>
                <a:spcPts val="774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ff00"/>
                </a:solidFill>
                <a:latin typeface="Times New Roman"/>
              </a:rPr>
              <a:t>Esempi :</a:t>
            </a:r>
            <a:endParaRPr b="1" lang="en-US" sz="31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560" y="2057400"/>
            <a:ext cx="3797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71680" indent="-381240">
              <a:lnSpc>
                <a:spcPts val="2699"/>
              </a:lnSpc>
              <a:spcBef>
                <a:spcPts val="550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News Serif"/>
              </a:rPr>
              <a:t>Gestire i materi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ts val="2699"/>
              </a:lnSpc>
              <a:spcBef>
                <a:spcPts val="550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News Serif"/>
              </a:rPr>
              <a:t>Programm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ts val="2699"/>
              </a:lnSpc>
              <a:spcBef>
                <a:spcPts val="550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News Serif"/>
              </a:rPr>
              <a:t>Manutenere gli impian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ts val="2699"/>
              </a:lnSpc>
              <a:spcBef>
                <a:spcPts val="550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News Serif"/>
              </a:rPr>
              <a:t>Controllare la qualit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ts val="2699"/>
              </a:lnSpc>
              <a:spcBef>
                <a:spcPts val="550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News Serif"/>
              </a:rPr>
              <a:t>Controllare la produttivit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ts val="2699"/>
              </a:lnSpc>
              <a:spcBef>
                <a:spcPts val="550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News Serif"/>
              </a:rPr>
              <a:t>Pianificare le strateg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ts val="2699"/>
              </a:lnSpc>
              <a:spcBef>
                <a:spcPts val="550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News Serif"/>
              </a:rPr>
              <a:t>Predisporre il Budg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02160" y="2133720"/>
            <a:ext cx="4290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71680" indent="-381240">
              <a:lnSpc>
                <a:spcPts val="2699"/>
              </a:lnSpc>
              <a:spcBef>
                <a:spcPts val="550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News Serif"/>
              </a:rPr>
              <a:t>Effettuare il Controllo di gestione/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News Serif"/>
              </a:rPr>
              <a:t>contabilità industri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ts val="2699"/>
              </a:lnSpc>
              <a:spcBef>
                <a:spcPts val="550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News Serif"/>
              </a:rPr>
              <a:t>Gestire "Sicurezza e ambiente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ts val="2699"/>
              </a:lnSpc>
              <a:spcBef>
                <a:spcPts val="550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News Serif"/>
              </a:rPr>
              <a:t>Gestire gli aspetti finanzi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ts val="2699"/>
              </a:lnSpc>
              <a:spcBef>
                <a:spcPts val="550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News Serif"/>
              </a:rPr>
              <a:t>Gestire le risorse uma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ts val="2699"/>
              </a:lnSpc>
              <a:spcBef>
                <a:spcPts val="550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News Serif"/>
              </a:rPr>
              <a:t>Sviluppare le risorse uma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ts val="2699"/>
              </a:lnSpc>
              <a:spcBef>
                <a:spcPts val="550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News Serif"/>
              </a:rPr>
              <a:t>Gestire gli investimen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1" name="RULLIO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90480" y="533520"/>
          <a:ext cx="7694640" cy="5771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533520"/>
                    <a:ext cx="769464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  <p:sndAc>
      <p:stSnd>
        <p:snd r:embed="rId3" name="RULLIO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89040" y="533520"/>
          <a:ext cx="7696080" cy="5771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533520"/>
                    <a:ext cx="76960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  <p:sndAc>
      <p:stSnd>
        <p:snd r:embed="rId3" name="RULLIO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71400" y="528480"/>
            <a:ext cx="181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3960" y="523800"/>
            <a:ext cx="756360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I PROCESSI POSSONO ESSERE </a:t>
            </a:r>
            <a:r>
              <a:rPr b="1" lang="en-US" sz="2400" spc="-1" strike="noStrike" u="sng">
                <a:solidFill>
                  <a:srgbClr val="66ccff"/>
                </a:solidFill>
                <a:uFillTx/>
                <a:latin typeface="Arial"/>
              </a:rPr>
              <a:t>MIGLIORATI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- AUMENTARE LE PREST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- RIDURRE LE INEFFICI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3560" y="761760"/>
            <a:ext cx="82994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DUE STRATEGIE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51040" y="2057400"/>
            <a:ext cx="8292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639720" indent="-457200"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MIGLIORAMENTO INCREMENTALE</a:t>
            </a:r>
            <a:br>
              <a:rPr sz="2400"/>
            </a:b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DELLE PRESTAZIONI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GESTIONE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ER PROCESSI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639720" indent="-457200"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MIGLIORAMENTO DRASTICO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BUSINESS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         PROCESS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         REENGINEERING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11720" y="3397320"/>
            <a:ext cx="762120" cy="368280"/>
          </a:xfrm>
          <a:prstGeom prst="rightArrow">
            <a:avLst>
              <a:gd name="adj1" fmla="val 50000"/>
              <a:gd name="adj2" fmla="val 103499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11720" y="4730760"/>
            <a:ext cx="762120" cy="368280"/>
          </a:xfrm>
          <a:prstGeom prst="rightArrow">
            <a:avLst>
              <a:gd name="adj1" fmla="val 50000"/>
              <a:gd name="adj2" fmla="val 103499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4267080"/>
            <a:ext cx="2438640" cy="1067040"/>
          </a:xfrm>
          <a:prstGeom prst="ellipse">
            <a:avLst/>
          </a:prstGeom>
          <a:solidFill>
            <a:srgbClr val="618ff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4343400"/>
            <a:ext cx="2438640" cy="1066680"/>
          </a:xfrm>
          <a:prstGeom prst="ellipse">
            <a:avLst/>
          </a:prstGeom>
          <a:solidFill>
            <a:srgbClr val="618ff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STIONE P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1143000"/>
            <a:ext cx="2438280" cy="1066680"/>
          </a:xfrm>
          <a:prstGeom prst="ellipse">
            <a:avLst/>
          </a:prstGeom>
          <a:solidFill>
            <a:srgbClr val="ff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 PRIMA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SECOND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03800">
            <a:off x="2057040" y="2209680"/>
            <a:ext cx="609480" cy="1676520"/>
          </a:xfrm>
          <a:prstGeom prst="downArrow">
            <a:avLst>
              <a:gd name="adj1" fmla="val 50000"/>
              <a:gd name="adj2" fmla="val 68768"/>
            </a:avLst>
          </a:prstGeom>
          <a:solidFill>
            <a:srgbClr val="618ff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3"/>
                </a:solidFill>
                <a:latin typeface="Arial"/>
              </a:rPr>
              <a:t>PRIORIT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007000">
            <a:off x="5410080" y="2361960"/>
            <a:ext cx="609840" cy="167616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618ff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3"/>
                </a:solidFill>
                <a:latin typeface="Arial"/>
              </a:rPr>
              <a:t>SECOND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4419720"/>
            <a:ext cx="2133360" cy="1066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3f68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PO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PROGET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ff"/>
                </a:solidFill>
                <a:latin typeface="Arial"/>
              </a:rPr>
              <a:t>QUANDO SCEGLIERE L’APPROCCIO “GESTIONE PER PROCESSI”</a:t>
            </a:r>
            <a:endParaRPr b="1" lang="en-US" sz="2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51040" y="990360"/>
            <a:ext cx="7448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57160" indent="-476280">
              <a:spcBef>
                <a:spcPts val="524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</a:rPr>
              <a:t>PROCESSI CHE NON UTILIZZANO MOLTO TEMPO O DENARO</a:t>
            </a:r>
            <a:br>
              <a:rPr sz="2100"/>
            </a:br>
            <a:r>
              <a:rPr b="1" lang="en-US" sz="21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21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spcBef>
                <a:spcPts val="524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</a:rPr>
              <a:t>NUOVI PROCESSI CHE NON FUNZIONANO COME CI SI ASPETTAVA</a:t>
            </a:r>
            <a:br>
              <a:rPr sz="2100"/>
            </a:br>
            <a:r>
              <a:rPr b="1" lang="en-US" sz="21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21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spcBef>
                <a:spcPts val="524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</a:rPr>
              <a:t>E’ RICHIESTO UN MIGLIORAMENTO TRANSITORIO, IN ATTESA CHE SI AVVII IL NUOVO PROCESSO</a:t>
            </a:r>
            <a:br>
              <a:rPr sz="2100"/>
            </a:br>
            <a:r>
              <a:rPr b="1" lang="en-US" sz="21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21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spcBef>
                <a:spcPts val="524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</a:rPr>
              <a:t>IL PROCESSO FUNZIONA BENE, TRANNE LA PRESENZA DI RICICLI INTERNI E RIDONDANZE</a:t>
            </a:r>
            <a:br>
              <a:rPr sz="2100"/>
            </a:br>
            <a:r>
              <a:rPr b="1" lang="en-US" sz="21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21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spcBef>
                <a:spcPts val="524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</a:rPr>
              <a:t>OCCORRE AVERE RISULTATI IMMEDIATI, ANCHE SE LIMITATI</a:t>
            </a:r>
            <a:endParaRPr b="1" lang="en-US" sz="21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3560" y="-36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QUANDO SCEGLIERE L’APPROCCIO BUSINESS PROCESS REENGINEERING (BPR)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3400" y="1371600"/>
            <a:ext cx="82267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57160" indent="-476280">
              <a:lnSpc>
                <a:spcPts val="2200"/>
              </a:lnSpc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 CLIENTI (esterni) SONO SCONTENTI IN TERMINI DI TEMPI, COSTI, QUALITA’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lnSpc>
                <a:spcPts val="2200"/>
              </a:lnSpc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L PROCESSO E’ TROPPO LENTO ED OCCORRE MIGLIORARLO DI 10 VOLTE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lnSpc>
                <a:spcPts val="2200"/>
              </a:lnSpc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L PROCESSO ATTRAVERSA UN GRAN NUMERO DI FUNZIONI E COINVOLGE MOLTE PERSONE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lnSpc>
                <a:spcPts val="2200"/>
              </a:lnSpc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L PROCESSO E’ VECCHIO ED E’ STATO AUTOMATIZZATO SENZA ESSERE SEMPLIFICATO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lnSpc>
                <a:spcPts val="2200"/>
              </a:lnSpc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L FATTURATO E’ MOLTO CRESCIUTO ED IL VECCHIO PROCESSO E’ INADEGUATO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560" y="685440"/>
            <a:ext cx="829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APPROCCIO PER PROCESSI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987560"/>
            <a:ext cx="2660760" cy="673200"/>
          </a:xfrm>
          <a:prstGeom prst="rect">
            <a:avLst/>
          </a:prstGeom>
          <a:solidFill>
            <a:srgbClr val="f5fc6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ns"/>
              </a:rPr>
              <a:t>BUSINESS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ns"/>
              </a:rPr>
              <a:t>REENGIN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1987560"/>
            <a:ext cx="2660760" cy="673200"/>
          </a:xfrm>
          <a:prstGeom prst="rect">
            <a:avLst/>
          </a:prstGeom>
          <a:solidFill>
            <a:srgbClr val="f5fc6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ns"/>
              </a:rPr>
              <a:t>GESTIONE PER PROCES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1987560"/>
            <a:ext cx="2663640" cy="673200"/>
          </a:xfrm>
          <a:prstGeom prst="rect">
            <a:avLst/>
          </a:prstGeom>
          <a:solidFill>
            <a:srgbClr val="f5fc6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ns"/>
              </a:rPr>
              <a:t>DAILY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ans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rot="16200000">
            <a:off x="1314360" y="2931840"/>
            <a:ext cx="749160" cy="689040"/>
          </a:xfrm>
          <a:prstGeom prst="rightArrow">
            <a:avLst>
              <a:gd name="adj1" fmla="val 50000"/>
              <a:gd name="adj2" fmla="val 54378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rot="16200000">
            <a:off x="4197960" y="2930400"/>
            <a:ext cx="749160" cy="692280"/>
          </a:xfrm>
          <a:prstGeom prst="rightArrow">
            <a:avLst>
              <a:gd name="adj1" fmla="val 50000"/>
              <a:gd name="adj2" fmla="val 54123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rot="16200000">
            <a:off x="6871320" y="2930400"/>
            <a:ext cx="749160" cy="692280"/>
          </a:xfrm>
          <a:prstGeom prst="rightArrow">
            <a:avLst>
              <a:gd name="adj1" fmla="val 50000"/>
              <a:gd name="adj2" fmla="val 54123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8720" y="3957480"/>
            <a:ext cx="240048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20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5fc62"/>
                </a:solidFill>
                <a:latin typeface="Times New Roman"/>
              </a:rPr>
              <a:t>RIPROGETTARE L’ORGANIZZAZIONE PER PROCES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13240" y="3957480"/>
            <a:ext cx="240012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20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5fc62"/>
                </a:solidFill>
                <a:latin typeface="Times New Roman"/>
              </a:rPr>
              <a:t>GESTIRE E MIGLIORARE PER PROCES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4960" y="3957480"/>
            <a:ext cx="240048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23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5fc62"/>
                </a:solidFill>
                <a:latin typeface="Times New Roman"/>
              </a:rPr>
              <a:t>MIGLIORARE CONTINUAMENTE LUNGO I PROCESSI (catene fornitori-client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3560" y="151920"/>
            <a:ext cx="829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GESTIONE PER PROCESSI  </a:t>
            </a:r>
            <a:br>
              <a:rPr sz="3200"/>
            </a:b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FASI DI LAVORO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3360" y="2273400"/>
            <a:ext cx="1377720" cy="2082600"/>
          </a:xfrm>
          <a:prstGeom prst="rightArrow">
            <a:avLst>
              <a:gd name="adj1" fmla="val 75000"/>
              <a:gd name="adj2" fmla="val 50042"/>
            </a:avLst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3560" y="2273400"/>
            <a:ext cx="1377720" cy="2082600"/>
          </a:xfrm>
          <a:prstGeom prst="rightArrow">
            <a:avLst>
              <a:gd name="adj1" fmla="val 75000"/>
              <a:gd name="adj2" fmla="val 50042"/>
            </a:avLst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7800" y="3168720"/>
            <a:ext cx="1309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ff3"/>
                </a:solidFill>
                <a:latin typeface="Sans"/>
              </a:rPr>
              <a:t>IMPOS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16880" y="3168720"/>
            <a:ext cx="737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ff3"/>
                </a:solidFill>
                <a:latin typeface="Sans"/>
              </a:rPr>
              <a:t>FLU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51200" y="2273400"/>
            <a:ext cx="1378080" cy="2082600"/>
          </a:xfrm>
          <a:prstGeom prst="rightArrow">
            <a:avLst>
              <a:gd name="adj1" fmla="val 75000"/>
              <a:gd name="adj2" fmla="val 50042"/>
            </a:avLst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19240" y="2968560"/>
            <a:ext cx="1242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ff3"/>
                </a:solidFill>
                <a:latin typeface="Sans"/>
              </a:rPr>
              <a:t>VALUTAZ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ff3"/>
                </a:solidFill>
                <a:latin typeface="Sans"/>
              </a:rPr>
              <a:t>SOT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ff3"/>
                </a:solidFill>
                <a:latin typeface="Sans"/>
              </a:rPr>
              <a:t>PROCESSI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73880" y="3825720"/>
            <a:ext cx="1376280" cy="2082960"/>
          </a:xfrm>
          <a:prstGeom prst="rightArrow">
            <a:avLst>
              <a:gd name="adj1" fmla="val 75000"/>
              <a:gd name="adj2" fmla="val 50042"/>
            </a:avLst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5400" y="3435480"/>
            <a:ext cx="1377720" cy="2082600"/>
          </a:xfrm>
          <a:prstGeom prst="rightArrow">
            <a:avLst>
              <a:gd name="adj1" fmla="val 75000"/>
              <a:gd name="adj2" fmla="val 50042"/>
            </a:avLst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18360" y="3044880"/>
            <a:ext cx="1377720" cy="2082600"/>
          </a:xfrm>
          <a:prstGeom prst="rightArrow">
            <a:avLst>
              <a:gd name="adj1" fmla="val 75000"/>
              <a:gd name="adj2" fmla="val 50042"/>
            </a:avLst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08600" y="2644920"/>
            <a:ext cx="1378080" cy="2082600"/>
          </a:xfrm>
          <a:prstGeom prst="rightArrow">
            <a:avLst>
              <a:gd name="adj1" fmla="val 75000"/>
              <a:gd name="adj2" fmla="val 50042"/>
            </a:avLst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16480" y="2273400"/>
            <a:ext cx="1376280" cy="2082600"/>
          </a:xfrm>
          <a:prstGeom prst="rightArrow">
            <a:avLst>
              <a:gd name="adj1" fmla="val 75000"/>
              <a:gd name="adj2" fmla="val 50042"/>
            </a:avLst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22240" y="3063960"/>
            <a:ext cx="10454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ff3"/>
                </a:solidFill>
                <a:latin typeface="Sans"/>
              </a:rPr>
              <a:t>SC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ff3"/>
                </a:solidFill>
                <a:latin typeface="Sans"/>
              </a:rPr>
              <a:t>DELL’INTER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ff3"/>
                </a:solidFill>
                <a:latin typeface="Sans"/>
              </a:rPr>
              <a:t>V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8240000">
            <a:off x="6268680" y="3694320"/>
            <a:ext cx="981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efff3"/>
                </a:solidFill>
                <a:latin typeface="Sans"/>
              </a:rPr>
              <a:t>RIPROGETTA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efff3"/>
                </a:solidFill>
                <a:latin typeface="Sans"/>
              </a:rPr>
              <a:t>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8240000">
            <a:off x="6601320" y="4101120"/>
            <a:ext cx="12466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efff3"/>
                </a:solidFill>
                <a:latin typeface="Sans"/>
              </a:rPr>
              <a:t>MIGLIORA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efff3"/>
                </a:solidFill>
                <a:latin typeface="Sans"/>
              </a:rPr>
              <a:t>BREAKTHROU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8240000">
            <a:off x="7120440" y="4491720"/>
            <a:ext cx="12466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efff3"/>
                </a:solidFill>
                <a:latin typeface="Sans"/>
              </a:rPr>
              <a:t>MIGLIORA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efff3"/>
                </a:solidFill>
                <a:latin typeface="Sans"/>
              </a:rPr>
              <a:t>CONTINU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8240000">
            <a:off x="7602120" y="5021640"/>
            <a:ext cx="120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efff3"/>
                </a:solidFill>
                <a:latin typeface="Sans"/>
              </a:rPr>
              <a:t>MANTENI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55680" y="669960"/>
            <a:ext cx="87883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radizionalmente le “gestioni” e i “miglioramenti” sono stati impostati “per funzioni”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701000" y="2209680"/>
            <a:ext cx="5821200" cy="1626120"/>
            <a:chOff x="1701000" y="2209680"/>
            <a:chExt cx="5821200" cy="1626120"/>
          </a:xfrm>
        </p:grpSpPr>
        <p:sp>
          <p:nvSpPr>
            <p:cNvPr id="45" name=""/>
            <p:cNvSpPr/>
            <p:nvPr/>
          </p:nvSpPr>
          <p:spPr>
            <a:xfrm>
              <a:off x="3729960" y="2209680"/>
              <a:ext cx="1755720" cy="812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1701000" y="3022560"/>
              <a:ext cx="5821200" cy="813240"/>
              <a:chOff x="1701000" y="3022560"/>
              <a:chExt cx="5821200" cy="813240"/>
            </a:xfrm>
          </p:grpSpPr>
          <p:cxnSp>
            <p:nvCxnSpPr>
              <p:cNvPr id="47" name=""/>
              <p:cNvCxnSpPr>
                <a:stCxn id="45" idx="2"/>
              </p:cNvCxnSpPr>
              <p:nvPr/>
            </p:nvCxnSpPr>
            <p:spPr>
              <a:xfrm rot="5400000">
                <a:off x="2747520" y="1975680"/>
                <a:ext cx="813600" cy="2907000"/>
              </a:xfrm>
              <a:prstGeom prst="bentConnector3">
                <a:avLst>
                  <a:gd name="adj1" fmla="val 49977"/>
                </a:avLst>
              </a:prstGeom>
              <a:ln w="101520">
                <a:solidFill>
                  <a:srgbClr val="ff9900"/>
                </a:solidFill>
                <a:miter/>
              </a:ln>
            </p:spPr>
          </p:cxnSp>
          <p:cxnSp>
            <p:nvCxnSpPr>
              <p:cNvPr id="48" name=""/>
              <p:cNvCxnSpPr>
                <a:stCxn id="45" idx="2"/>
              </p:cNvCxnSpPr>
              <p:nvPr/>
            </p:nvCxnSpPr>
            <p:spPr>
              <a:xfrm flipH="1" rot="16200000">
                <a:off x="5658120" y="1971360"/>
                <a:ext cx="813600" cy="2915640"/>
              </a:xfrm>
              <a:prstGeom prst="bentConnector3">
                <a:avLst>
                  <a:gd name="adj1" fmla="val 49977"/>
                </a:avLst>
              </a:prstGeom>
              <a:ln w="101520">
                <a:solidFill>
                  <a:srgbClr val="ff9900"/>
                </a:solidFill>
                <a:miter/>
              </a:ln>
            </p:spPr>
          </p:cxnSp>
          <p:cxnSp>
            <p:nvCxnSpPr>
              <p:cNvPr id="49" name=""/>
              <p:cNvCxnSpPr>
                <a:stCxn id="45" idx="2"/>
              </p:cNvCxnSpPr>
              <p:nvPr/>
            </p:nvCxnSpPr>
            <p:spPr>
              <a:xfrm rot="5400000">
                <a:off x="4198320" y="3426840"/>
                <a:ext cx="813600" cy="5040"/>
              </a:xfrm>
              <a:prstGeom prst="bentConnector3">
                <a:avLst>
                  <a:gd name="adj1" fmla="val 49977"/>
                </a:avLst>
              </a:prstGeom>
              <a:ln w="101520">
                <a:solidFill>
                  <a:srgbClr val="ff9900"/>
                </a:solidFill>
                <a:miter/>
              </a:ln>
            </p:spPr>
          </p:cxnSp>
        </p:grpSp>
      </p:grpSp>
      <p:grpSp>
        <p:nvGrpSpPr>
          <p:cNvPr id="50" name=""/>
          <p:cNvGrpSpPr/>
          <p:nvPr/>
        </p:nvGrpSpPr>
        <p:grpSpPr>
          <a:xfrm>
            <a:off x="345240" y="3606840"/>
            <a:ext cx="8404560" cy="2463840"/>
            <a:chOff x="345240" y="3606840"/>
            <a:chExt cx="8404560" cy="2463840"/>
          </a:xfrm>
        </p:grpSpPr>
        <p:grpSp>
          <p:nvGrpSpPr>
            <p:cNvPr id="51" name=""/>
            <p:cNvGrpSpPr/>
            <p:nvPr/>
          </p:nvGrpSpPr>
          <p:grpSpPr>
            <a:xfrm>
              <a:off x="6194880" y="3606840"/>
              <a:ext cx="2554920" cy="2463840"/>
              <a:chOff x="6194880" y="3606840"/>
              <a:chExt cx="2554920" cy="2463840"/>
            </a:xfrm>
          </p:grpSpPr>
          <p:sp>
            <p:nvSpPr>
              <p:cNvPr id="52" name=""/>
              <p:cNvSpPr/>
              <p:nvPr/>
            </p:nvSpPr>
            <p:spPr>
              <a:xfrm>
                <a:off x="6194880" y="3606840"/>
                <a:ext cx="2554920" cy="2463840"/>
              </a:xfrm>
              <a:prstGeom prst="roundRect">
                <a:avLst>
                  <a:gd name="adj" fmla="val 12477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708320" y="5203800"/>
                <a:ext cx="909360" cy="5428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53280" y="5203800"/>
                <a:ext cx="909360" cy="5428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5" name=""/>
              <p:cNvCxnSpPr>
                <a:endCxn id="54" idx="0"/>
              </p:cNvCxnSpPr>
              <p:nvPr/>
            </p:nvCxnSpPr>
            <p:spPr>
              <a:xfrm rot="5400000">
                <a:off x="6752160" y="4434120"/>
                <a:ext cx="826200" cy="714240"/>
              </a:xfrm>
              <a:prstGeom prst="bentConnector3">
                <a:avLst>
                  <a:gd name="adj1" fmla="val 50000"/>
                </a:avLst>
              </a:prstGeom>
              <a:ln w="101520">
                <a:solidFill>
                  <a:srgbClr val="ff9900"/>
                </a:solidFill>
                <a:miter/>
              </a:ln>
            </p:spPr>
          </p:cxnSp>
          <p:cxnSp>
            <p:nvCxnSpPr>
              <p:cNvPr id="56" name=""/>
              <p:cNvCxnSpPr>
                <a:endCxn id="53" idx="0"/>
              </p:cNvCxnSpPr>
              <p:nvPr/>
            </p:nvCxnSpPr>
            <p:spPr>
              <a:xfrm flipH="1" rot="16200000">
                <a:off x="7428960" y="4470120"/>
                <a:ext cx="826200" cy="641880"/>
              </a:xfrm>
              <a:prstGeom prst="bentConnector3">
                <a:avLst>
                  <a:gd name="adj1" fmla="val 50000"/>
                </a:avLst>
              </a:prstGeom>
              <a:ln w="101520">
                <a:solidFill>
                  <a:srgbClr val="ff9900"/>
                </a:solidFill>
                <a:miter/>
              </a:ln>
            </p:spPr>
          </p:cxnSp>
        </p:grpSp>
        <p:sp>
          <p:nvSpPr>
            <p:cNvPr id="57" name=""/>
            <p:cNvSpPr/>
            <p:nvPr/>
          </p:nvSpPr>
          <p:spPr>
            <a:xfrm>
              <a:off x="3294000" y="3606840"/>
              <a:ext cx="2554920" cy="2463840"/>
            </a:xfrm>
            <a:prstGeom prst="roundRect">
              <a:avLst>
                <a:gd name="adj" fmla="val 12477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9800" y="5203800"/>
              <a:ext cx="909720" cy="542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34760" y="5203800"/>
              <a:ext cx="909720" cy="542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endCxn id="59" idx="0"/>
            </p:cNvCxnSpPr>
            <p:nvPr/>
          </p:nvCxnSpPr>
          <p:spPr>
            <a:xfrm rot="5400000">
              <a:off x="3833640" y="4434120"/>
              <a:ext cx="826200" cy="713880"/>
            </a:xfrm>
            <a:prstGeom prst="bentConnector3">
              <a:avLst>
                <a:gd name="adj1" fmla="val 50000"/>
              </a:avLst>
            </a:prstGeom>
            <a:ln w="101520">
              <a:solidFill>
                <a:srgbClr val="ff9900"/>
              </a:solidFill>
              <a:miter/>
            </a:ln>
          </p:spPr>
        </p:cxnSp>
        <p:cxnSp>
          <p:nvCxnSpPr>
            <p:cNvPr id="61" name=""/>
            <p:cNvCxnSpPr>
              <a:endCxn id="58" idx="0"/>
            </p:cNvCxnSpPr>
            <p:nvPr/>
          </p:nvCxnSpPr>
          <p:spPr>
            <a:xfrm flipH="1" rot="16200000">
              <a:off x="4511520" y="4469760"/>
              <a:ext cx="826200" cy="642240"/>
            </a:xfrm>
            <a:prstGeom prst="bentConnector3">
              <a:avLst>
                <a:gd name="adj1" fmla="val 50000"/>
              </a:avLst>
            </a:prstGeom>
            <a:ln w="101520">
              <a:solidFill>
                <a:srgbClr val="ff9900"/>
              </a:solidFill>
              <a:miter/>
            </a:ln>
          </p:spPr>
        </p:cxnSp>
        <p:sp>
          <p:nvSpPr>
            <p:cNvPr id="62" name=""/>
            <p:cNvSpPr/>
            <p:nvPr/>
          </p:nvSpPr>
          <p:spPr>
            <a:xfrm>
              <a:off x="411120" y="3606840"/>
              <a:ext cx="2554560" cy="2463840"/>
            </a:xfrm>
            <a:prstGeom prst="roundRect">
              <a:avLst>
                <a:gd name="adj" fmla="val 12477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88920" y="5203800"/>
              <a:ext cx="909720" cy="542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880" y="5203800"/>
              <a:ext cx="909720" cy="542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"/>
            <p:cNvCxnSpPr>
              <a:endCxn id="64" idx="0"/>
            </p:cNvCxnSpPr>
            <p:nvPr/>
          </p:nvCxnSpPr>
          <p:spPr>
            <a:xfrm rot="5400000">
              <a:off x="949680" y="4417200"/>
              <a:ext cx="826200" cy="747720"/>
            </a:xfrm>
            <a:prstGeom prst="bentConnector3">
              <a:avLst>
                <a:gd name="adj1" fmla="val 50000"/>
              </a:avLst>
            </a:prstGeom>
            <a:ln w="101520">
              <a:solidFill>
                <a:srgbClr val="ff9900"/>
              </a:solidFill>
              <a:miter/>
            </a:ln>
          </p:spPr>
        </p:cxnSp>
        <p:cxnSp>
          <p:nvCxnSpPr>
            <p:cNvPr id="66" name=""/>
            <p:cNvCxnSpPr>
              <a:endCxn id="63" idx="0"/>
            </p:cNvCxnSpPr>
            <p:nvPr/>
          </p:nvCxnSpPr>
          <p:spPr>
            <a:xfrm flipH="1" rot="16200000">
              <a:off x="1627920" y="4486680"/>
              <a:ext cx="826200" cy="608400"/>
            </a:xfrm>
            <a:prstGeom prst="bentConnector3">
              <a:avLst>
                <a:gd name="adj1" fmla="val 50000"/>
              </a:avLst>
            </a:prstGeom>
            <a:ln w="101520">
              <a:solidFill>
                <a:srgbClr val="ff9900"/>
              </a:solidFill>
              <a:miter/>
            </a:ln>
          </p:spPr>
        </p:cxnSp>
        <p:sp>
          <p:nvSpPr>
            <p:cNvPr id="67" name=""/>
            <p:cNvSpPr/>
            <p:nvPr/>
          </p:nvSpPr>
          <p:spPr>
            <a:xfrm>
              <a:off x="3632760" y="3835440"/>
              <a:ext cx="1913040" cy="542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rollo di gest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480" y="3835440"/>
              <a:ext cx="2083320" cy="542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munic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45240" y="3835440"/>
              <a:ext cx="2340360" cy="542880"/>
              <a:chOff x="345240" y="3835440"/>
              <a:chExt cx="2340360" cy="542880"/>
            </a:xfrm>
          </p:grpSpPr>
          <p:sp>
            <p:nvSpPr>
              <p:cNvPr id="70" name=""/>
              <p:cNvSpPr/>
              <p:nvPr/>
            </p:nvSpPr>
            <p:spPr>
              <a:xfrm>
                <a:off x="743400" y="3835440"/>
                <a:ext cx="1942200" cy="5428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45240" y="3943440"/>
                <a:ext cx="181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cquist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STAZIONE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51040" y="990720"/>
            <a:ext cx="7448400" cy="50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831240" indent="-461880">
              <a:lnSpc>
                <a:spcPts val="3898"/>
              </a:lnSpc>
              <a:spcBef>
                <a:spcPts val="700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SSEGNARE LA RESPONSABILITÀ  DEL PROCESSO (Process owner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31240" indent="-461880">
              <a:lnSpc>
                <a:spcPts val="3898"/>
              </a:lnSpc>
              <a:spcBef>
                <a:spcPts val="700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EFINIRE LO SCOPO  (mission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31240" indent="-461880">
              <a:lnSpc>
                <a:spcPts val="3898"/>
              </a:lnSpc>
              <a:spcBef>
                <a:spcPts val="700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ABILIRE I CONFINI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31240" indent="-461880">
              <a:lnSpc>
                <a:spcPts val="3898"/>
              </a:lnSpc>
              <a:spcBef>
                <a:spcPts val="700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INDIVIDUARE FORNITORI ED INPUT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31240" indent="-461880">
              <a:lnSpc>
                <a:spcPts val="3898"/>
              </a:lnSpc>
              <a:spcBef>
                <a:spcPts val="700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INDIVIDUARE CLIENTI ED OUTPUT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31240" indent="-461880">
              <a:lnSpc>
                <a:spcPts val="3898"/>
              </a:lnSpc>
              <a:spcBef>
                <a:spcPts val="700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INDIVIDUARE I BISOGNI DEI CLIENTI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31240" indent="-461880">
              <a:lnSpc>
                <a:spcPts val="3898"/>
              </a:lnSpc>
              <a:spcBef>
                <a:spcPts val="700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EFINIRE GLI INDICATORI DI PRESTAZION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3560" y="0"/>
            <a:ext cx="82994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IL PROCESS OWNER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3040" y="685440"/>
            <a:ext cx="82249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ts val="33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lnSpc>
                <a:spcPts val="33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Times New Roman"/>
              </a:rPr>
              <a:t>RESPONSABILITA’/CAMPO D’AZIONE: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’ IL GESTORE DEL PROCESSO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22600" indent="-457200">
              <a:lnSpc>
                <a:spcPts val="3399"/>
              </a:lnSpc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’ RESPONSABILE DEL RAGGIUNGIMENTO DEGLI OBIETTIVI, NORMALMENTE DEFINITI DAI LIVELLI SUPERIORI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22600" indent="-457200">
              <a:lnSpc>
                <a:spcPts val="3399"/>
              </a:lnSpc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NTRA UN TUTTE LE FASI DEL PROCESSO, PER EVIDENZIARE I COLLI DI BOTTIGLIA E INDIVIDUARE I PROBLEMI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22600" indent="-457200">
              <a:lnSpc>
                <a:spcPts val="3399"/>
              </a:lnSpc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ONCORDA LE AZIONI DI MIGLIORAMENTO CON I RESPONSABILI FUNZIONALI (corresponsabilità)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3560" y="380520"/>
            <a:ext cx="829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ESEMPIO DI MISSIONE DEL PROCESSO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ts val="4198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Times New Roman"/>
              </a:rPr>
              <a:t>SCOPO DEL PROCESSO </a:t>
            </a:r>
            <a:r>
              <a:rPr b="0" i="1" lang="en-US" sz="3100" spc="-1" strike="noStrike">
                <a:solidFill>
                  <a:srgbClr val="fafd00"/>
                </a:solidFill>
                <a:latin typeface="Times New Roman"/>
              </a:rPr>
              <a:t>"GESTIONE DEI RECLAMI SUL PRODOTTO"</a:t>
            </a:r>
            <a:r>
              <a:rPr b="0" lang="en-US" sz="31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fafd00"/>
                </a:solidFill>
                <a:latin typeface="Times New Roman"/>
              </a:rPr>
              <a:t>E‘</a:t>
            </a:r>
            <a:endParaRPr b="1" lang="en-US" sz="31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lnSpc>
                <a:spcPts val="4198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Times New Roman"/>
              </a:rPr>
              <a:t>RISOLVERE TEMPESTIVAMENTE I RECLAMI DEI CONSUMATORI </a:t>
            </a:r>
            <a:r>
              <a:rPr b="0" lang="en-US" sz="3100" spc="-1" strike="noStrike">
                <a:solidFill>
                  <a:srgbClr val="fafd00"/>
                </a:solidFill>
                <a:latin typeface="Times New Roman"/>
              </a:rPr>
              <a:t>(clienti esterni)</a:t>
            </a:r>
            <a:r>
              <a:rPr b="1" lang="en-US" sz="3100" spc="-1" strike="noStrike">
                <a:solidFill>
                  <a:srgbClr val="fafd00"/>
                </a:solidFill>
                <a:latin typeface="Times New Roman"/>
              </a:rPr>
              <a:t>, </a:t>
            </a:r>
            <a:endParaRPr b="1" lang="en-US" sz="31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lnSpc>
                <a:spcPts val="4198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Times New Roman"/>
              </a:rPr>
              <a:t>MINIMIZZARE I COSTI</a:t>
            </a:r>
            <a:r>
              <a:rPr b="0" lang="en-US" sz="3100" spc="-1" strike="noStrike">
                <a:solidFill>
                  <a:srgbClr val="fafd00"/>
                </a:solidFill>
                <a:latin typeface="Times New Roman"/>
              </a:rPr>
              <a:t> (per l'organizzazione)</a:t>
            </a:r>
            <a:r>
              <a:rPr b="1" lang="en-US" sz="3100" spc="-1" strike="noStrike">
                <a:solidFill>
                  <a:srgbClr val="fafd00"/>
                </a:solidFill>
                <a:latin typeface="Times New Roman"/>
              </a:rPr>
              <a:t>, FORNIRE LE INFORMAZIONI SUI GUASTI AL PRODOTTO </a:t>
            </a:r>
            <a:r>
              <a:rPr b="0" lang="en-US" sz="3100" spc="-1" strike="noStrike">
                <a:solidFill>
                  <a:srgbClr val="fafd00"/>
                </a:solidFill>
                <a:latin typeface="Times New Roman"/>
              </a:rPr>
              <a:t>(per il settore tecnico).</a:t>
            </a:r>
            <a:endParaRPr b="1" lang="en-US" sz="31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3560" y="837720"/>
            <a:ext cx="829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ffff"/>
                </a:solidFill>
                <a:latin typeface="Arial"/>
              </a:rPr>
              <a:t>DEFINIRE LO SCOPO (Mission)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51040" y="1769760"/>
            <a:ext cx="7448400" cy="272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afd00"/>
                </a:solidFill>
                <a:latin typeface="Times New Roman"/>
              </a:rPr>
              <a:t>DESCRIVERE IN MODO SINTETICO LA “MISSION” DEL PROCESSO (perchè il processo esiste, dal punto di vista dei clienti e dell’organizzazione)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3560" y="990360"/>
            <a:ext cx="829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STABILIRE I CONFINI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51040" y="1980720"/>
            <a:ext cx="74484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4000"/>
          </a:bodyPr>
          <a:p>
            <a:pPr lvl="1" marL="462600" indent="-257040">
              <a:lnSpc>
                <a:spcPts val="3898"/>
              </a:lnSpc>
              <a:spcBef>
                <a:spcPts val="700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EFINIRE I LIMITI DEL PROCESSO (dove inizia e dove termina) INDIVIDUANDO EVENTI PRECISI ED IDENTIFICABILI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17760" y="3898800"/>
            <a:ext cx="5545080" cy="1587600"/>
          </a:xfrm>
          <a:prstGeom prst="rightArrow">
            <a:avLst>
              <a:gd name="adj1" fmla="val 50000"/>
              <a:gd name="adj2" fmla="val 5397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85720" y="4191120"/>
            <a:ext cx="825840" cy="761760"/>
          </a:xfrm>
          <a:prstGeom prst="triangle">
            <a:avLst>
              <a:gd name="adj" fmla="val 49958"/>
            </a:avLst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2280" y="4214880"/>
            <a:ext cx="66348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549440" y="4614840"/>
            <a:ext cx="77472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84360" y="4089240"/>
            <a:ext cx="3435480" cy="132084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ns"/>
              </a:rPr>
              <a:t>PRO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01800" y="5532480"/>
            <a:ext cx="16542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11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5fc62"/>
                </a:solidFill>
                <a:latin typeface="Sans"/>
              </a:rPr>
              <a:t>INIZ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5fc62"/>
                </a:solidFill>
                <a:latin typeface="Sans"/>
              </a:rPr>
              <a:t>QUANDO 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60960" y="5532480"/>
            <a:ext cx="1355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11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5fc62"/>
                </a:solidFill>
                <a:latin typeface="Sans"/>
              </a:rPr>
              <a:t>TERM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5fc62"/>
                </a:solidFill>
                <a:latin typeface="Sans"/>
              </a:rPr>
              <a:t>QUA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7160" y="533160"/>
            <a:ext cx="69562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I CONFINI DEL PROCESSO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36840" y="2635200"/>
            <a:ext cx="5894280" cy="2044800"/>
          </a:xfrm>
          <a:prstGeom prst="rightArrow">
            <a:avLst>
              <a:gd name="adj1" fmla="val 50000"/>
              <a:gd name="adj2" fmla="val 4454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1409040" y="3253680"/>
            <a:ext cx="1063440" cy="807840"/>
          </a:xfrm>
          <a:prstGeom prst="triangle">
            <a:avLst>
              <a:gd name="adj" fmla="val 49958"/>
            </a:avLst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12800" y="3187800"/>
            <a:ext cx="70956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572840" y="3701880"/>
            <a:ext cx="81900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79840" y="2502000"/>
            <a:ext cx="3433680" cy="23875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ns"/>
              </a:rPr>
              <a:t>PROCES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ns"/>
              </a:rPr>
              <a:t>Gestione dei recl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ans"/>
              </a:rPr>
              <a:t>sul prodo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187800"/>
            <a:ext cx="154152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18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5fc62"/>
                </a:solidFill>
                <a:latin typeface="Sans"/>
              </a:rPr>
              <a:t>INIZIA QUANDO IL RECLAMO E’ REGIS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50200" y="3151080"/>
            <a:ext cx="14587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18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5fc62"/>
                </a:solidFill>
                <a:latin typeface="Sans"/>
              </a:rPr>
              <a:t>TERMINA QUANDO IL PROBLEMA SEGNALATO E’ STATO RISO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920" y="1523880"/>
            <a:ext cx="1002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68a"/>
                </a:solidFill>
                <a:latin typeface="Arial"/>
              </a:rPr>
              <a:t>esemp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3560" y="-762120"/>
            <a:ext cx="829944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FORNITORI E CLIENTI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51040" y="914040"/>
            <a:ext cx="7448400" cy="48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805680" indent="-447480">
              <a:lnSpc>
                <a:spcPts val="3498"/>
              </a:lnSpc>
              <a:spcBef>
                <a:spcPts val="64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afd00"/>
                </a:solidFill>
                <a:latin typeface="Times New Roman"/>
              </a:rPr>
              <a:t>FORNITORI:</a:t>
            </a:r>
            <a:br>
              <a:rPr sz="2600"/>
            </a:br>
            <a:r>
              <a:rPr b="1" lang="en-US" sz="2600" spc="-1" strike="noStrike">
                <a:solidFill>
                  <a:srgbClr val="fafd00"/>
                </a:solidFill>
                <a:latin typeface="Times New Roman"/>
              </a:rPr>
              <a:t>IDENTIFICARE ENTI/FUNZIONI CHE FORNISCONO PRODOTTI O SERVIZI (Input) CHE VENGONO UTILIZZATI DAL PROCESSO</a:t>
            </a:r>
            <a:br>
              <a:rPr sz="2600"/>
            </a:br>
            <a:r>
              <a:rPr b="1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lvl="1" marL="805680" indent="-447480">
              <a:lnSpc>
                <a:spcPts val="3498"/>
              </a:lnSpc>
              <a:spcBef>
                <a:spcPts val="64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afd00"/>
                </a:solidFill>
                <a:latin typeface="Times New Roman"/>
              </a:rPr>
              <a:t>CLIENTI:</a:t>
            </a:r>
            <a:br>
              <a:rPr sz="2600"/>
            </a:br>
            <a:r>
              <a:rPr b="1" lang="en-US" sz="2600" spc="-1" strike="noStrike">
                <a:solidFill>
                  <a:srgbClr val="fafd00"/>
                </a:solidFill>
                <a:latin typeface="Times New Roman"/>
              </a:rPr>
              <a:t>IDENTIFICARE COLORO CHE, INTERNAMENTE O ESTERNAMENTE ALL’AZIENDA, UTILIZZANO PRODOTTI O SERVIZI (Output) DEL PROCESSO </a:t>
            </a:r>
            <a:endParaRPr b="1" lang="en-US" sz="2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849240" y="914400"/>
          <a:ext cx="7473960" cy="54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914400"/>
                    <a:ext cx="7473960" cy="54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493560" y="228600"/>
            <a:ext cx="829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Sans"/>
              </a:rPr>
              <a:t>SCHEMA FORNITORI/CLI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3560" y="761760"/>
            <a:ext cx="829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BISOGNI DEI CLIENTI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51040" y="1752120"/>
            <a:ext cx="7448400" cy="37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57160" indent="-476280">
              <a:lnSpc>
                <a:spcPts val="2900"/>
              </a:lnSpc>
              <a:spcBef>
                <a:spcPts val="7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NTERVISTARE I CLIENTI PER CONOSCERE: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276200" indent="-228600">
              <a:lnSpc>
                <a:spcPts val="29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rodotti/servizi richiesti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276200" indent="-228600">
              <a:lnSpc>
                <a:spcPts val="29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Bisogni e loro importanza (priorità)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lnSpc>
                <a:spcPts val="2900"/>
              </a:lnSpc>
              <a:spcBef>
                <a:spcPts val="7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DEFINIRE INDICATORI DI PRESTAZIONE DEL PROCESSO CORRELATI AI BISOGNI DEL CLIENTE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3040" y="1371240"/>
            <a:ext cx="82249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LA BASE DELL’APPROCCIO “GESTIONE PER PROCESSI” E’ LA CONOSCENZA DETTAGLIATA DELLA SITUAZIONE ESISTENTE IN TERMINI DI: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lnSpc>
                <a:spcPts val="2699"/>
              </a:lnSpc>
              <a:spcBef>
                <a:spcPts val="7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FLUSSO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0">
              <a:lnSpc>
                <a:spcPts val="26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lnSpc>
                <a:spcPts val="2699"/>
              </a:lnSpc>
              <a:spcBef>
                <a:spcPts val="7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PRESTAZIONI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0">
              <a:lnSpc>
                <a:spcPts val="26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lnSpc>
                <a:spcPts val="2699"/>
              </a:lnSpc>
              <a:spcBef>
                <a:spcPts val="7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PROBLEMI E CRITICITA’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20840" y="4378320"/>
            <a:ext cx="8583480" cy="1870200"/>
          </a:xfrm>
          <a:prstGeom prst="rightArrow">
            <a:avLst>
              <a:gd name="adj1" fmla="val 73685"/>
              <a:gd name="adj2" fmla="val 3081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8560" y="3835440"/>
            <a:ext cx="2082960" cy="542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uni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09040" y="5203800"/>
            <a:ext cx="909360" cy="542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54720" y="5203800"/>
            <a:ext cx="909720" cy="542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2"/>
            <a:endCxn id="75" idx="0"/>
          </p:cNvCxnSpPr>
          <p:nvPr/>
        </p:nvCxnSpPr>
        <p:spPr>
          <a:xfrm rot="5400000">
            <a:off x="6751800" y="4435920"/>
            <a:ext cx="826200" cy="710280"/>
          </a:xfrm>
          <a:prstGeom prst="bentConnector3">
            <a:avLst>
              <a:gd name="adj1" fmla="val 50000"/>
            </a:avLst>
          </a:prstGeom>
          <a:ln w="101520">
            <a:solidFill>
              <a:srgbClr val="ff9900"/>
            </a:solidFill>
            <a:miter/>
          </a:ln>
        </p:spPr>
      </p:cxnSp>
      <p:cxnSp>
        <p:nvCxnSpPr>
          <p:cNvPr id="77" name=""/>
          <p:cNvCxnSpPr>
            <a:stCxn id="73" idx="2"/>
            <a:endCxn id="74" idx="0"/>
          </p:cNvCxnSpPr>
          <p:nvPr/>
        </p:nvCxnSpPr>
        <p:spPr>
          <a:xfrm flipH="1" rot="16200000">
            <a:off x="7429320" y="4468320"/>
            <a:ext cx="826200" cy="645120"/>
          </a:xfrm>
          <a:prstGeom prst="bentConnector3">
            <a:avLst>
              <a:gd name="adj1" fmla="val 50000"/>
            </a:avLst>
          </a:prstGeom>
          <a:ln w="101520">
            <a:solidFill>
              <a:srgbClr val="ff99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3632040" y="3817800"/>
            <a:ext cx="1913040" cy="5432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rollo di gest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89440" y="5203800"/>
            <a:ext cx="911160" cy="542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35480" y="5203800"/>
            <a:ext cx="909360" cy="542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8" idx="2"/>
            <a:endCxn id="80" idx="0"/>
          </p:cNvCxnSpPr>
          <p:nvPr/>
        </p:nvCxnSpPr>
        <p:spPr>
          <a:xfrm rot="5400000">
            <a:off x="3818160" y="4432680"/>
            <a:ext cx="843480" cy="699480"/>
          </a:xfrm>
          <a:prstGeom prst="bentConnector3">
            <a:avLst>
              <a:gd name="adj1" fmla="val 49871"/>
            </a:avLst>
          </a:prstGeom>
          <a:ln w="101520">
            <a:solidFill>
              <a:srgbClr val="ff9900"/>
            </a:solidFill>
            <a:miter/>
          </a:ln>
        </p:spPr>
      </p:cxnSp>
      <p:cxnSp>
        <p:nvCxnSpPr>
          <p:cNvPr id="82" name=""/>
          <p:cNvCxnSpPr>
            <a:stCxn id="78" idx="2"/>
            <a:endCxn id="79" idx="0"/>
          </p:cNvCxnSpPr>
          <p:nvPr/>
        </p:nvCxnSpPr>
        <p:spPr>
          <a:xfrm flipH="1" rot="16200000">
            <a:off x="4494960" y="4454280"/>
            <a:ext cx="843480" cy="656280"/>
          </a:xfrm>
          <a:prstGeom prst="bentConnector3">
            <a:avLst>
              <a:gd name="adj1" fmla="val 49871"/>
            </a:avLst>
          </a:prstGeom>
          <a:ln w="101520">
            <a:solidFill>
              <a:srgbClr val="ff9900"/>
            </a:solidFill>
            <a:miter/>
          </a:ln>
        </p:spPr>
      </p:cxnSp>
      <p:sp>
        <p:nvSpPr>
          <p:cNvPr id="83" name=""/>
          <p:cNvSpPr/>
          <p:nvPr/>
        </p:nvSpPr>
        <p:spPr>
          <a:xfrm>
            <a:off x="1887480" y="5203800"/>
            <a:ext cx="911160" cy="542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5203800"/>
            <a:ext cx="909360" cy="542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6" idx="2"/>
            <a:endCxn id="84" idx="0"/>
          </p:cNvCxnSpPr>
          <p:nvPr/>
        </p:nvCxnSpPr>
        <p:spPr>
          <a:xfrm rot="5400000">
            <a:off x="938520" y="4428000"/>
            <a:ext cx="826200" cy="726480"/>
          </a:xfrm>
          <a:prstGeom prst="bentConnector3">
            <a:avLst>
              <a:gd name="adj1" fmla="val 50000"/>
            </a:avLst>
          </a:prstGeom>
          <a:ln w="101520">
            <a:solidFill>
              <a:srgbClr val="ff9900"/>
            </a:solidFill>
            <a:miter/>
          </a:ln>
        </p:spPr>
      </p:cxnSp>
      <p:cxnSp>
        <p:nvCxnSpPr>
          <p:cNvPr id="87" name=""/>
          <p:cNvCxnSpPr>
            <a:stCxn id="86" idx="2"/>
            <a:endCxn id="83" idx="0"/>
          </p:cNvCxnSpPr>
          <p:nvPr/>
        </p:nvCxnSpPr>
        <p:spPr>
          <a:xfrm flipH="1" rot="16200000">
            <a:off x="1616040" y="4476240"/>
            <a:ext cx="826200" cy="629280"/>
          </a:xfrm>
          <a:prstGeom prst="bentConnector3">
            <a:avLst>
              <a:gd name="adj1" fmla="val 50000"/>
            </a:avLst>
          </a:prstGeom>
          <a:ln w="101520">
            <a:solidFill>
              <a:srgbClr val="ff99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3732120" y="2209680"/>
            <a:ext cx="1754280" cy="812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Z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01000" y="3022560"/>
            <a:ext cx="5821200" cy="813240"/>
            <a:chOff x="1701000" y="3022560"/>
            <a:chExt cx="5821200" cy="813240"/>
          </a:xfrm>
        </p:grpSpPr>
        <p:cxnSp>
          <p:nvCxnSpPr>
            <p:cNvPr id="90" name=""/>
            <p:cNvCxnSpPr>
              <a:stCxn id="88" idx="2"/>
              <a:endCxn id="86" idx="0"/>
            </p:cNvCxnSpPr>
            <p:nvPr/>
          </p:nvCxnSpPr>
          <p:spPr>
            <a:xfrm rot="5400000">
              <a:off x="2747520" y="1975680"/>
              <a:ext cx="813600" cy="2907000"/>
            </a:xfrm>
            <a:prstGeom prst="bentConnector3">
              <a:avLst>
                <a:gd name="adj1" fmla="val 49977"/>
              </a:avLst>
            </a:prstGeom>
            <a:ln w="101520">
              <a:solidFill>
                <a:srgbClr val="ff9900"/>
              </a:solidFill>
              <a:miter/>
            </a:ln>
          </p:spPr>
        </p:cxnSp>
        <p:cxnSp>
          <p:nvCxnSpPr>
            <p:cNvPr id="91" name=""/>
            <p:cNvCxnSpPr>
              <a:stCxn id="88" idx="2"/>
              <a:endCxn id="73" idx="0"/>
            </p:cNvCxnSpPr>
            <p:nvPr/>
          </p:nvCxnSpPr>
          <p:spPr>
            <a:xfrm flipH="1" rot="16200000">
              <a:off x="5658120" y="1971360"/>
              <a:ext cx="813600" cy="2915640"/>
            </a:xfrm>
            <a:prstGeom prst="bentConnector3">
              <a:avLst>
                <a:gd name="adj1" fmla="val 49977"/>
              </a:avLst>
            </a:prstGeom>
            <a:ln w="101520">
              <a:solidFill>
                <a:srgbClr val="ff9900"/>
              </a:solidFill>
              <a:miter/>
            </a:ln>
          </p:spPr>
        </p:cxnSp>
        <p:cxnSp>
          <p:nvCxnSpPr>
            <p:cNvPr id="92" name=""/>
            <p:cNvCxnSpPr>
              <a:stCxn id="88" idx="2"/>
              <a:endCxn id="78" idx="0"/>
            </p:cNvCxnSpPr>
            <p:nvPr/>
          </p:nvCxnSpPr>
          <p:spPr>
            <a:xfrm rot="5400000">
              <a:off x="4198320" y="3426840"/>
              <a:ext cx="813600" cy="5040"/>
            </a:xfrm>
            <a:prstGeom prst="bentConnector3">
              <a:avLst>
                <a:gd name="adj1" fmla="val 49977"/>
              </a:avLst>
            </a:prstGeom>
            <a:ln w="101520">
              <a:solidFill>
                <a:srgbClr val="ff9900"/>
              </a:solidFill>
              <a:miter/>
            </a:ln>
          </p:spPr>
        </p:cxnSp>
      </p:grpSp>
      <p:sp>
        <p:nvSpPr>
          <p:cNvPr id="93" name=""/>
          <p:cNvSpPr/>
          <p:nvPr/>
        </p:nvSpPr>
        <p:spPr>
          <a:xfrm>
            <a:off x="512640" y="177840"/>
            <a:ext cx="74487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L’APPROCCIO PER PROCES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3560" y="990720"/>
            <a:ext cx="82249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Ma... l’impresa genera valore e profitto attraverso i suoi processi e non mediante le sue fun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43040" y="3835440"/>
            <a:ext cx="2025000" cy="542880"/>
            <a:chOff x="743040" y="3835440"/>
            <a:chExt cx="2025000" cy="542880"/>
          </a:xfrm>
        </p:grpSpPr>
        <p:sp>
          <p:nvSpPr>
            <p:cNvPr id="86" name=""/>
            <p:cNvSpPr/>
            <p:nvPr/>
          </p:nvSpPr>
          <p:spPr>
            <a:xfrm>
              <a:off x="743040" y="3835440"/>
              <a:ext cx="1943280" cy="542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8520" y="3943440"/>
              <a:ext cx="20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quisti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878120" y="4902120"/>
            <a:ext cx="5362560" cy="966960"/>
          </a:xfrm>
          <a:prstGeom prst="ellipse">
            <a:avLst/>
          </a:prstGeom>
          <a:solidFill>
            <a:srgbClr val="cc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tena di clienti - fornitori inter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ERCHE’ E’ NECESSARIO DESCRIVERE IL PROCESSO ATTRAVERSO </a:t>
            </a:r>
            <a:r>
              <a:rPr b="1" i="1" lang="en-US" sz="3200" spc="-1" strike="noStrike">
                <a:solidFill>
                  <a:srgbClr val="66ffff"/>
                </a:solidFill>
                <a:latin typeface="Arial"/>
              </a:rPr>
              <a:t>LA STESURA DEL FLUSSO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51040" y="1988640"/>
            <a:ext cx="7448400" cy="33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779760" indent="0">
              <a:lnSpc>
                <a:spcPts val="26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PER COMPRENDERNE IL FUNZIONAMENTO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79760" indent="0">
              <a:lnSpc>
                <a:spcPts val="26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79760" indent="0">
              <a:lnSpc>
                <a:spcPts val="26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PER STANDARDIZZARE LE ATTIVITA’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79760" indent="0">
              <a:lnSpc>
                <a:spcPts val="26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79760" indent="0">
              <a:lnSpc>
                <a:spcPts val="26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PER FACILITARE LA RICERCA DEI MIGLIORAMENTI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lnSpc>
                <a:spcPts val="26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3560" y="685440"/>
            <a:ext cx="829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FLUSSO DEL PROCESSO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51040" y="1828800"/>
            <a:ext cx="7448400" cy="334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lvl="1" marL="771120" indent="-428400">
              <a:spcBef>
                <a:spcPts val="7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DEFINIRE IN DETTAGLIO LE ATTIVITA’ E COME SONO TRA LORO COLLEGATE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71120" indent="-428400">
              <a:spcBef>
                <a:spcPts val="7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METODI PIU’ UTILIZZATI: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8400" indent="-2055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ecnica ASM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8400" indent="-2055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iagramma di flusso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8400" indent="-2055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iagramma di flusso funzional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3200" y="304560"/>
            <a:ext cx="8191800" cy="990360"/>
          </a:xfrm>
          <a:prstGeom prst="rect">
            <a:avLst/>
          </a:prstGeom>
          <a:noFill/>
          <a:ln w="12600">
            <a:solidFill>
              <a:srgbClr val="f5fc62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FLUSSO DEL PROCESSO: TECNICA ASME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29320" y="3683160"/>
            <a:ext cx="1981440" cy="2141280"/>
          </a:xfrm>
          <a:prstGeom prst="rect">
            <a:avLst/>
          </a:prstGeom>
          <a:solidFill>
            <a:srgbClr val="000000"/>
          </a:solidFill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97720" y="3755880"/>
            <a:ext cx="1979640" cy="214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00760" y="3935520"/>
            <a:ext cx="230400" cy="252360"/>
          </a:xfrm>
          <a:prstGeom prst="ellipse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94640" y="4303800"/>
            <a:ext cx="245880" cy="268200"/>
          </a:xfrm>
          <a:custGeom>
            <a:avLst/>
            <a:gdLst/>
            <a:ahLst/>
            <a:rect l="l" t="t" r="r" b="b"/>
            <a:pathLst>
              <a:path w="167" h="169">
                <a:moveTo>
                  <a:pt x="166" y="84"/>
                </a:moveTo>
                <a:lnTo>
                  <a:pt x="83" y="0"/>
                </a:lnTo>
                <a:lnTo>
                  <a:pt x="83" y="51"/>
                </a:lnTo>
                <a:lnTo>
                  <a:pt x="0" y="51"/>
                </a:lnTo>
                <a:lnTo>
                  <a:pt x="0" y="118"/>
                </a:lnTo>
                <a:lnTo>
                  <a:pt x="83" y="118"/>
                </a:lnTo>
                <a:lnTo>
                  <a:pt x="83" y="168"/>
                </a:lnTo>
                <a:lnTo>
                  <a:pt x="166" y="84"/>
                </a:lnTo>
              </a:path>
            </a:pathLst>
          </a:custGeom>
          <a:noFill/>
          <a:ln cap="rnd" w="1260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94640" y="4681440"/>
            <a:ext cx="245880" cy="266760"/>
          </a:xfrm>
          <a:custGeom>
            <a:avLst/>
            <a:gdLst/>
            <a:ahLst/>
            <a:rect l="l" t="t" r="r" b="b"/>
            <a:pathLst>
              <a:path w="167" h="168">
                <a:moveTo>
                  <a:pt x="0" y="0"/>
                </a:moveTo>
                <a:lnTo>
                  <a:pt x="166" y="0"/>
                </a:lnTo>
                <a:lnTo>
                  <a:pt x="83" y="16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02200" y="5087880"/>
            <a:ext cx="22860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37" y="1"/>
                </a:moveTo>
                <a:arcTo wR="10800" hR="10800" stAng="-5356487" swAng="10756487"/>
                <a:lnTo>
                  <a:pt x="10800" y="10800"/>
                </a:lnTo>
                <a:close/>
              </a:path>
              <a:path fill="none" w="21600" h="21600">
                <a:moveTo>
                  <a:pt x="10937" y="1"/>
                </a:moveTo>
                <a:arcTo wR="10800" hR="10800" stAng="-5356487" swAng="10756487"/>
              </a:path>
            </a:pathLst>
          </a:custGeom>
          <a:solidFill>
            <a:srgbClr val="ffffff"/>
          </a:solidFill>
          <a:ln cap="rnd"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00760" y="5086440"/>
            <a:ext cx="112680" cy="253800"/>
          </a:xfrm>
          <a:prstGeom prst="rect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00760" y="5465880"/>
            <a:ext cx="230400" cy="25056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00360" y="3956040"/>
            <a:ext cx="843480" cy="198360"/>
          </a:xfrm>
          <a:prstGeom prst="rect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vantGarde"/>
              </a:rPr>
              <a:t>Operazi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92080" y="4332240"/>
            <a:ext cx="1209240" cy="198360"/>
          </a:xfrm>
          <a:prstGeom prst="rect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vantGarde"/>
              </a:rPr>
              <a:t>Movimentazi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99640" y="4708440"/>
            <a:ext cx="643680" cy="198360"/>
          </a:xfrm>
          <a:prstGeom prst="rect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vantGarde"/>
              </a:rPr>
              <a:t>Deposi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03240" y="5110200"/>
            <a:ext cx="450360" cy="198360"/>
          </a:xfrm>
          <a:prstGeom prst="rect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vantGarde"/>
              </a:rPr>
              <a:t>Attes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86680" y="5487840"/>
            <a:ext cx="677520" cy="198360"/>
          </a:xfrm>
          <a:prstGeom prst="rect">
            <a:avLst/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vantGarde"/>
              </a:rPr>
              <a:t>Control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54640" y="1871640"/>
            <a:ext cx="219240" cy="450720"/>
          </a:xfrm>
          <a:custGeom>
            <a:avLst/>
            <a:gdLst/>
            <a:ahLst/>
            <a:rect l="l" t="t" r="r" b="b"/>
            <a:pathLst>
              <a:path w="148" h="284">
                <a:moveTo>
                  <a:pt x="6" y="271"/>
                </a:moveTo>
                <a:lnTo>
                  <a:pt x="3" y="271"/>
                </a:lnTo>
                <a:lnTo>
                  <a:pt x="1" y="272"/>
                </a:lnTo>
                <a:lnTo>
                  <a:pt x="0" y="274"/>
                </a:lnTo>
                <a:lnTo>
                  <a:pt x="0" y="280"/>
                </a:lnTo>
                <a:lnTo>
                  <a:pt x="1" y="281"/>
                </a:lnTo>
                <a:lnTo>
                  <a:pt x="3" y="282"/>
                </a:lnTo>
                <a:lnTo>
                  <a:pt x="4" y="282"/>
                </a:lnTo>
                <a:lnTo>
                  <a:pt x="6" y="283"/>
                </a:lnTo>
                <a:lnTo>
                  <a:pt x="12" y="282"/>
                </a:lnTo>
                <a:lnTo>
                  <a:pt x="20" y="282"/>
                </a:lnTo>
                <a:lnTo>
                  <a:pt x="27" y="281"/>
                </a:lnTo>
                <a:lnTo>
                  <a:pt x="33" y="280"/>
                </a:lnTo>
                <a:lnTo>
                  <a:pt x="40" y="278"/>
                </a:lnTo>
                <a:lnTo>
                  <a:pt x="47" y="276"/>
                </a:lnTo>
                <a:lnTo>
                  <a:pt x="53" y="273"/>
                </a:lnTo>
                <a:lnTo>
                  <a:pt x="59" y="271"/>
                </a:lnTo>
                <a:lnTo>
                  <a:pt x="66" y="269"/>
                </a:lnTo>
                <a:lnTo>
                  <a:pt x="73" y="265"/>
                </a:lnTo>
                <a:lnTo>
                  <a:pt x="78" y="262"/>
                </a:lnTo>
                <a:lnTo>
                  <a:pt x="84" y="258"/>
                </a:lnTo>
                <a:lnTo>
                  <a:pt x="89" y="254"/>
                </a:lnTo>
                <a:lnTo>
                  <a:pt x="95" y="249"/>
                </a:lnTo>
                <a:lnTo>
                  <a:pt x="99" y="246"/>
                </a:lnTo>
                <a:lnTo>
                  <a:pt x="105" y="241"/>
                </a:lnTo>
                <a:lnTo>
                  <a:pt x="110" y="235"/>
                </a:lnTo>
                <a:lnTo>
                  <a:pt x="114" y="230"/>
                </a:lnTo>
                <a:lnTo>
                  <a:pt x="119" y="225"/>
                </a:lnTo>
                <a:lnTo>
                  <a:pt x="122" y="220"/>
                </a:lnTo>
                <a:lnTo>
                  <a:pt x="126" y="214"/>
                </a:lnTo>
                <a:lnTo>
                  <a:pt x="129" y="208"/>
                </a:lnTo>
                <a:lnTo>
                  <a:pt x="133" y="202"/>
                </a:lnTo>
                <a:lnTo>
                  <a:pt x="136" y="195"/>
                </a:lnTo>
                <a:lnTo>
                  <a:pt x="138" y="189"/>
                </a:lnTo>
                <a:lnTo>
                  <a:pt x="141" y="182"/>
                </a:lnTo>
                <a:lnTo>
                  <a:pt x="143" y="176"/>
                </a:lnTo>
                <a:lnTo>
                  <a:pt x="145" y="169"/>
                </a:lnTo>
                <a:lnTo>
                  <a:pt x="146" y="162"/>
                </a:lnTo>
                <a:lnTo>
                  <a:pt x="146" y="156"/>
                </a:lnTo>
                <a:lnTo>
                  <a:pt x="146" y="148"/>
                </a:lnTo>
                <a:lnTo>
                  <a:pt x="147" y="141"/>
                </a:lnTo>
                <a:lnTo>
                  <a:pt x="147" y="140"/>
                </a:lnTo>
                <a:lnTo>
                  <a:pt x="146" y="134"/>
                </a:lnTo>
                <a:lnTo>
                  <a:pt x="146" y="127"/>
                </a:lnTo>
                <a:lnTo>
                  <a:pt x="146" y="120"/>
                </a:lnTo>
                <a:lnTo>
                  <a:pt x="145" y="112"/>
                </a:lnTo>
                <a:lnTo>
                  <a:pt x="143" y="106"/>
                </a:lnTo>
                <a:lnTo>
                  <a:pt x="141" y="100"/>
                </a:lnTo>
                <a:lnTo>
                  <a:pt x="138" y="93"/>
                </a:lnTo>
                <a:lnTo>
                  <a:pt x="136" y="87"/>
                </a:lnTo>
                <a:lnTo>
                  <a:pt x="133" y="80"/>
                </a:lnTo>
                <a:lnTo>
                  <a:pt x="129" y="74"/>
                </a:lnTo>
                <a:lnTo>
                  <a:pt x="126" y="68"/>
                </a:lnTo>
                <a:lnTo>
                  <a:pt x="122" y="63"/>
                </a:lnTo>
                <a:lnTo>
                  <a:pt x="119" y="58"/>
                </a:lnTo>
                <a:lnTo>
                  <a:pt x="114" y="52"/>
                </a:lnTo>
                <a:lnTo>
                  <a:pt x="110" y="47"/>
                </a:lnTo>
                <a:lnTo>
                  <a:pt x="105" y="42"/>
                </a:lnTo>
                <a:lnTo>
                  <a:pt x="99" y="37"/>
                </a:lnTo>
                <a:lnTo>
                  <a:pt x="95" y="33"/>
                </a:lnTo>
                <a:lnTo>
                  <a:pt x="89" y="28"/>
                </a:lnTo>
                <a:lnTo>
                  <a:pt x="84" y="24"/>
                </a:lnTo>
                <a:lnTo>
                  <a:pt x="78" y="21"/>
                </a:lnTo>
                <a:lnTo>
                  <a:pt x="72" y="18"/>
                </a:lnTo>
                <a:lnTo>
                  <a:pt x="66" y="14"/>
                </a:lnTo>
                <a:lnTo>
                  <a:pt x="59" y="11"/>
                </a:lnTo>
                <a:lnTo>
                  <a:pt x="53" y="9"/>
                </a:lnTo>
                <a:lnTo>
                  <a:pt x="47" y="6"/>
                </a:lnTo>
                <a:lnTo>
                  <a:pt x="40" y="4"/>
                </a:lnTo>
                <a:lnTo>
                  <a:pt x="33" y="3"/>
                </a:lnTo>
                <a:lnTo>
                  <a:pt x="27" y="1"/>
                </a:lnTo>
                <a:lnTo>
                  <a:pt x="19" y="0"/>
                </a:ln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0" y="9"/>
                </a:lnTo>
                <a:lnTo>
                  <a:pt x="1" y="10"/>
                </a:lnTo>
                <a:lnTo>
                  <a:pt x="3" y="11"/>
                </a:lnTo>
                <a:lnTo>
                  <a:pt x="4" y="11"/>
                </a:lnTo>
                <a:lnTo>
                  <a:pt x="6" y="12"/>
                </a:lnTo>
                <a:lnTo>
                  <a:pt x="5" y="12"/>
                </a:lnTo>
                <a:lnTo>
                  <a:pt x="18" y="12"/>
                </a:lnTo>
                <a:lnTo>
                  <a:pt x="25" y="13"/>
                </a:lnTo>
                <a:lnTo>
                  <a:pt x="31" y="14"/>
                </a:lnTo>
                <a:lnTo>
                  <a:pt x="37" y="16"/>
                </a:lnTo>
                <a:lnTo>
                  <a:pt x="44" y="18"/>
                </a:lnTo>
                <a:lnTo>
                  <a:pt x="50" y="20"/>
                </a:lnTo>
                <a:lnTo>
                  <a:pt x="55" y="22"/>
                </a:lnTo>
                <a:lnTo>
                  <a:pt x="61" y="24"/>
                </a:lnTo>
                <a:lnTo>
                  <a:pt x="67" y="27"/>
                </a:lnTo>
                <a:lnTo>
                  <a:pt x="72" y="30"/>
                </a:lnTo>
                <a:lnTo>
                  <a:pt x="77" y="34"/>
                </a:lnTo>
                <a:lnTo>
                  <a:pt x="82" y="38"/>
                </a:lnTo>
                <a:lnTo>
                  <a:pt x="88" y="42"/>
                </a:lnTo>
                <a:lnTo>
                  <a:pt x="105" y="59"/>
                </a:lnTo>
                <a:lnTo>
                  <a:pt x="109" y="65"/>
                </a:lnTo>
                <a:lnTo>
                  <a:pt x="113" y="69"/>
                </a:lnTo>
                <a:lnTo>
                  <a:pt x="117" y="75"/>
                </a:lnTo>
                <a:lnTo>
                  <a:pt x="120" y="80"/>
                </a:lnTo>
                <a:lnTo>
                  <a:pt x="122" y="86"/>
                </a:lnTo>
                <a:lnTo>
                  <a:pt x="125" y="91"/>
                </a:lnTo>
                <a:lnTo>
                  <a:pt x="127" y="97"/>
                </a:lnTo>
                <a:lnTo>
                  <a:pt x="129" y="103"/>
                </a:lnTo>
                <a:lnTo>
                  <a:pt x="131" y="109"/>
                </a:lnTo>
                <a:lnTo>
                  <a:pt x="133" y="115"/>
                </a:lnTo>
                <a:lnTo>
                  <a:pt x="134" y="122"/>
                </a:lnTo>
                <a:lnTo>
                  <a:pt x="135" y="128"/>
                </a:lnTo>
                <a:lnTo>
                  <a:pt x="135" y="135"/>
                </a:lnTo>
                <a:lnTo>
                  <a:pt x="136" y="141"/>
                </a:lnTo>
                <a:lnTo>
                  <a:pt x="136" y="140"/>
                </a:lnTo>
                <a:lnTo>
                  <a:pt x="135" y="147"/>
                </a:lnTo>
                <a:lnTo>
                  <a:pt x="135" y="154"/>
                </a:lnTo>
                <a:lnTo>
                  <a:pt x="134" y="160"/>
                </a:lnTo>
                <a:lnTo>
                  <a:pt x="133" y="167"/>
                </a:lnTo>
                <a:lnTo>
                  <a:pt x="131" y="173"/>
                </a:lnTo>
                <a:lnTo>
                  <a:pt x="129" y="180"/>
                </a:lnTo>
                <a:lnTo>
                  <a:pt x="127" y="185"/>
                </a:lnTo>
                <a:lnTo>
                  <a:pt x="125" y="191"/>
                </a:lnTo>
                <a:lnTo>
                  <a:pt x="122" y="197"/>
                </a:lnTo>
                <a:lnTo>
                  <a:pt x="120" y="203"/>
                </a:lnTo>
                <a:lnTo>
                  <a:pt x="117" y="207"/>
                </a:lnTo>
                <a:lnTo>
                  <a:pt x="113" y="213"/>
                </a:lnTo>
                <a:lnTo>
                  <a:pt x="109" y="218"/>
                </a:lnTo>
                <a:lnTo>
                  <a:pt x="105" y="224"/>
                </a:lnTo>
                <a:lnTo>
                  <a:pt x="88" y="241"/>
                </a:lnTo>
                <a:lnTo>
                  <a:pt x="82" y="245"/>
                </a:lnTo>
                <a:lnTo>
                  <a:pt x="77" y="248"/>
                </a:lnTo>
                <a:lnTo>
                  <a:pt x="72" y="252"/>
                </a:lnTo>
                <a:lnTo>
                  <a:pt x="67" y="255"/>
                </a:lnTo>
                <a:lnTo>
                  <a:pt x="61" y="258"/>
                </a:lnTo>
                <a:lnTo>
                  <a:pt x="55" y="261"/>
                </a:lnTo>
                <a:lnTo>
                  <a:pt x="50" y="263"/>
                </a:lnTo>
                <a:lnTo>
                  <a:pt x="44" y="265"/>
                </a:lnTo>
                <a:lnTo>
                  <a:pt x="37" y="267"/>
                </a:lnTo>
                <a:lnTo>
                  <a:pt x="31" y="269"/>
                </a:lnTo>
                <a:lnTo>
                  <a:pt x="25" y="270"/>
                </a:lnTo>
                <a:lnTo>
                  <a:pt x="18" y="271"/>
                </a:lnTo>
                <a:lnTo>
                  <a:pt x="11" y="271"/>
                </a:lnTo>
                <a:lnTo>
                  <a:pt x="5" y="271"/>
                </a:lnTo>
                <a:lnTo>
                  <a:pt x="6" y="27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56280" y="1871640"/>
            <a:ext cx="217440" cy="450720"/>
          </a:xfrm>
          <a:custGeom>
            <a:avLst/>
            <a:gdLst/>
            <a:ahLst/>
            <a:rect l="l" t="t" r="r" b="b"/>
            <a:pathLst>
              <a:path w="149" h="284">
                <a:moveTo>
                  <a:pt x="142" y="283"/>
                </a:moveTo>
                <a:lnTo>
                  <a:pt x="143" y="282"/>
                </a:lnTo>
                <a:lnTo>
                  <a:pt x="145" y="282"/>
                </a:lnTo>
                <a:lnTo>
                  <a:pt x="147" y="280"/>
                </a:lnTo>
                <a:lnTo>
                  <a:pt x="147" y="278"/>
                </a:lnTo>
                <a:lnTo>
                  <a:pt x="148" y="277"/>
                </a:lnTo>
                <a:lnTo>
                  <a:pt x="147" y="275"/>
                </a:lnTo>
                <a:lnTo>
                  <a:pt x="147" y="274"/>
                </a:lnTo>
                <a:lnTo>
                  <a:pt x="146" y="272"/>
                </a:lnTo>
                <a:lnTo>
                  <a:pt x="145" y="271"/>
                </a:lnTo>
                <a:lnTo>
                  <a:pt x="6" y="271"/>
                </a:lnTo>
                <a:lnTo>
                  <a:pt x="12" y="277"/>
                </a:lnTo>
                <a:lnTo>
                  <a:pt x="12" y="6"/>
                </a:lnTo>
                <a:lnTo>
                  <a:pt x="6" y="12"/>
                </a:lnTo>
                <a:lnTo>
                  <a:pt x="142" y="12"/>
                </a:lnTo>
                <a:lnTo>
                  <a:pt x="143" y="11"/>
                </a:lnTo>
                <a:lnTo>
                  <a:pt x="145" y="11"/>
                </a:lnTo>
                <a:lnTo>
                  <a:pt x="147" y="9"/>
                </a:lnTo>
                <a:lnTo>
                  <a:pt x="147" y="7"/>
                </a:lnTo>
                <a:lnTo>
                  <a:pt x="148" y="6"/>
                </a:lnTo>
                <a:lnTo>
                  <a:pt x="147" y="4"/>
                </a:lnTo>
                <a:lnTo>
                  <a:pt x="147" y="3"/>
                </a:lnTo>
                <a:lnTo>
                  <a:pt x="146" y="1"/>
                </a:lnTo>
                <a:lnTo>
                  <a:pt x="145" y="0"/>
                </a:lnTo>
                <a:lnTo>
                  <a:pt x="142" y="0"/>
                </a:lnTo>
                <a:lnTo>
                  <a:pt x="6" y="0"/>
                </a:ln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0" y="280"/>
                </a:lnTo>
                <a:lnTo>
                  <a:pt x="1" y="281"/>
                </a:lnTo>
                <a:lnTo>
                  <a:pt x="3" y="282"/>
                </a:lnTo>
                <a:lnTo>
                  <a:pt x="4" y="282"/>
                </a:lnTo>
                <a:lnTo>
                  <a:pt x="6" y="283"/>
                </a:lnTo>
                <a:lnTo>
                  <a:pt x="142" y="28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4640" y="2197080"/>
            <a:ext cx="849240" cy="19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vantGarde"/>
              </a:rPr>
              <a:t>ATTIVITA'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1838160"/>
            <a:ext cx="1657440" cy="19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vantGarde"/>
              </a:rPr>
              <a:t>SIMBOLOGIA AS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6320" y="2649600"/>
            <a:ext cx="2324160" cy="39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1.  TRASMISSIONE DELL'ORD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6320" y="3135240"/>
            <a:ext cx="2113200" cy="19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2.  ACQUISIZIONE ORD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6320" y="3619440"/>
            <a:ext cx="2283120" cy="19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3.  INSERIMENTO ORDINE 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6320" y="3862440"/>
            <a:ext cx="2038320" cy="19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SELEZIONE PRIORITA'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6320" y="4346640"/>
            <a:ext cx="2457720" cy="19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4.  ATTESA DELLA CONFER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6320" y="4832280"/>
            <a:ext cx="2324160" cy="19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5.  CONFERMA  DELL'ORD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5120" y="5316480"/>
            <a:ext cx="2405520" cy="19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6.  VERIFICA DI AVANZAM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6320" y="5559480"/>
            <a:ext cx="1427400" cy="19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DELL'ORD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4040" y="2496960"/>
            <a:ext cx="2476440" cy="3400560"/>
          </a:xfrm>
          <a:prstGeom prst="rect">
            <a:avLst/>
          </a:prstGeom>
          <a:noFill/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4040" y="1743120"/>
            <a:ext cx="2476440" cy="704880"/>
          </a:xfrm>
          <a:prstGeom prst="rect">
            <a:avLst/>
          </a:prstGeom>
          <a:noFill/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0800" y="1736640"/>
            <a:ext cx="2489400" cy="719280"/>
          </a:xfrm>
          <a:custGeom>
            <a:avLst/>
            <a:gdLst/>
            <a:ahLst/>
            <a:rect l="l" t="t" r="r" b="b"/>
            <a:pathLst>
              <a:path w="1699" h="453">
                <a:moveTo>
                  <a:pt x="0" y="0"/>
                </a:moveTo>
                <a:lnTo>
                  <a:pt x="452" y="249"/>
                </a:lnTo>
                <a:lnTo>
                  <a:pt x="1245" y="294"/>
                </a:lnTo>
                <a:lnTo>
                  <a:pt x="1698" y="452"/>
                </a:lnTo>
              </a:path>
            </a:pathLst>
          </a:custGeom>
          <a:noFill/>
          <a:ln cap="rnd" w="12600">
            <a:solidFill>
              <a:srgbClr val="f5fc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3080" y="2496960"/>
            <a:ext cx="654120" cy="3400560"/>
          </a:xfrm>
          <a:prstGeom prst="rect">
            <a:avLst/>
          </a:prstGeom>
          <a:noFill/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3080" y="1743120"/>
            <a:ext cx="654120" cy="704880"/>
          </a:xfrm>
          <a:prstGeom prst="rect">
            <a:avLst/>
          </a:prstGeom>
          <a:noFill/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08360" y="2496960"/>
            <a:ext cx="652680" cy="3400560"/>
          </a:xfrm>
          <a:prstGeom prst="rect">
            <a:avLst/>
          </a:prstGeom>
          <a:noFill/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08360" y="1743120"/>
            <a:ext cx="652680" cy="704880"/>
          </a:xfrm>
          <a:prstGeom prst="rect">
            <a:avLst/>
          </a:prstGeom>
          <a:noFill/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70400" y="2496960"/>
            <a:ext cx="654120" cy="3400560"/>
          </a:xfrm>
          <a:prstGeom prst="rect">
            <a:avLst/>
          </a:prstGeom>
          <a:noFill/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70400" y="1743120"/>
            <a:ext cx="654120" cy="704880"/>
          </a:xfrm>
          <a:prstGeom prst="rect">
            <a:avLst/>
          </a:prstGeom>
          <a:noFill/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35680" y="2496960"/>
            <a:ext cx="653760" cy="3400560"/>
          </a:xfrm>
          <a:prstGeom prst="rect">
            <a:avLst/>
          </a:prstGeom>
          <a:noFill/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35680" y="1743120"/>
            <a:ext cx="653760" cy="704880"/>
          </a:xfrm>
          <a:prstGeom prst="rect">
            <a:avLst/>
          </a:prstGeom>
          <a:noFill/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00600" y="2496960"/>
            <a:ext cx="649440" cy="3400560"/>
          </a:xfrm>
          <a:prstGeom prst="rect">
            <a:avLst/>
          </a:prstGeom>
          <a:noFill/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00600" y="1743120"/>
            <a:ext cx="649440" cy="704880"/>
          </a:xfrm>
          <a:prstGeom prst="rect">
            <a:avLst/>
          </a:prstGeom>
          <a:noFill/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64040" y="1871640"/>
            <a:ext cx="415800" cy="452520"/>
          </a:xfrm>
          <a:custGeom>
            <a:avLst/>
            <a:gdLst/>
            <a:ahLst/>
            <a:rect l="l" t="t" r="r" b="b"/>
            <a:pathLst>
              <a:path w="284" h="285">
                <a:moveTo>
                  <a:pt x="0" y="142"/>
                </a:moveTo>
                <a:lnTo>
                  <a:pt x="0" y="156"/>
                </a:lnTo>
                <a:lnTo>
                  <a:pt x="1" y="163"/>
                </a:lnTo>
                <a:lnTo>
                  <a:pt x="3" y="170"/>
                </a:lnTo>
                <a:lnTo>
                  <a:pt x="4" y="177"/>
                </a:lnTo>
                <a:lnTo>
                  <a:pt x="6" y="183"/>
                </a:lnTo>
                <a:lnTo>
                  <a:pt x="8" y="190"/>
                </a:lnTo>
                <a:lnTo>
                  <a:pt x="10" y="196"/>
                </a:lnTo>
                <a:lnTo>
                  <a:pt x="13" y="203"/>
                </a:lnTo>
                <a:lnTo>
                  <a:pt x="17" y="208"/>
                </a:lnTo>
                <a:lnTo>
                  <a:pt x="20" y="215"/>
                </a:lnTo>
                <a:lnTo>
                  <a:pt x="24" y="221"/>
                </a:lnTo>
                <a:lnTo>
                  <a:pt x="28" y="226"/>
                </a:lnTo>
                <a:lnTo>
                  <a:pt x="32" y="231"/>
                </a:lnTo>
                <a:lnTo>
                  <a:pt x="36" y="236"/>
                </a:lnTo>
                <a:lnTo>
                  <a:pt x="41" y="242"/>
                </a:lnTo>
                <a:lnTo>
                  <a:pt x="47" y="247"/>
                </a:lnTo>
                <a:lnTo>
                  <a:pt x="52" y="250"/>
                </a:lnTo>
                <a:lnTo>
                  <a:pt x="57" y="255"/>
                </a:lnTo>
                <a:lnTo>
                  <a:pt x="63" y="259"/>
                </a:lnTo>
                <a:lnTo>
                  <a:pt x="68" y="263"/>
                </a:lnTo>
                <a:lnTo>
                  <a:pt x="75" y="266"/>
                </a:lnTo>
                <a:lnTo>
                  <a:pt x="80" y="270"/>
                </a:lnTo>
                <a:lnTo>
                  <a:pt x="87" y="272"/>
                </a:lnTo>
                <a:lnTo>
                  <a:pt x="93" y="274"/>
                </a:lnTo>
                <a:lnTo>
                  <a:pt x="100" y="277"/>
                </a:lnTo>
                <a:lnTo>
                  <a:pt x="106" y="279"/>
                </a:lnTo>
                <a:lnTo>
                  <a:pt x="113" y="281"/>
                </a:lnTo>
                <a:lnTo>
                  <a:pt x="120" y="282"/>
                </a:lnTo>
                <a:lnTo>
                  <a:pt x="127" y="283"/>
                </a:lnTo>
                <a:lnTo>
                  <a:pt x="134" y="283"/>
                </a:lnTo>
                <a:lnTo>
                  <a:pt x="141" y="284"/>
                </a:lnTo>
                <a:lnTo>
                  <a:pt x="148" y="283"/>
                </a:lnTo>
                <a:lnTo>
                  <a:pt x="156" y="283"/>
                </a:lnTo>
                <a:lnTo>
                  <a:pt x="162" y="282"/>
                </a:lnTo>
                <a:lnTo>
                  <a:pt x="169" y="281"/>
                </a:lnTo>
                <a:lnTo>
                  <a:pt x="176" y="279"/>
                </a:lnTo>
                <a:lnTo>
                  <a:pt x="183" y="277"/>
                </a:lnTo>
                <a:lnTo>
                  <a:pt x="189" y="274"/>
                </a:lnTo>
                <a:lnTo>
                  <a:pt x="195" y="272"/>
                </a:lnTo>
                <a:lnTo>
                  <a:pt x="202" y="270"/>
                </a:lnTo>
                <a:lnTo>
                  <a:pt x="208" y="266"/>
                </a:lnTo>
                <a:lnTo>
                  <a:pt x="214" y="263"/>
                </a:lnTo>
                <a:lnTo>
                  <a:pt x="220" y="259"/>
                </a:lnTo>
                <a:lnTo>
                  <a:pt x="225" y="255"/>
                </a:lnTo>
                <a:lnTo>
                  <a:pt x="230" y="250"/>
                </a:lnTo>
                <a:lnTo>
                  <a:pt x="235" y="247"/>
                </a:lnTo>
                <a:lnTo>
                  <a:pt x="241" y="242"/>
                </a:lnTo>
                <a:lnTo>
                  <a:pt x="246" y="236"/>
                </a:lnTo>
                <a:lnTo>
                  <a:pt x="250" y="231"/>
                </a:lnTo>
                <a:lnTo>
                  <a:pt x="254" y="226"/>
                </a:lnTo>
                <a:lnTo>
                  <a:pt x="258" y="221"/>
                </a:lnTo>
                <a:lnTo>
                  <a:pt x="262" y="215"/>
                </a:lnTo>
                <a:lnTo>
                  <a:pt x="265" y="209"/>
                </a:lnTo>
                <a:lnTo>
                  <a:pt x="269" y="203"/>
                </a:lnTo>
                <a:lnTo>
                  <a:pt x="272" y="196"/>
                </a:lnTo>
                <a:lnTo>
                  <a:pt x="274" y="190"/>
                </a:lnTo>
                <a:lnTo>
                  <a:pt x="276" y="183"/>
                </a:lnTo>
                <a:lnTo>
                  <a:pt x="278" y="177"/>
                </a:lnTo>
                <a:lnTo>
                  <a:pt x="280" y="170"/>
                </a:lnTo>
                <a:lnTo>
                  <a:pt x="281" y="163"/>
                </a:lnTo>
                <a:lnTo>
                  <a:pt x="282" y="157"/>
                </a:lnTo>
                <a:lnTo>
                  <a:pt x="282" y="149"/>
                </a:lnTo>
                <a:lnTo>
                  <a:pt x="283" y="142"/>
                </a:lnTo>
                <a:lnTo>
                  <a:pt x="283" y="141"/>
                </a:lnTo>
                <a:lnTo>
                  <a:pt x="282" y="135"/>
                </a:lnTo>
                <a:lnTo>
                  <a:pt x="282" y="128"/>
                </a:lnTo>
                <a:lnTo>
                  <a:pt x="281" y="120"/>
                </a:lnTo>
                <a:lnTo>
                  <a:pt x="280" y="113"/>
                </a:lnTo>
                <a:lnTo>
                  <a:pt x="278" y="107"/>
                </a:lnTo>
                <a:lnTo>
                  <a:pt x="276" y="100"/>
                </a:lnTo>
                <a:lnTo>
                  <a:pt x="274" y="93"/>
                </a:lnTo>
                <a:lnTo>
                  <a:pt x="272" y="88"/>
                </a:lnTo>
                <a:lnTo>
                  <a:pt x="269" y="81"/>
                </a:lnTo>
                <a:lnTo>
                  <a:pt x="265" y="75"/>
                </a:lnTo>
                <a:lnTo>
                  <a:pt x="262" y="68"/>
                </a:lnTo>
                <a:lnTo>
                  <a:pt x="258" y="64"/>
                </a:lnTo>
                <a:lnTo>
                  <a:pt x="254" y="58"/>
                </a:lnTo>
                <a:lnTo>
                  <a:pt x="250" y="52"/>
                </a:lnTo>
                <a:lnTo>
                  <a:pt x="246" y="47"/>
                </a:lnTo>
                <a:lnTo>
                  <a:pt x="241" y="42"/>
                </a:lnTo>
                <a:lnTo>
                  <a:pt x="235" y="37"/>
                </a:lnTo>
                <a:lnTo>
                  <a:pt x="230" y="33"/>
                </a:lnTo>
                <a:lnTo>
                  <a:pt x="225" y="28"/>
                </a:lnTo>
                <a:lnTo>
                  <a:pt x="220" y="24"/>
                </a:lnTo>
                <a:lnTo>
                  <a:pt x="214" y="21"/>
                </a:lnTo>
                <a:lnTo>
                  <a:pt x="207" y="18"/>
                </a:lnTo>
                <a:lnTo>
                  <a:pt x="202" y="14"/>
                </a:lnTo>
                <a:lnTo>
                  <a:pt x="195" y="11"/>
                </a:lnTo>
                <a:lnTo>
                  <a:pt x="189" y="9"/>
                </a:lnTo>
                <a:lnTo>
                  <a:pt x="183" y="6"/>
                </a:lnTo>
                <a:lnTo>
                  <a:pt x="176" y="4"/>
                </a:lnTo>
                <a:lnTo>
                  <a:pt x="169" y="3"/>
                </a:lnTo>
                <a:lnTo>
                  <a:pt x="162" y="1"/>
                </a:lnTo>
                <a:lnTo>
                  <a:pt x="155" y="0"/>
                </a:lnTo>
                <a:lnTo>
                  <a:pt x="127" y="0"/>
                </a:lnTo>
                <a:lnTo>
                  <a:pt x="120" y="1"/>
                </a:lnTo>
                <a:lnTo>
                  <a:pt x="113" y="3"/>
                </a:lnTo>
                <a:lnTo>
                  <a:pt x="106" y="4"/>
                </a:lnTo>
                <a:lnTo>
                  <a:pt x="100" y="6"/>
                </a:lnTo>
                <a:lnTo>
                  <a:pt x="93" y="9"/>
                </a:lnTo>
                <a:lnTo>
                  <a:pt x="87" y="11"/>
                </a:lnTo>
                <a:lnTo>
                  <a:pt x="80" y="14"/>
                </a:lnTo>
                <a:lnTo>
                  <a:pt x="75" y="18"/>
                </a:lnTo>
                <a:lnTo>
                  <a:pt x="68" y="21"/>
                </a:lnTo>
                <a:lnTo>
                  <a:pt x="63" y="24"/>
                </a:lnTo>
                <a:lnTo>
                  <a:pt x="57" y="28"/>
                </a:lnTo>
                <a:lnTo>
                  <a:pt x="52" y="33"/>
                </a:lnTo>
                <a:lnTo>
                  <a:pt x="47" y="37"/>
                </a:lnTo>
                <a:lnTo>
                  <a:pt x="41" y="42"/>
                </a:lnTo>
                <a:lnTo>
                  <a:pt x="36" y="47"/>
                </a:lnTo>
                <a:lnTo>
                  <a:pt x="32" y="52"/>
                </a:lnTo>
                <a:lnTo>
                  <a:pt x="28" y="58"/>
                </a:lnTo>
                <a:lnTo>
                  <a:pt x="24" y="64"/>
                </a:lnTo>
                <a:lnTo>
                  <a:pt x="20" y="68"/>
                </a:lnTo>
                <a:lnTo>
                  <a:pt x="17" y="75"/>
                </a:lnTo>
                <a:lnTo>
                  <a:pt x="13" y="81"/>
                </a:lnTo>
                <a:lnTo>
                  <a:pt x="10" y="88"/>
                </a:lnTo>
                <a:lnTo>
                  <a:pt x="8" y="93"/>
                </a:lnTo>
                <a:lnTo>
                  <a:pt x="6" y="100"/>
                </a:lnTo>
                <a:lnTo>
                  <a:pt x="4" y="107"/>
                </a:lnTo>
                <a:lnTo>
                  <a:pt x="3" y="113"/>
                </a:lnTo>
                <a:lnTo>
                  <a:pt x="1" y="120"/>
                </a:lnTo>
                <a:lnTo>
                  <a:pt x="0" y="128"/>
                </a:lnTo>
                <a:lnTo>
                  <a:pt x="0" y="141"/>
                </a:lnTo>
                <a:lnTo>
                  <a:pt x="0" y="142"/>
                </a:lnTo>
                <a:lnTo>
                  <a:pt x="11" y="141"/>
                </a:lnTo>
                <a:lnTo>
                  <a:pt x="11" y="142"/>
                </a:lnTo>
                <a:lnTo>
                  <a:pt x="11" y="129"/>
                </a:lnTo>
                <a:lnTo>
                  <a:pt x="12" y="122"/>
                </a:lnTo>
                <a:lnTo>
                  <a:pt x="13" y="116"/>
                </a:lnTo>
                <a:lnTo>
                  <a:pt x="15" y="110"/>
                </a:lnTo>
                <a:lnTo>
                  <a:pt x="17" y="104"/>
                </a:lnTo>
                <a:lnTo>
                  <a:pt x="19" y="97"/>
                </a:lnTo>
                <a:lnTo>
                  <a:pt x="21" y="91"/>
                </a:lnTo>
                <a:lnTo>
                  <a:pt x="24" y="86"/>
                </a:lnTo>
                <a:lnTo>
                  <a:pt x="27" y="80"/>
                </a:lnTo>
                <a:lnTo>
                  <a:pt x="30" y="75"/>
                </a:lnTo>
                <a:lnTo>
                  <a:pt x="33" y="69"/>
                </a:lnTo>
                <a:lnTo>
                  <a:pt x="37" y="65"/>
                </a:lnTo>
                <a:lnTo>
                  <a:pt x="41" y="60"/>
                </a:lnTo>
                <a:lnTo>
                  <a:pt x="45" y="55"/>
                </a:lnTo>
                <a:lnTo>
                  <a:pt x="55" y="45"/>
                </a:lnTo>
                <a:lnTo>
                  <a:pt x="59" y="42"/>
                </a:lnTo>
                <a:lnTo>
                  <a:pt x="64" y="38"/>
                </a:lnTo>
                <a:lnTo>
                  <a:pt x="69" y="34"/>
                </a:lnTo>
                <a:lnTo>
                  <a:pt x="75" y="30"/>
                </a:lnTo>
                <a:lnTo>
                  <a:pt x="79" y="27"/>
                </a:lnTo>
                <a:lnTo>
                  <a:pt x="85" y="24"/>
                </a:lnTo>
                <a:lnTo>
                  <a:pt x="91" y="22"/>
                </a:lnTo>
                <a:lnTo>
                  <a:pt x="97" y="20"/>
                </a:lnTo>
                <a:lnTo>
                  <a:pt x="103" y="18"/>
                </a:lnTo>
                <a:lnTo>
                  <a:pt x="109" y="16"/>
                </a:lnTo>
                <a:lnTo>
                  <a:pt x="116" y="14"/>
                </a:lnTo>
                <a:lnTo>
                  <a:pt x="122" y="13"/>
                </a:lnTo>
                <a:lnTo>
                  <a:pt x="128" y="12"/>
                </a:lnTo>
                <a:lnTo>
                  <a:pt x="141" y="12"/>
                </a:lnTo>
                <a:lnTo>
                  <a:pt x="154" y="12"/>
                </a:lnTo>
                <a:lnTo>
                  <a:pt x="160" y="13"/>
                </a:lnTo>
                <a:lnTo>
                  <a:pt x="167" y="14"/>
                </a:lnTo>
                <a:lnTo>
                  <a:pt x="173" y="16"/>
                </a:lnTo>
                <a:lnTo>
                  <a:pt x="180" y="18"/>
                </a:lnTo>
                <a:lnTo>
                  <a:pt x="185" y="20"/>
                </a:lnTo>
                <a:lnTo>
                  <a:pt x="191" y="22"/>
                </a:lnTo>
                <a:lnTo>
                  <a:pt x="197" y="24"/>
                </a:lnTo>
                <a:lnTo>
                  <a:pt x="203" y="27"/>
                </a:lnTo>
                <a:lnTo>
                  <a:pt x="207" y="30"/>
                </a:lnTo>
                <a:lnTo>
                  <a:pt x="213" y="34"/>
                </a:lnTo>
                <a:lnTo>
                  <a:pt x="218" y="38"/>
                </a:lnTo>
                <a:lnTo>
                  <a:pt x="224" y="42"/>
                </a:lnTo>
                <a:lnTo>
                  <a:pt x="237" y="55"/>
                </a:lnTo>
                <a:lnTo>
                  <a:pt x="241" y="60"/>
                </a:lnTo>
                <a:lnTo>
                  <a:pt x="245" y="65"/>
                </a:lnTo>
                <a:lnTo>
                  <a:pt x="249" y="69"/>
                </a:lnTo>
                <a:lnTo>
                  <a:pt x="253" y="75"/>
                </a:lnTo>
                <a:lnTo>
                  <a:pt x="255" y="81"/>
                </a:lnTo>
                <a:lnTo>
                  <a:pt x="258" y="86"/>
                </a:lnTo>
                <a:lnTo>
                  <a:pt x="261" y="91"/>
                </a:lnTo>
                <a:lnTo>
                  <a:pt x="263" y="98"/>
                </a:lnTo>
                <a:lnTo>
                  <a:pt x="265" y="104"/>
                </a:lnTo>
                <a:lnTo>
                  <a:pt x="267" y="110"/>
                </a:lnTo>
                <a:lnTo>
                  <a:pt x="269" y="116"/>
                </a:lnTo>
                <a:lnTo>
                  <a:pt x="270" y="122"/>
                </a:lnTo>
                <a:lnTo>
                  <a:pt x="271" y="129"/>
                </a:lnTo>
                <a:lnTo>
                  <a:pt x="271" y="135"/>
                </a:lnTo>
                <a:lnTo>
                  <a:pt x="272" y="142"/>
                </a:lnTo>
                <a:lnTo>
                  <a:pt x="272" y="141"/>
                </a:lnTo>
                <a:lnTo>
                  <a:pt x="271" y="148"/>
                </a:lnTo>
                <a:lnTo>
                  <a:pt x="271" y="155"/>
                </a:lnTo>
                <a:lnTo>
                  <a:pt x="270" y="161"/>
                </a:lnTo>
                <a:lnTo>
                  <a:pt x="269" y="168"/>
                </a:lnTo>
                <a:lnTo>
                  <a:pt x="267" y="174"/>
                </a:lnTo>
                <a:lnTo>
                  <a:pt x="265" y="180"/>
                </a:lnTo>
                <a:lnTo>
                  <a:pt x="263" y="186"/>
                </a:lnTo>
                <a:lnTo>
                  <a:pt x="261" y="192"/>
                </a:lnTo>
                <a:lnTo>
                  <a:pt x="258" y="198"/>
                </a:lnTo>
                <a:lnTo>
                  <a:pt x="255" y="203"/>
                </a:lnTo>
                <a:lnTo>
                  <a:pt x="253" y="208"/>
                </a:lnTo>
                <a:lnTo>
                  <a:pt x="249" y="214"/>
                </a:lnTo>
                <a:lnTo>
                  <a:pt x="245" y="219"/>
                </a:lnTo>
                <a:lnTo>
                  <a:pt x="241" y="225"/>
                </a:lnTo>
                <a:lnTo>
                  <a:pt x="224" y="242"/>
                </a:lnTo>
                <a:lnTo>
                  <a:pt x="218" y="246"/>
                </a:lnTo>
                <a:lnTo>
                  <a:pt x="213" y="249"/>
                </a:lnTo>
                <a:lnTo>
                  <a:pt x="207" y="253"/>
                </a:lnTo>
                <a:lnTo>
                  <a:pt x="203" y="256"/>
                </a:lnTo>
                <a:lnTo>
                  <a:pt x="197" y="259"/>
                </a:lnTo>
                <a:lnTo>
                  <a:pt x="191" y="262"/>
                </a:lnTo>
                <a:lnTo>
                  <a:pt x="185" y="264"/>
                </a:lnTo>
                <a:lnTo>
                  <a:pt x="180" y="266"/>
                </a:lnTo>
                <a:lnTo>
                  <a:pt x="173" y="268"/>
                </a:lnTo>
                <a:lnTo>
                  <a:pt x="167" y="270"/>
                </a:lnTo>
                <a:lnTo>
                  <a:pt x="160" y="271"/>
                </a:lnTo>
                <a:lnTo>
                  <a:pt x="154" y="271"/>
                </a:lnTo>
                <a:lnTo>
                  <a:pt x="147" y="271"/>
                </a:lnTo>
                <a:lnTo>
                  <a:pt x="141" y="272"/>
                </a:lnTo>
                <a:lnTo>
                  <a:pt x="135" y="271"/>
                </a:lnTo>
                <a:lnTo>
                  <a:pt x="128" y="271"/>
                </a:lnTo>
                <a:lnTo>
                  <a:pt x="122" y="271"/>
                </a:lnTo>
                <a:lnTo>
                  <a:pt x="116" y="270"/>
                </a:lnTo>
                <a:lnTo>
                  <a:pt x="109" y="268"/>
                </a:lnTo>
                <a:lnTo>
                  <a:pt x="103" y="266"/>
                </a:lnTo>
                <a:lnTo>
                  <a:pt x="98" y="264"/>
                </a:lnTo>
                <a:lnTo>
                  <a:pt x="91" y="262"/>
                </a:lnTo>
                <a:lnTo>
                  <a:pt x="85" y="259"/>
                </a:lnTo>
                <a:lnTo>
                  <a:pt x="80" y="256"/>
                </a:lnTo>
                <a:lnTo>
                  <a:pt x="75" y="253"/>
                </a:lnTo>
                <a:lnTo>
                  <a:pt x="69" y="249"/>
                </a:lnTo>
                <a:lnTo>
                  <a:pt x="64" y="246"/>
                </a:lnTo>
                <a:lnTo>
                  <a:pt x="59" y="242"/>
                </a:lnTo>
                <a:lnTo>
                  <a:pt x="55" y="238"/>
                </a:lnTo>
                <a:lnTo>
                  <a:pt x="41" y="225"/>
                </a:lnTo>
                <a:lnTo>
                  <a:pt x="37" y="219"/>
                </a:lnTo>
                <a:lnTo>
                  <a:pt x="33" y="214"/>
                </a:lnTo>
                <a:lnTo>
                  <a:pt x="30" y="208"/>
                </a:lnTo>
                <a:lnTo>
                  <a:pt x="27" y="203"/>
                </a:lnTo>
                <a:lnTo>
                  <a:pt x="24" y="198"/>
                </a:lnTo>
                <a:lnTo>
                  <a:pt x="21" y="192"/>
                </a:lnTo>
                <a:lnTo>
                  <a:pt x="19" y="186"/>
                </a:lnTo>
                <a:lnTo>
                  <a:pt x="17" y="180"/>
                </a:lnTo>
                <a:lnTo>
                  <a:pt x="15" y="174"/>
                </a:lnTo>
                <a:lnTo>
                  <a:pt x="13" y="168"/>
                </a:lnTo>
                <a:lnTo>
                  <a:pt x="12" y="161"/>
                </a:lnTo>
                <a:lnTo>
                  <a:pt x="11" y="155"/>
                </a:lnTo>
                <a:lnTo>
                  <a:pt x="11" y="141"/>
                </a:lnTo>
                <a:lnTo>
                  <a:pt x="0" y="14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18320" y="1871640"/>
            <a:ext cx="417240" cy="452520"/>
          </a:xfrm>
          <a:custGeom>
            <a:avLst/>
            <a:gdLst/>
            <a:ahLst/>
            <a:rect l="l" t="t" r="r" b="b"/>
            <a:pathLst>
              <a:path w="285" h="285">
                <a:moveTo>
                  <a:pt x="5" y="0"/>
                </a:move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0" y="281"/>
                </a:lnTo>
                <a:lnTo>
                  <a:pt x="1" y="282"/>
                </a:lnTo>
                <a:lnTo>
                  <a:pt x="3" y="283"/>
                </a:lnTo>
                <a:lnTo>
                  <a:pt x="4" y="283"/>
                </a:lnTo>
                <a:lnTo>
                  <a:pt x="5" y="284"/>
                </a:lnTo>
                <a:lnTo>
                  <a:pt x="278" y="284"/>
                </a:lnTo>
                <a:lnTo>
                  <a:pt x="279" y="283"/>
                </a:lnTo>
                <a:lnTo>
                  <a:pt x="281" y="283"/>
                </a:lnTo>
                <a:lnTo>
                  <a:pt x="283" y="281"/>
                </a:lnTo>
                <a:lnTo>
                  <a:pt x="283" y="279"/>
                </a:lnTo>
                <a:lnTo>
                  <a:pt x="284" y="278"/>
                </a:lnTo>
                <a:lnTo>
                  <a:pt x="284" y="6"/>
                </a:lnTo>
                <a:lnTo>
                  <a:pt x="283" y="4"/>
                </a:lnTo>
                <a:lnTo>
                  <a:pt x="283" y="3"/>
                </a:lnTo>
                <a:lnTo>
                  <a:pt x="282" y="1"/>
                </a:lnTo>
                <a:lnTo>
                  <a:pt x="281" y="0"/>
                </a:lnTo>
                <a:lnTo>
                  <a:pt x="278" y="0"/>
                </a:lnTo>
                <a:lnTo>
                  <a:pt x="5" y="0"/>
                </a:lnTo>
                <a:lnTo>
                  <a:pt x="5" y="12"/>
                </a:lnTo>
                <a:lnTo>
                  <a:pt x="278" y="12"/>
                </a:lnTo>
                <a:lnTo>
                  <a:pt x="272" y="6"/>
                </a:lnTo>
                <a:lnTo>
                  <a:pt x="272" y="278"/>
                </a:lnTo>
                <a:lnTo>
                  <a:pt x="278" y="272"/>
                </a:lnTo>
                <a:lnTo>
                  <a:pt x="5" y="272"/>
                </a:lnTo>
                <a:lnTo>
                  <a:pt x="11" y="278"/>
                </a:lnTo>
                <a:lnTo>
                  <a:pt x="11" y="6"/>
                </a:lnTo>
                <a:lnTo>
                  <a:pt x="5" y="12"/>
                </a:lnTo>
                <a:lnTo>
                  <a:pt x="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1000" y="1871640"/>
            <a:ext cx="417600" cy="452520"/>
          </a:xfrm>
          <a:custGeom>
            <a:avLst/>
            <a:gdLst/>
            <a:ahLst/>
            <a:rect l="l" t="t" r="r" b="b"/>
            <a:pathLst>
              <a:path w="285" h="285">
                <a:moveTo>
                  <a:pt x="11" y="3"/>
                </a:moveTo>
                <a:lnTo>
                  <a:pt x="6" y="12"/>
                </a:lnTo>
                <a:lnTo>
                  <a:pt x="278" y="12"/>
                </a:lnTo>
                <a:lnTo>
                  <a:pt x="272" y="3"/>
                </a:lnTo>
                <a:lnTo>
                  <a:pt x="136" y="275"/>
                </a:lnTo>
                <a:lnTo>
                  <a:pt x="147" y="275"/>
                </a:lnTo>
                <a:lnTo>
                  <a:pt x="11" y="3"/>
                </a:lnTo>
                <a:lnTo>
                  <a:pt x="0" y="8"/>
                </a:lnTo>
                <a:lnTo>
                  <a:pt x="136" y="280"/>
                </a:lnTo>
                <a:lnTo>
                  <a:pt x="140" y="284"/>
                </a:lnTo>
                <a:lnTo>
                  <a:pt x="142" y="284"/>
                </a:lnTo>
                <a:lnTo>
                  <a:pt x="144" y="283"/>
                </a:lnTo>
                <a:lnTo>
                  <a:pt x="145" y="283"/>
                </a:lnTo>
                <a:lnTo>
                  <a:pt x="146" y="282"/>
                </a:lnTo>
                <a:lnTo>
                  <a:pt x="147" y="280"/>
                </a:lnTo>
                <a:lnTo>
                  <a:pt x="283" y="8"/>
                </a:lnTo>
                <a:lnTo>
                  <a:pt x="283" y="7"/>
                </a:lnTo>
                <a:lnTo>
                  <a:pt x="284" y="6"/>
                </a:lnTo>
                <a:lnTo>
                  <a:pt x="283" y="4"/>
                </a:lnTo>
                <a:lnTo>
                  <a:pt x="283" y="3"/>
                </a:lnTo>
                <a:lnTo>
                  <a:pt x="282" y="1"/>
                </a:lnTo>
                <a:lnTo>
                  <a:pt x="281" y="0"/>
                </a:lnTo>
                <a:lnTo>
                  <a:pt x="3" y="0"/>
                </a:lnTo>
                <a:lnTo>
                  <a:pt x="1" y="2"/>
                </a:lnTo>
                <a:lnTo>
                  <a:pt x="0" y="4"/>
                </a:lnTo>
                <a:lnTo>
                  <a:pt x="0" y="8"/>
                </a:lnTo>
                <a:lnTo>
                  <a:pt x="11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27520" y="1871640"/>
            <a:ext cx="415800" cy="452520"/>
          </a:xfrm>
          <a:custGeom>
            <a:avLst/>
            <a:gdLst/>
            <a:ahLst/>
            <a:rect l="l" t="t" r="r" b="b"/>
            <a:pathLst>
              <a:path w="284" h="285">
                <a:moveTo>
                  <a:pt x="281" y="146"/>
                </a:moveTo>
                <a:lnTo>
                  <a:pt x="282" y="145"/>
                </a:lnTo>
                <a:lnTo>
                  <a:pt x="282" y="143"/>
                </a:lnTo>
                <a:lnTo>
                  <a:pt x="283" y="142"/>
                </a:lnTo>
                <a:lnTo>
                  <a:pt x="282" y="140"/>
                </a:lnTo>
                <a:lnTo>
                  <a:pt x="282" y="139"/>
                </a:lnTo>
                <a:lnTo>
                  <a:pt x="281" y="137"/>
                </a:lnTo>
                <a:lnTo>
                  <a:pt x="146" y="1"/>
                </a:lnTo>
                <a:lnTo>
                  <a:pt x="145" y="0"/>
                </a:lnTo>
                <a:lnTo>
                  <a:pt x="139" y="0"/>
                </a:lnTo>
                <a:lnTo>
                  <a:pt x="137" y="1"/>
                </a:lnTo>
                <a:lnTo>
                  <a:pt x="136" y="3"/>
                </a:lnTo>
                <a:lnTo>
                  <a:pt x="136" y="88"/>
                </a:lnTo>
                <a:lnTo>
                  <a:pt x="142" y="82"/>
                </a:lnTo>
                <a:lnTo>
                  <a:pt x="3" y="82"/>
                </a:lnTo>
                <a:lnTo>
                  <a:pt x="1" y="83"/>
                </a:lnTo>
                <a:lnTo>
                  <a:pt x="0" y="85"/>
                </a:lnTo>
                <a:lnTo>
                  <a:pt x="0" y="200"/>
                </a:lnTo>
                <a:lnTo>
                  <a:pt x="1" y="201"/>
                </a:lnTo>
                <a:lnTo>
                  <a:pt x="3" y="202"/>
                </a:lnTo>
                <a:lnTo>
                  <a:pt x="4" y="202"/>
                </a:lnTo>
                <a:lnTo>
                  <a:pt x="6" y="203"/>
                </a:lnTo>
                <a:lnTo>
                  <a:pt x="142" y="203"/>
                </a:lnTo>
                <a:lnTo>
                  <a:pt x="136" y="197"/>
                </a:lnTo>
                <a:lnTo>
                  <a:pt x="136" y="281"/>
                </a:lnTo>
                <a:lnTo>
                  <a:pt x="137" y="282"/>
                </a:lnTo>
                <a:lnTo>
                  <a:pt x="139" y="283"/>
                </a:lnTo>
                <a:lnTo>
                  <a:pt x="140" y="283"/>
                </a:lnTo>
                <a:lnTo>
                  <a:pt x="142" y="284"/>
                </a:lnTo>
                <a:lnTo>
                  <a:pt x="143" y="283"/>
                </a:lnTo>
                <a:lnTo>
                  <a:pt x="145" y="283"/>
                </a:lnTo>
                <a:lnTo>
                  <a:pt x="146" y="282"/>
                </a:lnTo>
                <a:lnTo>
                  <a:pt x="281" y="146"/>
                </a:lnTo>
                <a:lnTo>
                  <a:pt x="272" y="137"/>
                </a:lnTo>
                <a:lnTo>
                  <a:pt x="137" y="273"/>
                </a:lnTo>
                <a:lnTo>
                  <a:pt x="148" y="278"/>
                </a:lnTo>
                <a:lnTo>
                  <a:pt x="148" y="197"/>
                </a:lnTo>
                <a:lnTo>
                  <a:pt x="147" y="195"/>
                </a:lnTo>
                <a:lnTo>
                  <a:pt x="147" y="194"/>
                </a:lnTo>
                <a:lnTo>
                  <a:pt x="146" y="192"/>
                </a:lnTo>
                <a:lnTo>
                  <a:pt x="145" y="191"/>
                </a:lnTo>
                <a:lnTo>
                  <a:pt x="6" y="191"/>
                </a:lnTo>
                <a:lnTo>
                  <a:pt x="11" y="197"/>
                </a:lnTo>
                <a:lnTo>
                  <a:pt x="11" y="88"/>
                </a:lnTo>
                <a:lnTo>
                  <a:pt x="6" y="93"/>
                </a:lnTo>
                <a:lnTo>
                  <a:pt x="142" y="93"/>
                </a:lnTo>
                <a:lnTo>
                  <a:pt x="143" y="92"/>
                </a:lnTo>
                <a:lnTo>
                  <a:pt x="145" y="92"/>
                </a:lnTo>
                <a:lnTo>
                  <a:pt x="147" y="90"/>
                </a:lnTo>
                <a:lnTo>
                  <a:pt x="147" y="89"/>
                </a:lnTo>
                <a:lnTo>
                  <a:pt x="148" y="88"/>
                </a:lnTo>
                <a:lnTo>
                  <a:pt x="148" y="6"/>
                </a:lnTo>
                <a:lnTo>
                  <a:pt x="137" y="10"/>
                </a:lnTo>
                <a:lnTo>
                  <a:pt x="272" y="146"/>
                </a:lnTo>
                <a:lnTo>
                  <a:pt x="272" y="137"/>
                </a:lnTo>
                <a:lnTo>
                  <a:pt x="281" y="14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57480" y="2678040"/>
            <a:ext cx="155880" cy="165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3143160"/>
            <a:ext cx="152640" cy="168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94000" y="3755880"/>
            <a:ext cx="152640" cy="165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94000" y="4832280"/>
            <a:ext cx="152640" cy="166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8280" y="5442120"/>
            <a:ext cx="154080" cy="166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84800" y="4365720"/>
            <a:ext cx="155520" cy="16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60600" y="2732040"/>
            <a:ext cx="2676600" cy="2824200"/>
          </a:xfrm>
          <a:custGeom>
            <a:avLst/>
            <a:gdLst/>
            <a:ahLst/>
            <a:rect l="l" t="t" r="r" b="b"/>
            <a:pathLst>
              <a:path w="1825" h="1779">
                <a:moveTo>
                  <a:pt x="462" y="11"/>
                </a:moveTo>
                <a:lnTo>
                  <a:pt x="463" y="9"/>
                </a:lnTo>
                <a:lnTo>
                  <a:pt x="465" y="7"/>
                </a:lnTo>
                <a:lnTo>
                  <a:pt x="465" y="5"/>
                </a:lnTo>
                <a:lnTo>
                  <a:pt x="464" y="4"/>
                </a:lnTo>
                <a:lnTo>
                  <a:pt x="464" y="2"/>
                </a:lnTo>
                <a:lnTo>
                  <a:pt x="462" y="1"/>
                </a:lnTo>
                <a:lnTo>
                  <a:pt x="461" y="0"/>
                </a:lnTo>
                <a:lnTo>
                  <a:pt x="457" y="0"/>
                </a:lnTo>
                <a:lnTo>
                  <a:pt x="456" y="1"/>
                </a:lnTo>
                <a:lnTo>
                  <a:pt x="2" y="318"/>
                </a:lnTo>
                <a:lnTo>
                  <a:pt x="0" y="320"/>
                </a:lnTo>
                <a:lnTo>
                  <a:pt x="0" y="711"/>
                </a:lnTo>
                <a:lnTo>
                  <a:pt x="1" y="712"/>
                </a:lnTo>
                <a:lnTo>
                  <a:pt x="3" y="713"/>
                </a:lnTo>
                <a:lnTo>
                  <a:pt x="4" y="713"/>
                </a:lnTo>
                <a:lnTo>
                  <a:pt x="1364" y="1098"/>
                </a:lnTo>
                <a:lnTo>
                  <a:pt x="1364" y="1087"/>
                </a:lnTo>
                <a:lnTo>
                  <a:pt x="4" y="1358"/>
                </a:lnTo>
                <a:lnTo>
                  <a:pt x="3" y="1358"/>
                </a:lnTo>
                <a:lnTo>
                  <a:pt x="1" y="1360"/>
                </a:lnTo>
                <a:lnTo>
                  <a:pt x="0" y="1362"/>
                </a:lnTo>
                <a:lnTo>
                  <a:pt x="0" y="1366"/>
                </a:lnTo>
                <a:lnTo>
                  <a:pt x="1" y="1368"/>
                </a:lnTo>
                <a:lnTo>
                  <a:pt x="2" y="1369"/>
                </a:lnTo>
                <a:lnTo>
                  <a:pt x="4" y="1369"/>
                </a:lnTo>
                <a:lnTo>
                  <a:pt x="1816" y="1777"/>
                </a:lnTo>
                <a:lnTo>
                  <a:pt x="1818" y="1778"/>
                </a:lnTo>
                <a:lnTo>
                  <a:pt x="1819" y="1777"/>
                </a:lnTo>
                <a:lnTo>
                  <a:pt x="1821" y="1777"/>
                </a:lnTo>
                <a:lnTo>
                  <a:pt x="1822" y="1776"/>
                </a:lnTo>
                <a:lnTo>
                  <a:pt x="1823" y="1774"/>
                </a:lnTo>
                <a:lnTo>
                  <a:pt x="1823" y="1773"/>
                </a:lnTo>
                <a:lnTo>
                  <a:pt x="1824" y="1771"/>
                </a:lnTo>
                <a:lnTo>
                  <a:pt x="1823" y="1770"/>
                </a:lnTo>
                <a:lnTo>
                  <a:pt x="1823" y="1768"/>
                </a:lnTo>
                <a:lnTo>
                  <a:pt x="1822" y="1767"/>
                </a:lnTo>
                <a:lnTo>
                  <a:pt x="1820" y="1766"/>
                </a:lnTo>
                <a:lnTo>
                  <a:pt x="1819" y="1766"/>
                </a:lnTo>
                <a:lnTo>
                  <a:pt x="7" y="1358"/>
                </a:lnTo>
                <a:lnTo>
                  <a:pt x="7" y="1370"/>
                </a:lnTo>
                <a:lnTo>
                  <a:pt x="1367" y="1099"/>
                </a:lnTo>
                <a:lnTo>
                  <a:pt x="1367" y="1098"/>
                </a:lnTo>
                <a:lnTo>
                  <a:pt x="1368" y="1098"/>
                </a:lnTo>
                <a:lnTo>
                  <a:pt x="1370" y="1096"/>
                </a:lnTo>
                <a:lnTo>
                  <a:pt x="1370" y="1094"/>
                </a:lnTo>
                <a:lnTo>
                  <a:pt x="1371" y="1093"/>
                </a:lnTo>
                <a:lnTo>
                  <a:pt x="1370" y="1091"/>
                </a:lnTo>
                <a:lnTo>
                  <a:pt x="1370" y="1090"/>
                </a:lnTo>
                <a:lnTo>
                  <a:pt x="1369" y="1088"/>
                </a:lnTo>
                <a:lnTo>
                  <a:pt x="1368" y="1087"/>
                </a:lnTo>
                <a:lnTo>
                  <a:pt x="1367" y="1087"/>
                </a:lnTo>
                <a:lnTo>
                  <a:pt x="7" y="702"/>
                </a:lnTo>
                <a:lnTo>
                  <a:pt x="12" y="708"/>
                </a:lnTo>
                <a:lnTo>
                  <a:pt x="12" y="323"/>
                </a:lnTo>
                <a:lnTo>
                  <a:pt x="9" y="328"/>
                </a:lnTo>
                <a:lnTo>
                  <a:pt x="462" y="1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5fc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720" y="1592280"/>
            <a:ext cx="8234640" cy="4417920"/>
          </a:xfrm>
          <a:prstGeom prst="rect">
            <a:avLst/>
          </a:prstGeom>
          <a:noFill/>
          <a:ln w="12600">
            <a:solidFill>
              <a:srgbClr val="f5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043000" y="228600"/>
          <a:ext cx="496728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3000" y="228600"/>
                    <a:ext cx="49672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TECNICA ASME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51040" y="990360"/>
            <a:ext cx="7448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PUNTI DI FORZA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spcBef>
                <a:spcPts val="700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EMPLICITA’ DI REDAZIONE E DI LETTURA</a:t>
            </a:r>
            <a:br>
              <a:rPr sz="2800"/>
            </a:b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spcBef>
                <a:spcPts val="700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IDENTIFICAZIONE IMMEDIATA DELLE ATTIVITA’ SENZA VALORE AGGIUNTO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spcBef>
                <a:spcPts val="700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OSSIBILITA’ DI LETTURA VERTICALE (n° di trasferimenti, stoccaggi ecc. e loro scomposizioni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3560" y="0"/>
            <a:ext cx="8299440" cy="14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c62"/>
                </a:solidFill>
                <a:latin typeface="Arial"/>
              </a:rPr>
              <a:t>FLUSSO DEL PROCESSO: DIAGRAMMA DI FLUSSO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63800" y="3649680"/>
            <a:ext cx="279360" cy="301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02040" y="5413320"/>
            <a:ext cx="1017360" cy="534960"/>
          </a:xfrm>
          <a:custGeom>
            <a:avLst/>
            <a:gdLst/>
            <a:ahLst/>
            <a:rect l="l" t="t" r="r" b="b"/>
            <a:pathLst>
              <a:path w="695" h="337">
                <a:moveTo>
                  <a:pt x="0" y="0"/>
                </a:moveTo>
                <a:lnTo>
                  <a:pt x="0" y="258"/>
                </a:lnTo>
                <a:lnTo>
                  <a:pt x="1" y="258"/>
                </a:lnTo>
                <a:lnTo>
                  <a:pt x="3" y="258"/>
                </a:lnTo>
                <a:lnTo>
                  <a:pt x="3" y="260"/>
                </a:lnTo>
                <a:lnTo>
                  <a:pt x="5" y="260"/>
                </a:lnTo>
                <a:lnTo>
                  <a:pt x="6" y="262"/>
                </a:lnTo>
                <a:lnTo>
                  <a:pt x="7" y="262"/>
                </a:lnTo>
                <a:lnTo>
                  <a:pt x="7" y="263"/>
                </a:lnTo>
                <a:lnTo>
                  <a:pt x="9" y="263"/>
                </a:lnTo>
                <a:lnTo>
                  <a:pt x="10" y="265"/>
                </a:lnTo>
                <a:lnTo>
                  <a:pt x="12" y="265"/>
                </a:lnTo>
                <a:lnTo>
                  <a:pt x="13" y="267"/>
                </a:lnTo>
                <a:lnTo>
                  <a:pt x="14" y="267"/>
                </a:lnTo>
                <a:lnTo>
                  <a:pt x="14" y="268"/>
                </a:lnTo>
                <a:lnTo>
                  <a:pt x="16" y="268"/>
                </a:lnTo>
                <a:lnTo>
                  <a:pt x="17" y="270"/>
                </a:lnTo>
                <a:lnTo>
                  <a:pt x="19" y="270"/>
                </a:lnTo>
                <a:lnTo>
                  <a:pt x="20" y="272"/>
                </a:lnTo>
                <a:lnTo>
                  <a:pt x="22" y="272"/>
                </a:lnTo>
                <a:lnTo>
                  <a:pt x="23" y="274"/>
                </a:lnTo>
                <a:lnTo>
                  <a:pt x="25" y="274"/>
                </a:lnTo>
                <a:lnTo>
                  <a:pt x="26" y="276"/>
                </a:lnTo>
                <a:lnTo>
                  <a:pt x="26" y="277"/>
                </a:lnTo>
                <a:lnTo>
                  <a:pt x="28" y="277"/>
                </a:lnTo>
                <a:lnTo>
                  <a:pt x="29" y="279"/>
                </a:lnTo>
                <a:lnTo>
                  <a:pt x="31" y="279"/>
                </a:lnTo>
                <a:lnTo>
                  <a:pt x="32" y="280"/>
                </a:lnTo>
                <a:lnTo>
                  <a:pt x="34" y="280"/>
                </a:lnTo>
                <a:lnTo>
                  <a:pt x="34" y="281"/>
                </a:lnTo>
                <a:lnTo>
                  <a:pt x="36" y="281"/>
                </a:lnTo>
                <a:lnTo>
                  <a:pt x="37" y="283"/>
                </a:lnTo>
                <a:lnTo>
                  <a:pt x="39" y="283"/>
                </a:lnTo>
                <a:lnTo>
                  <a:pt x="39" y="284"/>
                </a:lnTo>
                <a:lnTo>
                  <a:pt x="41" y="284"/>
                </a:lnTo>
                <a:lnTo>
                  <a:pt x="41" y="285"/>
                </a:lnTo>
                <a:lnTo>
                  <a:pt x="43" y="285"/>
                </a:lnTo>
                <a:lnTo>
                  <a:pt x="44" y="287"/>
                </a:lnTo>
                <a:lnTo>
                  <a:pt x="46" y="287"/>
                </a:lnTo>
                <a:lnTo>
                  <a:pt x="46" y="288"/>
                </a:lnTo>
                <a:lnTo>
                  <a:pt x="48" y="288"/>
                </a:lnTo>
                <a:lnTo>
                  <a:pt x="48" y="289"/>
                </a:lnTo>
                <a:lnTo>
                  <a:pt x="49" y="289"/>
                </a:lnTo>
                <a:lnTo>
                  <a:pt x="50" y="291"/>
                </a:lnTo>
                <a:lnTo>
                  <a:pt x="52" y="291"/>
                </a:lnTo>
                <a:lnTo>
                  <a:pt x="52" y="292"/>
                </a:lnTo>
                <a:lnTo>
                  <a:pt x="54" y="292"/>
                </a:lnTo>
                <a:lnTo>
                  <a:pt x="54" y="293"/>
                </a:lnTo>
                <a:lnTo>
                  <a:pt x="56" y="293"/>
                </a:lnTo>
                <a:lnTo>
                  <a:pt x="57" y="295"/>
                </a:lnTo>
                <a:lnTo>
                  <a:pt x="59" y="295"/>
                </a:lnTo>
                <a:lnTo>
                  <a:pt x="59" y="296"/>
                </a:lnTo>
                <a:lnTo>
                  <a:pt x="61" y="296"/>
                </a:lnTo>
                <a:lnTo>
                  <a:pt x="61" y="297"/>
                </a:lnTo>
                <a:lnTo>
                  <a:pt x="63" y="297"/>
                </a:lnTo>
                <a:lnTo>
                  <a:pt x="64" y="299"/>
                </a:lnTo>
                <a:lnTo>
                  <a:pt x="66" y="299"/>
                </a:lnTo>
                <a:lnTo>
                  <a:pt x="66" y="300"/>
                </a:lnTo>
                <a:lnTo>
                  <a:pt x="69" y="300"/>
                </a:lnTo>
                <a:lnTo>
                  <a:pt x="69" y="301"/>
                </a:lnTo>
                <a:lnTo>
                  <a:pt x="71" y="301"/>
                </a:lnTo>
                <a:lnTo>
                  <a:pt x="71" y="302"/>
                </a:lnTo>
                <a:lnTo>
                  <a:pt x="73" y="302"/>
                </a:lnTo>
                <a:lnTo>
                  <a:pt x="73" y="303"/>
                </a:lnTo>
                <a:lnTo>
                  <a:pt x="75" y="303"/>
                </a:lnTo>
                <a:lnTo>
                  <a:pt x="77" y="303"/>
                </a:lnTo>
                <a:lnTo>
                  <a:pt x="78" y="305"/>
                </a:lnTo>
                <a:lnTo>
                  <a:pt x="80" y="305"/>
                </a:lnTo>
                <a:lnTo>
                  <a:pt x="80" y="306"/>
                </a:lnTo>
                <a:lnTo>
                  <a:pt x="82" y="306"/>
                </a:lnTo>
                <a:lnTo>
                  <a:pt x="82" y="307"/>
                </a:lnTo>
                <a:lnTo>
                  <a:pt x="85" y="307"/>
                </a:lnTo>
                <a:lnTo>
                  <a:pt x="85" y="308"/>
                </a:lnTo>
                <a:lnTo>
                  <a:pt x="87" y="308"/>
                </a:lnTo>
                <a:lnTo>
                  <a:pt x="87" y="309"/>
                </a:lnTo>
                <a:lnTo>
                  <a:pt x="89" y="309"/>
                </a:lnTo>
                <a:lnTo>
                  <a:pt x="89" y="310"/>
                </a:lnTo>
                <a:lnTo>
                  <a:pt x="92" y="310"/>
                </a:lnTo>
                <a:lnTo>
                  <a:pt x="92" y="311"/>
                </a:lnTo>
                <a:lnTo>
                  <a:pt x="94" y="311"/>
                </a:lnTo>
                <a:lnTo>
                  <a:pt x="94" y="312"/>
                </a:lnTo>
                <a:lnTo>
                  <a:pt x="96" y="312"/>
                </a:lnTo>
                <a:lnTo>
                  <a:pt x="96" y="313"/>
                </a:lnTo>
                <a:lnTo>
                  <a:pt x="98" y="313"/>
                </a:lnTo>
                <a:lnTo>
                  <a:pt x="98" y="314"/>
                </a:lnTo>
                <a:lnTo>
                  <a:pt x="100" y="314"/>
                </a:lnTo>
                <a:lnTo>
                  <a:pt x="100" y="315"/>
                </a:lnTo>
                <a:lnTo>
                  <a:pt x="104" y="315"/>
                </a:lnTo>
                <a:lnTo>
                  <a:pt x="104" y="316"/>
                </a:lnTo>
                <a:lnTo>
                  <a:pt x="108" y="316"/>
                </a:lnTo>
                <a:lnTo>
                  <a:pt x="108" y="317"/>
                </a:lnTo>
                <a:lnTo>
                  <a:pt x="110" y="317"/>
                </a:lnTo>
                <a:lnTo>
                  <a:pt x="110" y="318"/>
                </a:lnTo>
                <a:lnTo>
                  <a:pt x="113" y="318"/>
                </a:lnTo>
                <a:lnTo>
                  <a:pt x="113" y="319"/>
                </a:lnTo>
                <a:lnTo>
                  <a:pt x="115" y="319"/>
                </a:lnTo>
                <a:lnTo>
                  <a:pt x="115" y="320"/>
                </a:lnTo>
                <a:lnTo>
                  <a:pt x="119" y="320"/>
                </a:lnTo>
                <a:lnTo>
                  <a:pt x="119" y="321"/>
                </a:lnTo>
                <a:lnTo>
                  <a:pt x="121" y="321"/>
                </a:lnTo>
                <a:lnTo>
                  <a:pt x="121" y="322"/>
                </a:lnTo>
                <a:lnTo>
                  <a:pt x="125" y="322"/>
                </a:lnTo>
                <a:lnTo>
                  <a:pt x="125" y="323"/>
                </a:lnTo>
                <a:lnTo>
                  <a:pt x="128" y="323"/>
                </a:lnTo>
                <a:lnTo>
                  <a:pt x="128" y="324"/>
                </a:lnTo>
                <a:lnTo>
                  <a:pt x="132" y="324"/>
                </a:lnTo>
                <a:lnTo>
                  <a:pt x="132" y="325"/>
                </a:lnTo>
                <a:lnTo>
                  <a:pt x="136" y="325"/>
                </a:lnTo>
                <a:lnTo>
                  <a:pt x="140" y="325"/>
                </a:lnTo>
                <a:lnTo>
                  <a:pt x="140" y="326"/>
                </a:lnTo>
                <a:lnTo>
                  <a:pt x="142" y="326"/>
                </a:lnTo>
                <a:lnTo>
                  <a:pt x="142" y="327"/>
                </a:lnTo>
                <a:lnTo>
                  <a:pt x="146" y="327"/>
                </a:lnTo>
                <a:lnTo>
                  <a:pt x="146" y="328"/>
                </a:lnTo>
                <a:lnTo>
                  <a:pt x="149" y="328"/>
                </a:lnTo>
                <a:lnTo>
                  <a:pt x="149" y="329"/>
                </a:lnTo>
                <a:lnTo>
                  <a:pt x="157" y="329"/>
                </a:lnTo>
                <a:lnTo>
                  <a:pt x="157" y="330"/>
                </a:lnTo>
                <a:lnTo>
                  <a:pt x="161" y="330"/>
                </a:lnTo>
                <a:lnTo>
                  <a:pt x="161" y="331"/>
                </a:lnTo>
                <a:lnTo>
                  <a:pt x="164" y="331"/>
                </a:lnTo>
                <a:lnTo>
                  <a:pt x="164" y="332"/>
                </a:lnTo>
                <a:lnTo>
                  <a:pt x="171" y="332"/>
                </a:lnTo>
                <a:lnTo>
                  <a:pt x="171" y="333"/>
                </a:lnTo>
                <a:lnTo>
                  <a:pt x="178" y="333"/>
                </a:lnTo>
                <a:lnTo>
                  <a:pt x="178" y="334"/>
                </a:lnTo>
                <a:lnTo>
                  <a:pt x="186" y="334"/>
                </a:lnTo>
                <a:lnTo>
                  <a:pt x="186" y="335"/>
                </a:lnTo>
                <a:lnTo>
                  <a:pt x="192" y="335"/>
                </a:lnTo>
                <a:lnTo>
                  <a:pt x="192" y="336"/>
                </a:lnTo>
                <a:lnTo>
                  <a:pt x="236" y="336"/>
                </a:lnTo>
                <a:lnTo>
                  <a:pt x="236" y="335"/>
                </a:lnTo>
                <a:lnTo>
                  <a:pt x="244" y="335"/>
                </a:lnTo>
                <a:lnTo>
                  <a:pt x="244" y="334"/>
                </a:lnTo>
                <a:lnTo>
                  <a:pt x="252" y="334"/>
                </a:lnTo>
                <a:lnTo>
                  <a:pt x="252" y="333"/>
                </a:lnTo>
                <a:lnTo>
                  <a:pt x="256" y="333"/>
                </a:lnTo>
                <a:lnTo>
                  <a:pt x="256" y="332"/>
                </a:lnTo>
                <a:lnTo>
                  <a:pt x="259" y="332"/>
                </a:lnTo>
                <a:lnTo>
                  <a:pt x="259" y="331"/>
                </a:lnTo>
                <a:lnTo>
                  <a:pt x="263" y="331"/>
                </a:lnTo>
                <a:lnTo>
                  <a:pt x="263" y="330"/>
                </a:lnTo>
                <a:lnTo>
                  <a:pt x="267" y="330"/>
                </a:lnTo>
                <a:lnTo>
                  <a:pt x="267" y="329"/>
                </a:lnTo>
                <a:lnTo>
                  <a:pt x="271" y="329"/>
                </a:lnTo>
                <a:lnTo>
                  <a:pt x="271" y="328"/>
                </a:lnTo>
                <a:lnTo>
                  <a:pt x="275" y="328"/>
                </a:lnTo>
                <a:lnTo>
                  <a:pt x="275" y="327"/>
                </a:lnTo>
                <a:lnTo>
                  <a:pt x="279" y="327"/>
                </a:lnTo>
                <a:lnTo>
                  <a:pt x="279" y="326"/>
                </a:lnTo>
                <a:lnTo>
                  <a:pt x="282" y="326"/>
                </a:lnTo>
                <a:lnTo>
                  <a:pt x="282" y="325"/>
                </a:lnTo>
                <a:lnTo>
                  <a:pt x="285" y="325"/>
                </a:lnTo>
                <a:lnTo>
                  <a:pt x="287" y="325"/>
                </a:lnTo>
                <a:lnTo>
                  <a:pt x="287" y="324"/>
                </a:lnTo>
                <a:lnTo>
                  <a:pt x="290" y="324"/>
                </a:lnTo>
                <a:lnTo>
                  <a:pt x="290" y="323"/>
                </a:lnTo>
                <a:lnTo>
                  <a:pt x="294" y="323"/>
                </a:lnTo>
                <a:lnTo>
                  <a:pt x="294" y="322"/>
                </a:lnTo>
                <a:lnTo>
                  <a:pt x="299" y="322"/>
                </a:lnTo>
                <a:lnTo>
                  <a:pt x="299" y="321"/>
                </a:lnTo>
                <a:lnTo>
                  <a:pt x="302" y="321"/>
                </a:lnTo>
                <a:lnTo>
                  <a:pt x="302" y="320"/>
                </a:lnTo>
                <a:lnTo>
                  <a:pt x="303" y="320"/>
                </a:lnTo>
                <a:lnTo>
                  <a:pt x="303" y="319"/>
                </a:lnTo>
                <a:lnTo>
                  <a:pt x="306" y="319"/>
                </a:lnTo>
                <a:lnTo>
                  <a:pt x="306" y="318"/>
                </a:lnTo>
                <a:lnTo>
                  <a:pt x="309" y="318"/>
                </a:lnTo>
                <a:lnTo>
                  <a:pt x="309" y="317"/>
                </a:lnTo>
                <a:lnTo>
                  <a:pt x="311" y="317"/>
                </a:lnTo>
                <a:lnTo>
                  <a:pt x="311" y="316"/>
                </a:lnTo>
                <a:lnTo>
                  <a:pt x="314" y="316"/>
                </a:lnTo>
                <a:lnTo>
                  <a:pt x="314" y="315"/>
                </a:lnTo>
                <a:lnTo>
                  <a:pt x="317" y="315"/>
                </a:lnTo>
                <a:lnTo>
                  <a:pt x="317" y="314"/>
                </a:lnTo>
                <a:lnTo>
                  <a:pt x="319" y="314"/>
                </a:lnTo>
                <a:lnTo>
                  <a:pt x="319" y="313"/>
                </a:lnTo>
                <a:lnTo>
                  <a:pt x="322" y="313"/>
                </a:lnTo>
                <a:lnTo>
                  <a:pt x="322" y="312"/>
                </a:lnTo>
                <a:lnTo>
                  <a:pt x="324" y="312"/>
                </a:lnTo>
                <a:lnTo>
                  <a:pt x="324" y="311"/>
                </a:lnTo>
                <a:lnTo>
                  <a:pt x="326" y="311"/>
                </a:lnTo>
                <a:lnTo>
                  <a:pt x="326" y="310"/>
                </a:lnTo>
                <a:lnTo>
                  <a:pt x="328" y="310"/>
                </a:lnTo>
                <a:lnTo>
                  <a:pt x="328" y="309"/>
                </a:lnTo>
                <a:lnTo>
                  <a:pt x="330" y="309"/>
                </a:lnTo>
                <a:lnTo>
                  <a:pt x="330" y="308"/>
                </a:lnTo>
                <a:lnTo>
                  <a:pt x="333" y="308"/>
                </a:lnTo>
                <a:lnTo>
                  <a:pt x="333" y="307"/>
                </a:lnTo>
                <a:lnTo>
                  <a:pt x="335" y="307"/>
                </a:lnTo>
                <a:lnTo>
                  <a:pt x="335" y="306"/>
                </a:lnTo>
                <a:lnTo>
                  <a:pt x="338" y="306"/>
                </a:lnTo>
                <a:lnTo>
                  <a:pt x="338" y="305"/>
                </a:lnTo>
                <a:lnTo>
                  <a:pt x="340" y="305"/>
                </a:lnTo>
                <a:lnTo>
                  <a:pt x="340" y="304"/>
                </a:lnTo>
                <a:lnTo>
                  <a:pt x="342" y="304"/>
                </a:lnTo>
                <a:lnTo>
                  <a:pt x="342" y="303"/>
                </a:lnTo>
                <a:lnTo>
                  <a:pt x="345" y="303"/>
                </a:lnTo>
                <a:lnTo>
                  <a:pt x="347" y="303"/>
                </a:lnTo>
                <a:lnTo>
                  <a:pt x="347" y="302"/>
                </a:lnTo>
                <a:lnTo>
                  <a:pt x="349" y="302"/>
                </a:lnTo>
                <a:lnTo>
                  <a:pt x="349" y="301"/>
                </a:lnTo>
                <a:lnTo>
                  <a:pt x="351" y="301"/>
                </a:lnTo>
                <a:lnTo>
                  <a:pt x="351" y="300"/>
                </a:lnTo>
                <a:lnTo>
                  <a:pt x="354" y="300"/>
                </a:lnTo>
                <a:lnTo>
                  <a:pt x="354" y="299"/>
                </a:lnTo>
                <a:lnTo>
                  <a:pt x="356" y="299"/>
                </a:lnTo>
                <a:lnTo>
                  <a:pt x="356" y="298"/>
                </a:lnTo>
                <a:lnTo>
                  <a:pt x="358" y="298"/>
                </a:lnTo>
                <a:lnTo>
                  <a:pt x="358" y="297"/>
                </a:lnTo>
                <a:lnTo>
                  <a:pt x="360" y="297"/>
                </a:lnTo>
                <a:lnTo>
                  <a:pt x="360" y="296"/>
                </a:lnTo>
                <a:lnTo>
                  <a:pt x="362" y="296"/>
                </a:lnTo>
                <a:lnTo>
                  <a:pt x="362" y="295"/>
                </a:lnTo>
                <a:lnTo>
                  <a:pt x="365" y="295"/>
                </a:lnTo>
                <a:lnTo>
                  <a:pt x="365" y="294"/>
                </a:lnTo>
                <a:lnTo>
                  <a:pt x="368" y="294"/>
                </a:lnTo>
                <a:lnTo>
                  <a:pt x="368" y="293"/>
                </a:lnTo>
                <a:lnTo>
                  <a:pt x="371" y="293"/>
                </a:lnTo>
                <a:lnTo>
                  <a:pt x="371" y="292"/>
                </a:lnTo>
                <a:lnTo>
                  <a:pt x="372" y="292"/>
                </a:lnTo>
                <a:lnTo>
                  <a:pt x="372" y="291"/>
                </a:lnTo>
                <a:lnTo>
                  <a:pt x="374" y="291"/>
                </a:lnTo>
                <a:lnTo>
                  <a:pt x="374" y="290"/>
                </a:lnTo>
                <a:lnTo>
                  <a:pt x="376" y="290"/>
                </a:lnTo>
                <a:lnTo>
                  <a:pt x="376" y="289"/>
                </a:lnTo>
                <a:lnTo>
                  <a:pt x="378" y="289"/>
                </a:lnTo>
                <a:lnTo>
                  <a:pt x="378" y="288"/>
                </a:lnTo>
                <a:lnTo>
                  <a:pt x="381" y="288"/>
                </a:lnTo>
                <a:lnTo>
                  <a:pt x="381" y="287"/>
                </a:lnTo>
                <a:lnTo>
                  <a:pt x="383" y="287"/>
                </a:lnTo>
                <a:lnTo>
                  <a:pt x="383" y="286"/>
                </a:lnTo>
                <a:lnTo>
                  <a:pt x="386" y="286"/>
                </a:lnTo>
                <a:lnTo>
                  <a:pt x="386" y="285"/>
                </a:lnTo>
                <a:lnTo>
                  <a:pt x="388" y="285"/>
                </a:lnTo>
                <a:lnTo>
                  <a:pt x="388" y="284"/>
                </a:lnTo>
                <a:lnTo>
                  <a:pt x="390" y="284"/>
                </a:lnTo>
                <a:lnTo>
                  <a:pt x="390" y="283"/>
                </a:lnTo>
                <a:lnTo>
                  <a:pt x="392" y="283"/>
                </a:lnTo>
                <a:lnTo>
                  <a:pt x="392" y="282"/>
                </a:lnTo>
                <a:lnTo>
                  <a:pt x="394" y="282"/>
                </a:lnTo>
                <a:lnTo>
                  <a:pt x="394" y="281"/>
                </a:lnTo>
                <a:lnTo>
                  <a:pt x="396" y="281"/>
                </a:lnTo>
                <a:lnTo>
                  <a:pt x="396" y="280"/>
                </a:lnTo>
                <a:lnTo>
                  <a:pt x="399" y="280"/>
                </a:lnTo>
                <a:lnTo>
                  <a:pt x="402" y="280"/>
                </a:lnTo>
                <a:lnTo>
                  <a:pt x="402" y="279"/>
                </a:lnTo>
                <a:lnTo>
                  <a:pt x="405" y="279"/>
                </a:lnTo>
                <a:lnTo>
                  <a:pt x="405" y="278"/>
                </a:lnTo>
                <a:lnTo>
                  <a:pt x="407" y="278"/>
                </a:lnTo>
                <a:lnTo>
                  <a:pt x="407" y="277"/>
                </a:lnTo>
                <a:lnTo>
                  <a:pt x="410" y="277"/>
                </a:lnTo>
                <a:lnTo>
                  <a:pt x="410" y="276"/>
                </a:lnTo>
                <a:lnTo>
                  <a:pt x="413" y="276"/>
                </a:lnTo>
                <a:lnTo>
                  <a:pt x="413" y="275"/>
                </a:lnTo>
                <a:lnTo>
                  <a:pt x="415" y="275"/>
                </a:lnTo>
                <a:lnTo>
                  <a:pt x="415" y="274"/>
                </a:lnTo>
                <a:lnTo>
                  <a:pt x="418" y="274"/>
                </a:lnTo>
                <a:lnTo>
                  <a:pt x="418" y="273"/>
                </a:lnTo>
                <a:lnTo>
                  <a:pt x="420" y="273"/>
                </a:lnTo>
                <a:lnTo>
                  <a:pt x="420" y="272"/>
                </a:lnTo>
                <a:lnTo>
                  <a:pt x="422" y="272"/>
                </a:lnTo>
                <a:lnTo>
                  <a:pt x="422" y="271"/>
                </a:lnTo>
                <a:lnTo>
                  <a:pt x="425" y="271"/>
                </a:lnTo>
                <a:lnTo>
                  <a:pt x="425" y="270"/>
                </a:lnTo>
                <a:lnTo>
                  <a:pt x="428" y="270"/>
                </a:lnTo>
                <a:lnTo>
                  <a:pt x="428" y="269"/>
                </a:lnTo>
                <a:lnTo>
                  <a:pt x="430" y="269"/>
                </a:lnTo>
                <a:lnTo>
                  <a:pt x="430" y="268"/>
                </a:lnTo>
                <a:lnTo>
                  <a:pt x="433" y="268"/>
                </a:lnTo>
                <a:lnTo>
                  <a:pt x="433" y="267"/>
                </a:lnTo>
                <a:lnTo>
                  <a:pt x="436" y="267"/>
                </a:lnTo>
                <a:lnTo>
                  <a:pt x="436" y="266"/>
                </a:lnTo>
                <a:lnTo>
                  <a:pt x="438" y="266"/>
                </a:lnTo>
                <a:lnTo>
                  <a:pt x="438" y="265"/>
                </a:lnTo>
                <a:lnTo>
                  <a:pt x="441" y="265"/>
                </a:lnTo>
                <a:lnTo>
                  <a:pt x="441" y="264"/>
                </a:lnTo>
                <a:lnTo>
                  <a:pt x="444" y="264"/>
                </a:lnTo>
                <a:lnTo>
                  <a:pt x="444" y="263"/>
                </a:lnTo>
                <a:lnTo>
                  <a:pt x="448" y="263"/>
                </a:lnTo>
                <a:lnTo>
                  <a:pt x="448" y="262"/>
                </a:lnTo>
                <a:lnTo>
                  <a:pt x="451" y="262"/>
                </a:lnTo>
                <a:lnTo>
                  <a:pt x="451" y="261"/>
                </a:lnTo>
                <a:lnTo>
                  <a:pt x="453" y="261"/>
                </a:lnTo>
                <a:lnTo>
                  <a:pt x="453" y="260"/>
                </a:lnTo>
                <a:lnTo>
                  <a:pt x="456" y="260"/>
                </a:lnTo>
                <a:lnTo>
                  <a:pt x="456" y="259"/>
                </a:lnTo>
                <a:lnTo>
                  <a:pt x="460" y="259"/>
                </a:lnTo>
                <a:lnTo>
                  <a:pt x="460" y="258"/>
                </a:lnTo>
                <a:lnTo>
                  <a:pt x="464" y="258"/>
                </a:lnTo>
                <a:lnTo>
                  <a:pt x="471" y="258"/>
                </a:lnTo>
                <a:lnTo>
                  <a:pt x="471" y="257"/>
                </a:lnTo>
                <a:lnTo>
                  <a:pt x="475" y="257"/>
                </a:lnTo>
                <a:lnTo>
                  <a:pt x="475" y="256"/>
                </a:lnTo>
                <a:lnTo>
                  <a:pt x="479" y="256"/>
                </a:lnTo>
                <a:lnTo>
                  <a:pt x="479" y="255"/>
                </a:lnTo>
                <a:lnTo>
                  <a:pt x="486" y="255"/>
                </a:lnTo>
                <a:lnTo>
                  <a:pt x="486" y="254"/>
                </a:lnTo>
                <a:lnTo>
                  <a:pt x="489" y="254"/>
                </a:lnTo>
                <a:lnTo>
                  <a:pt x="489" y="253"/>
                </a:lnTo>
                <a:lnTo>
                  <a:pt x="493" y="253"/>
                </a:lnTo>
                <a:lnTo>
                  <a:pt x="493" y="252"/>
                </a:lnTo>
                <a:lnTo>
                  <a:pt x="501" y="252"/>
                </a:lnTo>
                <a:lnTo>
                  <a:pt x="501" y="251"/>
                </a:lnTo>
                <a:lnTo>
                  <a:pt x="508" y="251"/>
                </a:lnTo>
                <a:lnTo>
                  <a:pt x="508" y="250"/>
                </a:lnTo>
                <a:lnTo>
                  <a:pt x="511" y="250"/>
                </a:lnTo>
                <a:lnTo>
                  <a:pt x="511" y="249"/>
                </a:lnTo>
                <a:lnTo>
                  <a:pt x="515" y="249"/>
                </a:lnTo>
                <a:lnTo>
                  <a:pt x="515" y="248"/>
                </a:lnTo>
                <a:lnTo>
                  <a:pt x="522" y="248"/>
                </a:lnTo>
                <a:lnTo>
                  <a:pt x="522" y="247"/>
                </a:lnTo>
                <a:lnTo>
                  <a:pt x="530" y="247"/>
                </a:lnTo>
                <a:lnTo>
                  <a:pt x="530" y="246"/>
                </a:lnTo>
                <a:lnTo>
                  <a:pt x="536" y="246"/>
                </a:lnTo>
                <a:lnTo>
                  <a:pt x="536" y="245"/>
                </a:lnTo>
                <a:lnTo>
                  <a:pt x="544" y="245"/>
                </a:lnTo>
                <a:lnTo>
                  <a:pt x="544" y="244"/>
                </a:lnTo>
                <a:lnTo>
                  <a:pt x="551" y="244"/>
                </a:lnTo>
                <a:lnTo>
                  <a:pt x="551" y="243"/>
                </a:lnTo>
                <a:lnTo>
                  <a:pt x="557" y="243"/>
                </a:lnTo>
                <a:lnTo>
                  <a:pt x="557" y="242"/>
                </a:lnTo>
                <a:lnTo>
                  <a:pt x="565" y="242"/>
                </a:lnTo>
                <a:lnTo>
                  <a:pt x="565" y="241"/>
                </a:lnTo>
                <a:lnTo>
                  <a:pt x="579" y="241"/>
                </a:lnTo>
                <a:lnTo>
                  <a:pt x="579" y="240"/>
                </a:lnTo>
                <a:lnTo>
                  <a:pt x="593" y="240"/>
                </a:lnTo>
                <a:lnTo>
                  <a:pt x="593" y="239"/>
                </a:lnTo>
                <a:lnTo>
                  <a:pt x="606" y="239"/>
                </a:lnTo>
                <a:lnTo>
                  <a:pt x="606" y="238"/>
                </a:lnTo>
                <a:lnTo>
                  <a:pt x="620" y="238"/>
                </a:lnTo>
                <a:lnTo>
                  <a:pt x="620" y="237"/>
                </a:lnTo>
                <a:lnTo>
                  <a:pt x="694" y="237"/>
                </a:lnTo>
                <a:lnTo>
                  <a:pt x="694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08600" y="5791320"/>
            <a:ext cx="9360" cy="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02040" y="5413320"/>
            <a:ext cx="1017360" cy="534960"/>
          </a:xfrm>
          <a:custGeom>
            <a:avLst/>
            <a:gdLst/>
            <a:ahLst/>
            <a:rect l="l" t="t" r="r" b="b"/>
            <a:pathLst>
              <a:path w="695" h="337">
                <a:moveTo>
                  <a:pt x="694" y="237"/>
                </a:moveTo>
                <a:lnTo>
                  <a:pt x="687" y="237"/>
                </a:lnTo>
                <a:lnTo>
                  <a:pt x="680" y="236"/>
                </a:lnTo>
                <a:lnTo>
                  <a:pt x="627" y="236"/>
                </a:lnTo>
                <a:lnTo>
                  <a:pt x="620" y="237"/>
                </a:lnTo>
                <a:lnTo>
                  <a:pt x="613" y="237"/>
                </a:lnTo>
                <a:lnTo>
                  <a:pt x="606" y="238"/>
                </a:lnTo>
                <a:lnTo>
                  <a:pt x="600" y="238"/>
                </a:lnTo>
                <a:lnTo>
                  <a:pt x="593" y="239"/>
                </a:lnTo>
                <a:lnTo>
                  <a:pt x="586" y="239"/>
                </a:lnTo>
                <a:lnTo>
                  <a:pt x="579" y="240"/>
                </a:lnTo>
                <a:lnTo>
                  <a:pt x="572" y="240"/>
                </a:lnTo>
                <a:lnTo>
                  <a:pt x="565" y="241"/>
                </a:lnTo>
                <a:lnTo>
                  <a:pt x="557" y="242"/>
                </a:lnTo>
                <a:lnTo>
                  <a:pt x="551" y="243"/>
                </a:lnTo>
                <a:lnTo>
                  <a:pt x="544" y="244"/>
                </a:lnTo>
                <a:lnTo>
                  <a:pt x="536" y="245"/>
                </a:lnTo>
                <a:lnTo>
                  <a:pt x="530" y="246"/>
                </a:lnTo>
                <a:lnTo>
                  <a:pt x="522" y="247"/>
                </a:lnTo>
                <a:lnTo>
                  <a:pt x="515" y="248"/>
                </a:lnTo>
                <a:lnTo>
                  <a:pt x="508" y="250"/>
                </a:lnTo>
                <a:lnTo>
                  <a:pt x="501" y="251"/>
                </a:lnTo>
                <a:lnTo>
                  <a:pt x="493" y="252"/>
                </a:lnTo>
                <a:lnTo>
                  <a:pt x="486" y="254"/>
                </a:lnTo>
                <a:lnTo>
                  <a:pt x="479" y="255"/>
                </a:lnTo>
                <a:lnTo>
                  <a:pt x="471" y="257"/>
                </a:lnTo>
                <a:lnTo>
                  <a:pt x="464" y="258"/>
                </a:lnTo>
                <a:lnTo>
                  <a:pt x="456" y="259"/>
                </a:lnTo>
                <a:lnTo>
                  <a:pt x="448" y="262"/>
                </a:lnTo>
                <a:lnTo>
                  <a:pt x="441" y="264"/>
                </a:lnTo>
                <a:lnTo>
                  <a:pt x="433" y="267"/>
                </a:lnTo>
                <a:lnTo>
                  <a:pt x="425" y="270"/>
                </a:lnTo>
                <a:lnTo>
                  <a:pt x="418" y="273"/>
                </a:lnTo>
                <a:lnTo>
                  <a:pt x="410" y="276"/>
                </a:lnTo>
                <a:lnTo>
                  <a:pt x="402" y="279"/>
                </a:lnTo>
                <a:lnTo>
                  <a:pt x="394" y="281"/>
                </a:lnTo>
                <a:lnTo>
                  <a:pt x="386" y="285"/>
                </a:lnTo>
                <a:lnTo>
                  <a:pt x="378" y="288"/>
                </a:lnTo>
                <a:lnTo>
                  <a:pt x="371" y="292"/>
                </a:lnTo>
                <a:lnTo>
                  <a:pt x="362" y="295"/>
                </a:lnTo>
                <a:lnTo>
                  <a:pt x="354" y="299"/>
                </a:lnTo>
                <a:lnTo>
                  <a:pt x="347" y="302"/>
                </a:lnTo>
                <a:lnTo>
                  <a:pt x="338" y="305"/>
                </a:lnTo>
                <a:lnTo>
                  <a:pt x="330" y="308"/>
                </a:lnTo>
                <a:lnTo>
                  <a:pt x="322" y="312"/>
                </a:lnTo>
                <a:lnTo>
                  <a:pt x="314" y="315"/>
                </a:lnTo>
                <a:lnTo>
                  <a:pt x="306" y="318"/>
                </a:lnTo>
                <a:lnTo>
                  <a:pt x="299" y="321"/>
                </a:lnTo>
                <a:lnTo>
                  <a:pt x="290" y="323"/>
                </a:lnTo>
                <a:lnTo>
                  <a:pt x="282" y="325"/>
                </a:lnTo>
                <a:lnTo>
                  <a:pt x="275" y="327"/>
                </a:lnTo>
                <a:lnTo>
                  <a:pt x="267" y="329"/>
                </a:lnTo>
                <a:lnTo>
                  <a:pt x="259" y="331"/>
                </a:lnTo>
                <a:lnTo>
                  <a:pt x="252" y="333"/>
                </a:lnTo>
                <a:lnTo>
                  <a:pt x="244" y="334"/>
                </a:lnTo>
                <a:lnTo>
                  <a:pt x="236" y="335"/>
                </a:lnTo>
                <a:lnTo>
                  <a:pt x="229" y="335"/>
                </a:lnTo>
                <a:lnTo>
                  <a:pt x="222" y="336"/>
                </a:lnTo>
                <a:lnTo>
                  <a:pt x="208" y="336"/>
                </a:lnTo>
                <a:lnTo>
                  <a:pt x="200" y="335"/>
                </a:lnTo>
                <a:lnTo>
                  <a:pt x="192" y="335"/>
                </a:lnTo>
                <a:lnTo>
                  <a:pt x="186" y="334"/>
                </a:lnTo>
                <a:lnTo>
                  <a:pt x="178" y="333"/>
                </a:lnTo>
                <a:lnTo>
                  <a:pt x="171" y="332"/>
                </a:lnTo>
                <a:lnTo>
                  <a:pt x="164" y="331"/>
                </a:lnTo>
                <a:lnTo>
                  <a:pt x="157" y="329"/>
                </a:lnTo>
                <a:lnTo>
                  <a:pt x="149" y="328"/>
                </a:lnTo>
                <a:lnTo>
                  <a:pt x="142" y="326"/>
                </a:lnTo>
                <a:lnTo>
                  <a:pt x="136" y="325"/>
                </a:lnTo>
                <a:lnTo>
                  <a:pt x="128" y="323"/>
                </a:lnTo>
                <a:lnTo>
                  <a:pt x="121" y="321"/>
                </a:lnTo>
                <a:lnTo>
                  <a:pt x="115" y="319"/>
                </a:lnTo>
                <a:lnTo>
                  <a:pt x="108" y="316"/>
                </a:lnTo>
                <a:lnTo>
                  <a:pt x="100" y="314"/>
                </a:lnTo>
                <a:lnTo>
                  <a:pt x="94" y="311"/>
                </a:lnTo>
                <a:lnTo>
                  <a:pt x="87" y="308"/>
                </a:lnTo>
                <a:lnTo>
                  <a:pt x="80" y="305"/>
                </a:lnTo>
                <a:lnTo>
                  <a:pt x="73" y="302"/>
                </a:lnTo>
                <a:lnTo>
                  <a:pt x="66" y="299"/>
                </a:lnTo>
                <a:lnTo>
                  <a:pt x="59" y="295"/>
                </a:lnTo>
                <a:lnTo>
                  <a:pt x="52" y="291"/>
                </a:lnTo>
                <a:lnTo>
                  <a:pt x="46" y="287"/>
                </a:lnTo>
                <a:lnTo>
                  <a:pt x="39" y="283"/>
                </a:lnTo>
                <a:lnTo>
                  <a:pt x="32" y="280"/>
                </a:lnTo>
                <a:lnTo>
                  <a:pt x="26" y="275"/>
                </a:lnTo>
                <a:lnTo>
                  <a:pt x="20" y="271"/>
                </a:lnTo>
                <a:lnTo>
                  <a:pt x="13" y="266"/>
                </a:lnTo>
                <a:lnTo>
                  <a:pt x="6" y="261"/>
                </a:lnTo>
                <a:lnTo>
                  <a:pt x="0" y="257"/>
                </a:lnTo>
                <a:lnTo>
                  <a:pt x="0" y="0"/>
                </a:lnTo>
                <a:lnTo>
                  <a:pt x="694" y="0"/>
                </a:lnTo>
                <a:lnTo>
                  <a:pt x="694" y="237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59120" y="5319720"/>
            <a:ext cx="1014480" cy="536400"/>
          </a:xfrm>
          <a:custGeom>
            <a:avLst/>
            <a:gdLst/>
            <a:ahLst/>
            <a:rect l="l" t="t" r="r" b="b"/>
            <a:pathLst>
              <a:path w="693" h="338">
                <a:moveTo>
                  <a:pt x="0" y="0"/>
                </a:moveTo>
                <a:lnTo>
                  <a:pt x="0" y="258"/>
                </a:lnTo>
                <a:lnTo>
                  <a:pt x="1" y="258"/>
                </a:lnTo>
                <a:lnTo>
                  <a:pt x="1" y="259"/>
                </a:lnTo>
                <a:lnTo>
                  <a:pt x="3" y="259"/>
                </a:lnTo>
                <a:lnTo>
                  <a:pt x="4" y="261"/>
                </a:lnTo>
                <a:lnTo>
                  <a:pt x="6" y="261"/>
                </a:lnTo>
                <a:lnTo>
                  <a:pt x="7" y="263"/>
                </a:lnTo>
                <a:lnTo>
                  <a:pt x="8" y="263"/>
                </a:lnTo>
                <a:lnTo>
                  <a:pt x="8" y="264"/>
                </a:lnTo>
                <a:lnTo>
                  <a:pt x="9" y="264"/>
                </a:lnTo>
                <a:lnTo>
                  <a:pt x="10" y="266"/>
                </a:lnTo>
                <a:lnTo>
                  <a:pt x="12" y="266"/>
                </a:lnTo>
                <a:lnTo>
                  <a:pt x="13" y="268"/>
                </a:lnTo>
                <a:lnTo>
                  <a:pt x="14" y="268"/>
                </a:lnTo>
                <a:lnTo>
                  <a:pt x="15" y="270"/>
                </a:lnTo>
                <a:lnTo>
                  <a:pt x="17" y="270"/>
                </a:lnTo>
                <a:lnTo>
                  <a:pt x="18" y="272"/>
                </a:lnTo>
                <a:lnTo>
                  <a:pt x="19" y="272"/>
                </a:lnTo>
                <a:lnTo>
                  <a:pt x="21" y="272"/>
                </a:lnTo>
                <a:lnTo>
                  <a:pt x="21" y="273"/>
                </a:lnTo>
                <a:lnTo>
                  <a:pt x="23" y="273"/>
                </a:lnTo>
                <a:lnTo>
                  <a:pt x="24" y="275"/>
                </a:lnTo>
                <a:lnTo>
                  <a:pt x="26" y="275"/>
                </a:lnTo>
                <a:lnTo>
                  <a:pt x="27" y="277"/>
                </a:lnTo>
                <a:lnTo>
                  <a:pt x="29" y="277"/>
                </a:lnTo>
                <a:lnTo>
                  <a:pt x="30" y="279"/>
                </a:lnTo>
                <a:lnTo>
                  <a:pt x="32" y="279"/>
                </a:lnTo>
                <a:lnTo>
                  <a:pt x="32" y="281"/>
                </a:lnTo>
                <a:lnTo>
                  <a:pt x="34" y="281"/>
                </a:lnTo>
                <a:lnTo>
                  <a:pt x="34" y="282"/>
                </a:lnTo>
                <a:lnTo>
                  <a:pt x="36" y="282"/>
                </a:lnTo>
                <a:lnTo>
                  <a:pt x="37" y="284"/>
                </a:lnTo>
                <a:lnTo>
                  <a:pt x="39" y="284"/>
                </a:lnTo>
                <a:lnTo>
                  <a:pt x="39" y="285"/>
                </a:lnTo>
                <a:lnTo>
                  <a:pt x="41" y="285"/>
                </a:lnTo>
                <a:lnTo>
                  <a:pt x="41" y="286"/>
                </a:lnTo>
                <a:lnTo>
                  <a:pt x="43" y="286"/>
                </a:lnTo>
                <a:lnTo>
                  <a:pt x="44" y="288"/>
                </a:lnTo>
                <a:lnTo>
                  <a:pt x="46" y="288"/>
                </a:lnTo>
                <a:lnTo>
                  <a:pt x="46" y="289"/>
                </a:lnTo>
                <a:lnTo>
                  <a:pt x="48" y="289"/>
                </a:lnTo>
                <a:lnTo>
                  <a:pt x="48" y="290"/>
                </a:lnTo>
                <a:lnTo>
                  <a:pt x="50" y="290"/>
                </a:lnTo>
                <a:lnTo>
                  <a:pt x="51" y="292"/>
                </a:lnTo>
                <a:lnTo>
                  <a:pt x="53" y="292"/>
                </a:lnTo>
                <a:lnTo>
                  <a:pt x="53" y="293"/>
                </a:lnTo>
                <a:lnTo>
                  <a:pt x="55" y="293"/>
                </a:lnTo>
                <a:lnTo>
                  <a:pt x="55" y="294"/>
                </a:lnTo>
                <a:lnTo>
                  <a:pt x="56" y="294"/>
                </a:lnTo>
                <a:lnTo>
                  <a:pt x="57" y="295"/>
                </a:lnTo>
                <a:lnTo>
                  <a:pt x="59" y="295"/>
                </a:lnTo>
                <a:lnTo>
                  <a:pt x="59" y="296"/>
                </a:lnTo>
                <a:lnTo>
                  <a:pt x="61" y="296"/>
                </a:lnTo>
                <a:lnTo>
                  <a:pt x="61" y="297"/>
                </a:lnTo>
                <a:lnTo>
                  <a:pt x="63" y="297"/>
                </a:lnTo>
                <a:lnTo>
                  <a:pt x="64" y="299"/>
                </a:lnTo>
                <a:lnTo>
                  <a:pt x="66" y="299"/>
                </a:lnTo>
                <a:lnTo>
                  <a:pt x="66" y="300"/>
                </a:lnTo>
                <a:lnTo>
                  <a:pt x="68" y="300"/>
                </a:lnTo>
                <a:lnTo>
                  <a:pt x="68" y="301"/>
                </a:lnTo>
                <a:lnTo>
                  <a:pt x="71" y="301"/>
                </a:lnTo>
                <a:lnTo>
                  <a:pt x="71" y="302"/>
                </a:lnTo>
                <a:lnTo>
                  <a:pt x="73" y="302"/>
                </a:lnTo>
                <a:lnTo>
                  <a:pt x="73" y="303"/>
                </a:lnTo>
                <a:lnTo>
                  <a:pt x="75" y="303"/>
                </a:lnTo>
                <a:lnTo>
                  <a:pt x="75" y="304"/>
                </a:lnTo>
                <a:lnTo>
                  <a:pt x="77" y="304"/>
                </a:lnTo>
                <a:lnTo>
                  <a:pt x="78" y="306"/>
                </a:lnTo>
                <a:lnTo>
                  <a:pt x="79" y="306"/>
                </a:lnTo>
                <a:lnTo>
                  <a:pt x="79" y="307"/>
                </a:lnTo>
                <a:lnTo>
                  <a:pt x="81" y="307"/>
                </a:lnTo>
                <a:lnTo>
                  <a:pt x="81" y="308"/>
                </a:lnTo>
                <a:lnTo>
                  <a:pt x="84" y="308"/>
                </a:lnTo>
                <a:lnTo>
                  <a:pt x="84" y="309"/>
                </a:lnTo>
                <a:lnTo>
                  <a:pt x="86" y="309"/>
                </a:lnTo>
                <a:lnTo>
                  <a:pt x="86" y="310"/>
                </a:lnTo>
                <a:lnTo>
                  <a:pt x="88" y="310"/>
                </a:lnTo>
                <a:lnTo>
                  <a:pt x="88" y="311"/>
                </a:lnTo>
                <a:lnTo>
                  <a:pt x="91" y="311"/>
                </a:lnTo>
                <a:lnTo>
                  <a:pt x="91" y="312"/>
                </a:lnTo>
                <a:lnTo>
                  <a:pt x="93" y="312"/>
                </a:lnTo>
                <a:lnTo>
                  <a:pt x="93" y="313"/>
                </a:lnTo>
                <a:lnTo>
                  <a:pt x="96" y="313"/>
                </a:lnTo>
                <a:lnTo>
                  <a:pt x="96" y="314"/>
                </a:lnTo>
                <a:lnTo>
                  <a:pt x="98" y="314"/>
                </a:lnTo>
                <a:lnTo>
                  <a:pt x="98" y="315"/>
                </a:lnTo>
                <a:lnTo>
                  <a:pt x="101" y="315"/>
                </a:lnTo>
                <a:lnTo>
                  <a:pt x="101" y="316"/>
                </a:lnTo>
                <a:lnTo>
                  <a:pt x="104" y="316"/>
                </a:lnTo>
                <a:lnTo>
                  <a:pt x="104" y="317"/>
                </a:lnTo>
                <a:lnTo>
                  <a:pt x="107" y="317"/>
                </a:lnTo>
                <a:lnTo>
                  <a:pt x="109" y="317"/>
                </a:lnTo>
                <a:lnTo>
                  <a:pt x="109" y="318"/>
                </a:lnTo>
                <a:lnTo>
                  <a:pt x="112" y="318"/>
                </a:lnTo>
                <a:lnTo>
                  <a:pt x="112" y="319"/>
                </a:lnTo>
                <a:lnTo>
                  <a:pt x="114" y="319"/>
                </a:lnTo>
                <a:lnTo>
                  <a:pt x="114" y="320"/>
                </a:lnTo>
                <a:lnTo>
                  <a:pt x="118" y="320"/>
                </a:lnTo>
                <a:lnTo>
                  <a:pt x="118" y="321"/>
                </a:lnTo>
                <a:lnTo>
                  <a:pt x="121" y="321"/>
                </a:lnTo>
                <a:lnTo>
                  <a:pt x="121" y="322"/>
                </a:lnTo>
                <a:lnTo>
                  <a:pt x="124" y="322"/>
                </a:lnTo>
                <a:lnTo>
                  <a:pt x="124" y="323"/>
                </a:lnTo>
                <a:lnTo>
                  <a:pt x="128" y="323"/>
                </a:lnTo>
                <a:lnTo>
                  <a:pt x="128" y="324"/>
                </a:lnTo>
                <a:lnTo>
                  <a:pt x="132" y="324"/>
                </a:lnTo>
                <a:lnTo>
                  <a:pt x="132" y="325"/>
                </a:lnTo>
                <a:lnTo>
                  <a:pt x="135" y="325"/>
                </a:lnTo>
                <a:lnTo>
                  <a:pt x="135" y="326"/>
                </a:lnTo>
                <a:lnTo>
                  <a:pt x="139" y="326"/>
                </a:lnTo>
                <a:lnTo>
                  <a:pt x="139" y="327"/>
                </a:lnTo>
                <a:lnTo>
                  <a:pt x="142" y="327"/>
                </a:lnTo>
                <a:lnTo>
                  <a:pt x="142" y="328"/>
                </a:lnTo>
                <a:lnTo>
                  <a:pt x="146" y="328"/>
                </a:lnTo>
                <a:lnTo>
                  <a:pt x="146" y="329"/>
                </a:lnTo>
                <a:lnTo>
                  <a:pt x="149" y="329"/>
                </a:lnTo>
                <a:lnTo>
                  <a:pt x="149" y="330"/>
                </a:lnTo>
                <a:lnTo>
                  <a:pt x="156" y="330"/>
                </a:lnTo>
                <a:lnTo>
                  <a:pt x="156" y="331"/>
                </a:lnTo>
                <a:lnTo>
                  <a:pt x="160" y="331"/>
                </a:lnTo>
                <a:lnTo>
                  <a:pt x="160" y="332"/>
                </a:lnTo>
                <a:lnTo>
                  <a:pt x="164" y="332"/>
                </a:lnTo>
                <a:lnTo>
                  <a:pt x="164" y="333"/>
                </a:lnTo>
                <a:lnTo>
                  <a:pt x="170" y="333"/>
                </a:lnTo>
                <a:lnTo>
                  <a:pt x="170" y="334"/>
                </a:lnTo>
                <a:lnTo>
                  <a:pt x="177" y="334"/>
                </a:lnTo>
                <a:lnTo>
                  <a:pt x="177" y="335"/>
                </a:lnTo>
                <a:lnTo>
                  <a:pt x="185" y="335"/>
                </a:lnTo>
                <a:lnTo>
                  <a:pt x="185" y="336"/>
                </a:lnTo>
                <a:lnTo>
                  <a:pt x="193" y="336"/>
                </a:lnTo>
                <a:lnTo>
                  <a:pt x="193" y="337"/>
                </a:lnTo>
                <a:lnTo>
                  <a:pt x="236" y="337"/>
                </a:lnTo>
                <a:lnTo>
                  <a:pt x="236" y="336"/>
                </a:lnTo>
                <a:lnTo>
                  <a:pt x="243" y="336"/>
                </a:lnTo>
                <a:lnTo>
                  <a:pt x="243" y="335"/>
                </a:lnTo>
                <a:lnTo>
                  <a:pt x="251" y="335"/>
                </a:lnTo>
                <a:lnTo>
                  <a:pt x="251" y="334"/>
                </a:lnTo>
                <a:lnTo>
                  <a:pt x="255" y="334"/>
                </a:lnTo>
                <a:lnTo>
                  <a:pt x="255" y="333"/>
                </a:lnTo>
                <a:lnTo>
                  <a:pt x="259" y="333"/>
                </a:lnTo>
                <a:lnTo>
                  <a:pt x="259" y="332"/>
                </a:lnTo>
                <a:lnTo>
                  <a:pt x="263" y="332"/>
                </a:lnTo>
                <a:lnTo>
                  <a:pt x="263" y="331"/>
                </a:lnTo>
                <a:lnTo>
                  <a:pt x="266" y="331"/>
                </a:lnTo>
                <a:lnTo>
                  <a:pt x="266" y="330"/>
                </a:lnTo>
                <a:lnTo>
                  <a:pt x="270" y="330"/>
                </a:lnTo>
                <a:lnTo>
                  <a:pt x="270" y="329"/>
                </a:lnTo>
                <a:lnTo>
                  <a:pt x="274" y="329"/>
                </a:lnTo>
                <a:lnTo>
                  <a:pt x="274" y="328"/>
                </a:lnTo>
                <a:lnTo>
                  <a:pt x="278" y="328"/>
                </a:lnTo>
                <a:lnTo>
                  <a:pt x="278" y="327"/>
                </a:lnTo>
                <a:lnTo>
                  <a:pt x="282" y="327"/>
                </a:lnTo>
                <a:lnTo>
                  <a:pt x="282" y="326"/>
                </a:lnTo>
                <a:lnTo>
                  <a:pt x="285" y="326"/>
                </a:lnTo>
                <a:lnTo>
                  <a:pt x="285" y="325"/>
                </a:lnTo>
                <a:lnTo>
                  <a:pt x="286" y="325"/>
                </a:lnTo>
                <a:lnTo>
                  <a:pt x="286" y="324"/>
                </a:lnTo>
                <a:lnTo>
                  <a:pt x="289" y="324"/>
                </a:lnTo>
                <a:lnTo>
                  <a:pt x="289" y="323"/>
                </a:lnTo>
                <a:lnTo>
                  <a:pt x="293" y="323"/>
                </a:lnTo>
                <a:lnTo>
                  <a:pt x="293" y="322"/>
                </a:lnTo>
                <a:lnTo>
                  <a:pt x="298" y="322"/>
                </a:lnTo>
                <a:lnTo>
                  <a:pt x="298" y="321"/>
                </a:lnTo>
                <a:lnTo>
                  <a:pt x="301" y="321"/>
                </a:lnTo>
                <a:lnTo>
                  <a:pt x="301" y="320"/>
                </a:lnTo>
                <a:lnTo>
                  <a:pt x="303" y="320"/>
                </a:lnTo>
                <a:lnTo>
                  <a:pt x="303" y="319"/>
                </a:lnTo>
                <a:lnTo>
                  <a:pt x="306" y="319"/>
                </a:lnTo>
                <a:lnTo>
                  <a:pt x="306" y="318"/>
                </a:lnTo>
                <a:lnTo>
                  <a:pt x="309" y="318"/>
                </a:lnTo>
                <a:lnTo>
                  <a:pt x="309" y="317"/>
                </a:lnTo>
                <a:lnTo>
                  <a:pt x="310" y="317"/>
                </a:lnTo>
                <a:lnTo>
                  <a:pt x="313" y="317"/>
                </a:lnTo>
                <a:lnTo>
                  <a:pt x="313" y="316"/>
                </a:lnTo>
                <a:lnTo>
                  <a:pt x="316" y="316"/>
                </a:lnTo>
                <a:lnTo>
                  <a:pt x="316" y="315"/>
                </a:lnTo>
                <a:lnTo>
                  <a:pt x="318" y="315"/>
                </a:lnTo>
                <a:lnTo>
                  <a:pt x="318" y="314"/>
                </a:lnTo>
                <a:lnTo>
                  <a:pt x="321" y="314"/>
                </a:lnTo>
                <a:lnTo>
                  <a:pt x="321" y="313"/>
                </a:lnTo>
                <a:lnTo>
                  <a:pt x="323" y="313"/>
                </a:lnTo>
                <a:lnTo>
                  <a:pt x="323" y="312"/>
                </a:lnTo>
                <a:lnTo>
                  <a:pt x="325" y="312"/>
                </a:lnTo>
                <a:lnTo>
                  <a:pt x="325" y="311"/>
                </a:lnTo>
                <a:lnTo>
                  <a:pt x="328" y="311"/>
                </a:lnTo>
                <a:lnTo>
                  <a:pt x="328" y="310"/>
                </a:lnTo>
                <a:lnTo>
                  <a:pt x="330" y="310"/>
                </a:lnTo>
                <a:lnTo>
                  <a:pt x="330" y="309"/>
                </a:lnTo>
                <a:lnTo>
                  <a:pt x="332" y="309"/>
                </a:lnTo>
                <a:lnTo>
                  <a:pt x="332" y="308"/>
                </a:lnTo>
                <a:lnTo>
                  <a:pt x="334" y="308"/>
                </a:lnTo>
                <a:lnTo>
                  <a:pt x="334" y="307"/>
                </a:lnTo>
                <a:lnTo>
                  <a:pt x="337" y="307"/>
                </a:lnTo>
                <a:lnTo>
                  <a:pt x="337" y="306"/>
                </a:lnTo>
                <a:lnTo>
                  <a:pt x="340" y="306"/>
                </a:lnTo>
                <a:lnTo>
                  <a:pt x="340" y="305"/>
                </a:lnTo>
                <a:lnTo>
                  <a:pt x="343" y="305"/>
                </a:lnTo>
                <a:lnTo>
                  <a:pt x="343" y="304"/>
                </a:lnTo>
                <a:lnTo>
                  <a:pt x="346" y="304"/>
                </a:lnTo>
                <a:lnTo>
                  <a:pt x="346" y="303"/>
                </a:lnTo>
                <a:lnTo>
                  <a:pt x="348" y="303"/>
                </a:lnTo>
                <a:lnTo>
                  <a:pt x="348" y="302"/>
                </a:lnTo>
                <a:lnTo>
                  <a:pt x="350" y="302"/>
                </a:lnTo>
                <a:lnTo>
                  <a:pt x="350" y="301"/>
                </a:lnTo>
                <a:lnTo>
                  <a:pt x="352" y="301"/>
                </a:lnTo>
                <a:lnTo>
                  <a:pt x="352" y="300"/>
                </a:lnTo>
                <a:lnTo>
                  <a:pt x="354" y="300"/>
                </a:lnTo>
                <a:lnTo>
                  <a:pt x="354" y="299"/>
                </a:lnTo>
                <a:lnTo>
                  <a:pt x="355" y="299"/>
                </a:lnTo>
                <a:lnTo>
                  <a:pt x="355" y="298"/>
                </a:lnTo>
                <a:lnTo>
                  <a:pt x="357" y="298"/>
                </a:lnTo>
                <a:lnTo>
                  <a:pt x="357" y="297"/>
                </a:lnTo>
                <a:lnTo>
                  <a:pt x="359" y="297"/>
                </a:lnTo>
                <a:lnTo>
                  <a:pt x="359" y="296"/>
                </a:lnTo>
                <a:lnTo>
                  <a:pt x="361" y="296"/>
                </a:lnTo>
                <a:lnTo>
                  <a:pt x="361" y="295"/>
                </a:lnTo>
                <a:lnTo>
                  <a:pt x="364" y="295"/>
                </a:lnTo>
                <a:lnTo>
                  <a:pt x="364" y="294"/>
                </a:lnTo>
                <a:lnTo>
                  <a:pt x="367" y="294"/>
                </a:lnTo>
                <a:lnTo>
                  <a:pt x="370" y="294"/>
                </a:lnTo>
                <a:lnTo>
                  <a:pt x="370" y="293"/>
                </a:lnTo>
                <a:lnTo>
                  <a:pt x="372" y="293"/>
                </a:lnTo>
                <a:lnTo>
                  <a:pt x="372" y="292"/>
                </a:lnTo>
                <a:lnTo>
                  <a:pt x="374" y="292"/>
                </a:lnTo>
                <a:lnTo>
                  <a:pt x="374" y="291"/>
                </a:lnTo>
                <a:lnTo>
                  <a:pt x="376" y="291"/>
                </a:lnTo>
                <a:lnTo>
                  <a:pt x="376" y="290"/>
                </a:lnTo>
                <a:lnTo>
                  <a:pt x="378" y="290"/>
                </a:lnTo>
                <a:lnTo>
                  <a:pt x="378" y="289"/>
                </a:lnTo>
                <a:lnTo>
                  <a:pt x="380" y="289"/>
                </a:lnTo>
                <a:lnTo>
                  <a:pt x="380" y="288"/>
                </a:lnTo>
                <a:lnTo>
                  <a:pt x="382" y="288"/>
                </a:lnTo>
                <a:lnTo>
                  <a:pt x="382" y="287"/>
                </a:lnTo>
                <a:lnTo>
                  <a:pt x="385" y="287"/>
                </a:lnTo>
                <a:lnTo>
                  <a:pt x="385" y="286"/>
                </a:lnTo>
                <a:lnTo>
                  <a:pt x="387" y="286"/>
                </a:lnTo>
                <a:lnTo>
                  <a:pt x="387" y="285"/>
                </a:lnTo>
                <a:lnTo>
                  <a:pt x="389" y="285"/>
                </a:lnTo>
                <a:lnTo>
                  <a:pt x="389" y="284"/>
                </a:lnTo>
                <a:lnTo>
                  <a:pt x="391" y="284"/>
                </a:lnTo>
                <a:lnTo>
                  <a:pt x="391" y="283"/>
                </a:lnTo>
                <a:lnTo>
                  <a:pt x="393" y="283"/>
                </a:lnTo>
                <a:lnTo>
                  <a:pt x="393" y="282"/>
                </a:lnTo>
                <a:lnTo>
                  <a:pt x="396" y="282"/>
                </a:lnTo>
                <a:lnTo>
                  <a:pt x="396" y="281"/>
                </a:lnTo>
                <a:lnTo>
                  <a:pt x="399" y="281"/>
                </a:lnTo>
                <a:lnTo>
                  <a:pt x="399" y="280"/>
                </a:lnTo>
                <a:lnTo>
                  <a:pt x="401" y="280"/>
                </a:lnTo>
                <a:lnTo>
                  <a:pt x="401" y="279"/>
                </a:lnTo>
                <a:lnTo>
                  <a:pt x="404" y="279"/>
                </a:lnTo>
                <a:lnTo>
                  <a:pt x="404" y="278"/>
                </a:lnTo>
                <a:lnTo>
                  <a:pt x="406" y="278"/>
                </a:lnTo>
                <a:lnTo>
                  <a:pt x="406" y="277"/>
                </a:lnTo>
                <a:lnTo>
                  <a:pt x="409" y="277"/>
                </a:lnTo>
                <a:lnTo>
                  <a:pt x="409" y="276"/>
                </a:lnTo>
                <a:lnTo>
                  <a:pt x="412" y="276"/>
                </a:lnTo>
                <a:lnTo>
                  <a:pt x="412" y="275"/>
                </a:lnTo>
                <a:lnTo>
                  <a:pt x="414" y="275"/>
                </a:lnTo>
                <a:lnTo>
                  <a:pt x="414" y="274"/>
                </a:lnTo>
                <a:lnTo>
                  <a:pt x="417" y="274"/>
                </a:lnTo>
                <a:lnTo>
                  <a:pt x="417" y="273"/>
                </a:lnTo>
                <a:lnTo>
                  <a:pt x="420" y="273"/>
                </a:lnTo>
                <a:lnTo>
                  <a:pt x="420" y="272"/>
                </a:lnTo>
                <a:lnTo>
                  <a:pt x="422" y="272"/>
                </a:lnTo>
                <a:lnTo>
                  <a:pt x="424" y="272"/>
                </a:lnTo>
                <a:lnTo>
                  <a:pt x="424" y="271"/>
                </a:lnTo>
                <a:lnTo>
                  <a:pt x="427" y="271"/>
                </a:lnTo>
                <a:lnTo>
                  <a:pt x="427" y="270"/>
                </a:lnTo>
                <a:lnTo>
                  <a:pt x="429" y="270"/>
                </a:lnTo>
                <a:lnTo>
                  <a:pt x="429" y="269"/>
                </a:lnTo>
                <a:lnTo>
                  <a:pt x="432" y="269"/>
                </a:lnTo>
                <a:lnTo>
                  <a:pt x="432" y="268"/>
                </a:lnTo>
                <a:lnTo>
                  <a:pt x="435" y="268"/>
                </a:lnTo>
                <a:lnTo>
                  <a:pt x="435" y="267"/>
                </a:lnTo>
                <a:lnTo>
                  <a:pt x="437" y="267"/>
                </a:lnTo>
                <a:lnTo>
                  <a:pt x="437" y="266"/>
                </a:lnTo>
                <a:lnTo>
                  <a:pt x="440" y="266"/>
                </a:lnTo>
                <a:lnTo>
                  <a:pt x="440" y="265"/>
                </a:lnTo>
                <a:lnTo>
                  <a:pt x="444" y="265"/>
                </a:lnTo>
                <a:lnTo>
                  <a:pt x="444" y="264"/>
                </a:lnTo>
                <a:lnTo>
                  <a:pt x="447" y="264"/>
                </a:lnTo>
                <a:lnTo>
                  <a:pt x="447" y="263"/>
                </a:lnTo>
                <a:lnTo>
                  <a:pt x="450" y="263"/>
                </a:lnTo>
                <a:lnTo>
                  <a:pt x="450" y="262"/>
                </a:lnTo>
                <a:lnTo>
                  <a:pt x="452" y="262"/>
                </a:lnTo>
                <a:lnTo>
                  <a:pt x="452" y="261"/>
                </a:lnTo>
                <a:lnTo>
                  <a:pt x="455" y="261"/>
                </a:lnTo>
                <a:lnTo>
                  <a:pt x="455" y="260"/>
                </a:lnTo>
                <a:lnTo>
                  <a:pt x="459" y="260"/>
                </a:lnTo>
                <a:lnTo>
                  <a:pt x="459" y="259"/>
                </a:lnTo>
                <a:lnTo>
                  <a:pt x="463" y="259"/>
                </a:lnTo>
                <a:lnTo>
                  <a:pt x="463" y="258"/>
                </a:lnTo>
                <a:lnTo>
                  <a:pt x="470" y="258"/>
                </a:lnTo>
                <a:lnTo>
                  <a:pt x="470" y="257"/>
                </a:lnTo>
                <a:lnTo>
                  <a:pt x="474" y="257"/>
                </a:lnTo>
                <a:lnTo>
                  <a:pt x="474" y="256"/>
                </a:lnTo>
                <a:lnTo>
                  <a:pt x="478" y="256"/>
                </a:lnTo>
                <a:lnTo>
                  <a:pt x="478" y="255"/>
                </a:lnTo>
                <a:lnTo>
                  <a:pt x="485" y="255"/>
                </a:lnTo>
                <a:lnTo>
                  <a:pt x="485" y="254"/>
                </a:lnTo>
                <a:lnTo>
                  <a:pt x="489" y="254"/>
                </a:lnTo>
                <a:lnTo>
                  <a:pt x="489" y="253"/>
                </a:lnTo>
                <a:lnTo>
                  <a:pt x="493" y="253"/>
                </a:lnTo>
                <a:lnTo>
                  <a:pt x="493" y="252"/>
                </a:lnTo>
                <a:lnTo>
                  <a:pt x="499" y="252"/>
                </a:lnTo>
                <a:lnTo>
                  <a:pt x="499" y="251"/>
                </a:lnTo>
                <a:lnTo>
                  <a:pt x="507" y="251"/>
                </a:lnTo>
                <a:lnTo>
                  <a:pt x="507" y="250"/>
                </a:lnTo>
                <a:lnTo>
                  <a:pt x="511" y="250"/>
                </a:lnTo>
                <a:lnTo>
                  <a:pt x="511" y="249"/>
                </a:lnTo>
                <a:lnTo>
                  <a:pt x="515" y="249"/>
                </a:lnTo>
                <a:lnTo>
                  <a:pt x="521" y="249"/>
                </a:lnTo>
                <a:lnTo>
                  <a:pt x="521" y="248"/>
                </a:lnTo>
                <a:lnTo>
                  <a:pt x="528" y="248"/>
                </a:lnTo>
                <a:lnTo>
                  <a:pt x="528" y="247"/>
                </a:lnTo>
                <a:lnTo>
                  <a:pt x="536" y="247"/>
                </a:lnTo>
                <a:lnTo>
                  <a:pt x="536" y="246"/>
                </a:lnTo>
                <a:lnTo>
                  <a:pt x="542" y="246"/>
                </a:lnTo>
                <a:lnTo>
                  <a:pt x="542" y="245"/>
                </a:lnTo>
                <a:lnTo>
                  <a:pt x="550" y="245"/>
                </a:lnTo>
                <a:lnTo>
                  <a:pt x="550" y="244"/>
                </a:lnTo>
                <a:lnTo>
                  <a:pt x="557" y="244"/>
                </a:lnTo>
                <a:lnTo>
                  <a:pt x="557" y="243"/>
                </a:lnTo>
                <a:lnTo>
                  <a:pt x="563" y="243"/>
                </a:lnTo>
                <a:lnTo>
                  <a:pt x="563" y="242"/>
                </a:lnTo>
                <a:lnTo>
                  <a:pt x="571" y="242"/>
                </a:lnTo>
                <a:lnTo>
                  <a:pt x="571" y="241"/>
                </a:lnTo>
                <a:lnTo>
                  <a:pt x="585" y="241"/>
                </a:lnTo>
                <a:lnTo>
                  <a:pt x="585" y="240"/>
                </a:lnTo>
                <a:lnTo>
                  <a:pt x="599" y="240"/>
                </a:lnTo>
                <a:lnTo>
                  <a:pt x="599" y="239"/>
                </a:lnTo>
                <a:lnTo>
                  <a:pt x="612" y="239"/>
                </a:lnTo>
                <a:lnTo>
                  <a:pt x="612" y="238"/>
                </a:lnTo>
                <a:lnTo>
                  <a:pt x="632" y="238"/>
                </a:lnTo>
                <a:lnTo>
                  <a:pt x="632" y="237"/>
                </a:lnTo>
                <a:lnTo>
                  <a:pt x="692" y="237"/>
                </a:lnTo>
                <a:lnTo>
                  <a:pt x="69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2440" y="5695920"/>
            <a:ext cx="11160" cy="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59120" y="5319720"/>
            <a:ext cx="1014480" cy="536400"/>
          </a:xfrm>
          <a:custGeom>
            <a:avLst/>
            <a:gdLst/>
            <a:ahLst/>
            <a:rect l="l" t="t" r="r" b="b"/>
            <a:pathLst>
              <a:path w="693" h="338">
                <a:moveTo>
                  <a:pt x="692" y="237"/>
                </a:moveTo>
                <a:lnTo>
                  <a:pt x="685" y="237"/>
                </a:lnTo>
                <a:lnTo>
                  <a:pt x="678" y="236"/>
                </a:lnTo>
                <a:lnTo>
                  <a:pt x="639" y="236"/>
                </a:lnTo>
                <a:lnTo>
                  <a:pt x="632" y="237"/>
                </a:lnTo>
                <a:lnTo>
                  <a:pt x="619" y="237"/>
                </a:lnTo>
                <a:lnTo>
                  <a:pt x="612" y="238"/>
                </a:lnTo>
                <a:lnTo>
                  <a:pt x="606" y="238"/>
                </a:lnTo>
                <a:lnTo>
                  <a:pt x="599" y="239"/>
                </a:lnTo>
                <a:lnTo>
                  <a:pt x="591" y="239"/>
                </a:lnTo>
                <a:lnTo>
                  <a:pt x="585" y="240"/>
                </a:lnTo>
                <a:lnTo>
                  <a:pt x="578" y="240"/>
                </a:lnTo>
                <a:lnTo>
                  <a:pt x="571" y="241"/>
                </a:lnTo>
                <a:lnTo>
                  <a:pt x="563" y="242"/>
                </a:lnTo>
                <a:lnTo>
                  <a:pt x="557" y="243"/>
                </a:lnTo>
                <a:lnTo>
                  <a:pt x="550" y="244"/>
                </a:lnTo>
                <a:lnTo>
                  <a:pt x="542" y="245"/>
                </a:lnTo>
                <a:lnTo>
                  <a:pt x="536" y="246"/>
                </a:lnTo>
                <a:lnTo>
                  <a:pt x="528" y="247"/>
                </a:lnTo>
                <a:lnTo>
                  <a:pt x="521" y="248"/>
                </a:lnTo>
                <a:lnTo>
                  <a:pt x="515" y="249"/>
                </a:lnTo>
                <a:lnTo>
                  <a:pt x="507" y="250"/>
                </a:lnTo>
                <a:lnTo>
                  <a:pt x="499" y="251"/>
                </a:lnTo>
                <a:lnTo>
                  <a:pt x="493" y="252"/>
                </a:lnTo>
                <a:lnTo>
                  <a:pt x="485" y="254"/>
                </a:lnTo>
                <a:lnTo>
                  <a:pt x="478" y="255"/>
                </a:lnTo>
                <a:lnTo>
                  <a:pt x="470" y="257"/>
                </a:lnTo>
                <a:lnTo>
                  <a:pt x="463" y="258"/>
                </a:lnTo>
                <a:lnTo>
                  <a:pt x="455" y="260"/>
                </a:lnTo>
                <a:lnTo>
                  <a:pt x="447" y="263"/>
                </a:lnTo>
                <a:lnTo>
                  <a:pt x="440" y="265"/>
                </a:lnTo>
                <a:lnTo>
                  <a:pt x="432" y="268"/>
                </a:lnTo>
                <a:lnTo>
                  <a:pt x="424" y="271"/>
                </a:lnTo>
                <a:lnTo>
                  <a:pt x="417" y="273"/>
                </a:lnTo>
                <a:lnTo>
                  <a:pt x="409" y="276"/>
                </a:lnTo>
                <a:lnTo>
                  <a:pt x="401" y="279"/>
                </a:lnTo>
                <a:lnTo>
                  <a:pt x="393" y="282"/>
                </a:lnTo>
                <a:lnTo>
                  <a:pt x="385" y="286"/>
                </a:lnTo>
                <a:lnTo>
                  <a:pt x="378" y="289"/>
                </a:lnTo>
                <a:lnTo>
                  <a:pt x="370" y="293"/>
                </a:lnTo>
                <a:lnTo>
                  <a:pt x="361" y="295"/>
                </a:lnTo>
                <a:lnTo>
                  <a:pt x="354" y="299"/>
                </a:lnTo>
                <a:lnTo>
                  <a:pt x="346" y="303"/>
                </a:lnTo>
                <a:lnTo>
                  <a:pt x="337" y="306"/>
                </a:lnTo>
                <a:lnTo>
                  <a:pt x="330" y="309"/>
                </a:lnTo>
                <a:lnTo>
                  <a:pt x="321" y="313"/>
                </a:lnTo>
                <a:lnTo>
                  <a:pt x="313" y="316"/>
                </a:lnTo>
                <a:lnTo>
                  <a:pt x="306" y="318"/>
                </a:lnTo>
                <a:lnTo>
                  <a:pt x="298" y="321"/>
                </a:lnTo>
                <a:lnTo>
                  <a:pt x="289" y="323"/>
                </a:lnTo>
                <a:lnTo>
                  <a:pt x="282" y="326"/>
                </a:lnTo>
                <a:lnTo>
                  <a:pt x="274" y="328"/>
                </a:lnTo>
                <a:lnTo>
                  <a:pt x="266" y="330"/>
                </a:lnTo>
                <a:lnTo>
                  <a:pt x="259" y="332"/>
                </a:lnTo>
                <a:lnTo>
                  <a:pt x="251" y="334"/>
                </a:lnTo>
                <a:lnTo>
                  <a:pt x="243" y="335"/>
                </a:lnTo>
                <a:lnTo>
                  <a:pt x="236" y="336"/>
                </a:lnTo>
                <a:lnTo>
                  <a:pt x="228" y="336"/>
                </a:lnTo>
                <a:lnTo>
                  <a:pt x="221" y="337"/>
                </a:lnTo>
                <a:lnTo>
                  <a:pt x="207" y="337"/>
                </a:lnTo>
                <a:lnTo>
                  <a:pt x="199" y="336"/>
                </a:lnTo>
                <a:lnTo>
                  <a:pt x="193" y="336"/>
                </a:lnTo>
                <a:lnTo>
                  <a:pt x="185" y="335"/>
                </a:lnTo>
                <a:lnTo>
                  <a:pt x="177" y="334"/>
                </a:lnTo>
                <a:lnTo>
                  <a:pt x="170" y="333"/>
                </a:lnTo>
                <a:lnTo>
                  <a:pt x="164" y="332"/>
                </a:lnTo>
                <a:lnTo>
                  <a:pt x="156" y="330"/>
                </a:lnTo>
                <a:lnTo>
                  <a:pt x="149" y="329"/>
                </a:lnTo>
                <a:lnTo>
                  <a:pt x="142" y="327"/>
                </a:lnTo>
                <a:lnTo>
                  <a:pt x="135" y="325"/>
                </a:lnTo>
                <a:lnTo>
                  <a:pt x="128" y="323"/>
                </a:lnTo>
                <a:lnTo>
                  <a:pt x="121" y="321"/>
                </a:lnTo>
                <a:lnTo>
                  <a:pt x="114" y="319"/>
                </a:lnTo>
                <a:lnTo>
                  <a:pt x="107" y="317"/>
                </a:lnTo>
                <a:lnTo>
                  <a:pt x="101" y="315"/>
                </a:lnTo>
                <a:lnTo>
                  <a:pt x="93" y="312"/>
                </a:lnTo>
                <a:lnTo>
                  <a:pt x="86" y="309"/>
                </a:lnTo>
                <a:lnTo>
                  <a:pt x="79" y="306"/>
                </a:lnTo>
                <a:lnTo>
                  <a:pt x="73" y="302"/>
                </a:lnTo>
                <a:lnTo>
                  <a:pt x="66" y="299"/>
                </a:lnTo>
                <a:lnTo>
                  <a:pt x="59" y="295"/>
                </a:lnTo>
                <a:lnTo>
                  <a:pt x="53" y="292"/>
                </a:lnTo>
                <a:lnTo>
                  <a:pt x="46" y="288"/>
                </a:lnTo>
                <a:lnTo>
                  <a:pt x="39" y="284"/>
                </a:lnTo>
                <a:lnTo>
                  <a:pt x="32" y="280"/>
                </a:lnTo>
                <a:lnTo>
                  <a:pt x="26" y="275"/>
                </a:lnTo>
                <a:lnTo>
                  <a:pt x="19" y="272"/>
                </a:lnTo>
                <a:lnTo>
                  <a:pt x="13" y="267"/>
                </a:lnTo>
                <a:lnTo>
                  <a:pt x="7" y="262"/>
                </a:lnTo>
                <a:lnTo>
                  <a:pt x="0" y="257"/>
                </a:lnTo>
                <a:lnTo>
                  <a:pt x="0" y="0"/>
                </a:lnTo>
                <a:lnTo>
                  <a:pt x="692" y="0"/>
                </a:lnTo>
                <a:lnTo>
                  <a:pt x="692" y="237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57360" y="5690160"/>
            <a:ext cx="863280" cy="14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30" y="8399"/>
                </a:moveTo>
                <a:arcTo wR="10800" hR="10800" stAng="-770729" swAng="12105708"/>
                <a:lnTo>
                  <a:pt x="10800" y="10800"/>
                </a:lnTo>
                <a:close/>
              </a:path>
              <a:path fill="none" w="21600" h="21600">
                <a:moveTo>
                  <a:pt x="21330" y="8399"/>
                </a:moveTo>
                <a:arcTo wR="10800" hR="10800" stAng="-770729" swAng="12105708"/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549440" y="5299200"/>
            <a:ext cx="0" cy="45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425680" y="5299200"/>
            <a:ext cx="0" cy="45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55920" y="5218200"/>
            <a:ext cx="863280" cy="142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07960" y="2076480"/>
            <a:ext cx="1162080" cy="314280"/>
          </a:xfrm>
          <a:custGeom>
            <a:avLst/>
            <a:gdLst/>
            <a:ahLst/>
            <a:rect l="l" t="t" r="r" b="b"/>
            <a:pathLst>
              <a:path w="792" h="198">
                <a:moveTo>
                  <a:pt x="30" y="0"/>
                </a:moveTo>
                <a:lnTo>
                  <a:pt x="25" y="0"/>
                </a:lnTo>
                <a:lnTo>
                  <a:pt x="24" y="1"/>
                </a:lnTo>
                <a:lnTo>
                  <a:pt x="21" y="1"/>
                </a:lnTo>
                <a:lnTo>
                  <a:pt x="20" y="1"/>
                </a:lnTo>
                <a:lnTo>
                  <a:pt x="18" y="1"/>
                </a:lnTo>
                <a:lnTo>
                  <a:pt x="17" y="2"/>
                </a:lnTo>
                <a:lnTo>
                  <a:pt x="16" y="2"/>
                </a:lnTo>
                <a:lnTo>
                  <a:pt x="15" y="3"/>
                </a:lnTo>
                <a:lnTo>
                  <a:pt x="14" y="3"/>
                </a:lnTo>
                <a:lnTo>
                  <a:pt x="14" y="4"/>
                </a:lnTo>
                <a:lnTo>
                  <a:pt x="13" y="4"/>
                </a:lnTo>
                <a:lnTo>
                  <a:pt x="12" y="5"/>
                </a:lnTo>
                <a:lnTo>
                  <a:pt x="11" y="5"/>
                </a:lnTo>
                <a:lnTo>
                  <a:pt x="11" y="6"/>
                </a:lnTo>
                <a:lnTo>
                  <a:pt x="10" y="6"/>
                </a:lnTo>
                <a:lnTo>
                  <a:pt x="10" y="7"/>
                </a:lnTo>
                <a:lnTo>
                  <a:pt x="9" y="7"/>
                </a:lnTo>
                <a:lnTo>
                  <a:pt x="8" y="9"/>
                </a:lnTo>
                <a:lnTo>
                  <a:pt x="8" y="10"/>
                </a:lnTo>
                <a:lnTo>
                  <a:pt x="7" y="10"/>
                </a:lnTo>
                <a:lnTo>
                  <a:pt x="7" y="11"/>
                </a:lnTo>
                <a:lnTo>
                  <a:pt x="6" y="11"/>
                </a:lnTo>
                <a:lnTo>
                  <a:pt x="6" y="12"/>
                </a:lnTo>
                <a:lnTo>
                  <a:pt x="5" y="13"/>
                </a:lnTo>
                <a:lnTo>
                  <a:pt x="5" y="14"/>
                </a:lnTo>
                <a:lnTo>
                  <a:pt x="4" y="14"/>
                </a:lnTo>
                <a:lnTo>
                  <a:pt x="4" y="15"/>
                </a:lnTo>
                <a:lnTo>
                  <a:pt x="3" y="16"/>
                </a:lnTo>
                <a:lnTo>
                  <a:pt x="3" y="17"/>
                </a:lnTo>
                <a:lnTo>
                  <a:pt x="2" y="18"/>
                </a:lnTo>
                <a:lnTo>
                  <a:pt x="2" y="20"/>
                </a:lnTo>
                <a:lnTo>
                  <a:pt x="1" y="21"/>
                </a:lnTo>
                <a:lnTo>
                  <a:pt x="1" y="23"/>
                </a:lnTo>
                <a:lnTo>
                  <a:pt x="0" y="24"/>
                </a:lnTo>
                <a:lnTo>
                  <a:pt x="0" y="29"/>
                </a:lnTo>
                <a:lnTo>
                  <a:pt x="0" y="172"/>
                </a:lnTo>
                <a:lnTo>
                  <a:pt x="1" y="173"/>
                </a:lnTo>
                <a:lnTo>
                  <a:pt x="1" y="176"/>
                </a:lnTo>
                <a:lnTo>
                  <a:pt x="2" y="177"/>
                </a:lnTo>
                <a:lnTo>
                  <a:pt x="2" y="179"/>
                </a:lnTo>
                <a:lnTo>
                  <a:pt x="3" y="180"/>
                </a:lnTo>
                <a:lnTo>
                  <a:pt x="4" y="181"/>
                </a:lnTo>
                <a:lnTo>
                  <a:pt x="4" y="182"/>
                </a:lnTo>
                <a:lnTo>
                  <a:pt x="5" y="182"/>
                </a:lnTo>
                <a:lnTo>
                  <a:pt x="5" y="183"/>
                </a:lnTo>
                <a:lnTo>
                  <a:pt x="6" y="184"/>
                </a:lnTo>
                <a:lnTo>
                  <a:pt x="6" y="185"/>
                </a:lnTo>
                <a:lnTo>
                  <a:pt x="7" y="185"/>
                </a:lnTo>
                <a:lnTo>
                  <a:pt x="7" y="186"/>
                </a:lnTo>
                <a:lnTo>
                  <a:pt x="8" y="186"/>
                </a:lnTo>
                <a:lnTo>
                  <a:pt x="8" y="187"/>
                </a:lnTo>
                <a:lnTo>
                  <a:pt x="9" y="189"/>
                </a:lnTo>
                <a:lnTo>
                  <a:pt x="10" y="189"/>
                </a:lnTo>
                <a:lnTo>
                  <a:pt x="10" y="190"/>
                </a:lnTo>
                <a:lnTo>
                  <a:pt x="11" y="190"/>
                </a:lnTo>
                <a:lnTo>
                  <a:pt x="11" y="191"/>
                </a:lnTo>
                <a:lnTo>
                  <a:pt x="12" y="191"/>
                </a:lnTo>
                <a:lnTo>
                  <a:pt x="13" y="192"/>
                </a:lnTo>
                <a:lnTo>
                  <a:pt x="14" y="192"/>
                </a:lnTo>
                <a:lnTo>
                  <a:pt x="14" y="193"/>
                </a:lnTo>
                <a:lnTo>
                  <a:pt x="15" y="193"/>
                </a:lnTo>
                <a:lnTo>
                  <a:pt x="16" y="194"/>
                </a:lnTo>
                <a:lnTo>
                  <a:pt x="17" y="194"/>
                </a:lnTo>
                <a:lnTo>
                  <a:pt x="18" y="195"/>
                </a:lnTo>
                <a:lnTo>
                  <a:pt x="20" y="195"/>
                </a:lnTo>
                <a:lnTo>
                  <a:pt x="21" y="196"/>
                </a:lnTo>
                <a:lnTo>
                  <a:pt x="24" y="196"/>
                </a:lnTo>
                <a:lnTo>
                  <a:pt x="25" y="197"/>
                </a:lnTo>
                <a:lnTo>
                  <a:pt x="30" y="197"/>
                </a:lnTo>
                <a:lnTo>
                  <a:pt x="766" y="197"/>
                </a:lnTo>
                <a:lnTo>
                  <a:pt x="767" y="196"/>
                </a:lnTo>
                <a:lnTo>
                  <a:pt x="770" y="196"/>
                </a:lnTo>
                <a:lnTo>
                  <a:pt x="771" y="195"/>
                </a:lnTo>
                <a:lnTo>
                  <a:pt x="773" y="195"/>
                </a:lnTo>
                <a:lnTo>
                  <a:pt x="774" y="194"/>
                </a:lnTo>
                <a:lnTo>
                  <a:pt x="775" y="194"/>
                </a:lnTo>
                <a:lnTo>
                  <a:pt x="776" y="193"/>
                </a:lnTo>
                <a:lnTo>
                  <a:pt x="777" y="193"/>
                </a:lnTo>
                <a:lnTo>
                  <a:pt x="777" y="192"/>
                </a:lnTo>
                <a:lnTo>
                  <a:pt x="778" y="192"/>
                </a:lnTo>
                <a:lnTo>
                  <a:pt x="779" y="191"/>
                </a:lnTo>
                <a:lnTo>
                  <a:pt x="780" y="191"/>
                </a:lnTo>
                <a:lnTo>
                  <a:pt x="780" y="190"/>
                </a:lnTo>
                <a:lnTo>
                  <a:pt x="780" y="189"/>
                </a:lnTo>
                <a:lnTo>
                  <a:pt x="781" y="189"/>
                </a:lnTo>
                <a:lnTo>
                  <a:pt x="783" y="187"/>
                </a:lnTo>
                <a:lnTo>
                  <a:pt x="783" y="186"/>
                </a:lnTo>
                <a:lnTo>
                  <a:pt x="784" y="186"/>
                </a:lnTo>
                <a:lnTo>
                  <a:pt x="784" y="185"/>
                </a:lnTo>
                <a:lnTo>
                  <a:pt x="785" y="185"/>
                </a:lnTo>
                <a:lnTo>
                  <a:pt x="785" y="184"/>
                </a:lnTo>
                <a:lnTo>
                  <a:pt x="786" y="183"/>
                </a:lnTo>
                <a:lnTo>
                  <a:pt x="786" y="182"/>
                </a:lnTo>
                <a:lnTo>
                  <a:pt x="787" y="182"/>
                </a:lnTo>
                <a:lnTo>
                  <a:pt x="787" y="181"/>
                </a:lnTo>
                <a:lnTo>
                  <a:pt x="788" y="180"/>
                </a:lnTo>
                <a:lnTo>
                  <a:pt x="789" y="179"/>
                </a:lnTo>
                <a:lnTo>
                  <a:pt x="789" y="177"/>
                </a:lnTo>
                <a:lnTo>
                  <a:pt x="790" y="176"/>
                </a:lnTo>
                <a:lnTo>
                  <a:pt x="790" y="173"/>
                </a:lnTo>
                <a:lnTo>
                  <a:pt x="791" y="172"/>
                </a:lnTo>
                <a:lnTo>
                  <a:pt x="791" y="167"/>
                </a:lnTo>
                <a:lnTo>
                  <a:pt x="791" y="24"/>
                </a:lnTo>
                <a:lnTo>
                  <a:pt x="790" y="23"/>
                </a:lnTo>
                <a:lnTo>
                  <a:pt x="790" y="21"/>
                </a:lnTo>
                <a:lnTo>
                  <a:pt x="789" y="20"/>
                </a:lnTo>
                <a:lnTo>
                  <a:pt x="789" y="18"/>
                </a:lnTo>
                <a:lnTo>
                  <a:pt x="788" y="17"/>
                </a:lnTo>
                <a:lnTo>
                  <a:pt x="788" y="16"/>
                </a:lnTo>
                <a:lnTo>
                  <a:pt x="787" y="15"/>
                </a:lnTo>
                <a:lnTo>
                  <a:pt x="787" y="14"/>
                </a:lnTo>
                <a:lnTo>
                  <a:pt x="786" y="14"/>
                </a:lnTo>
                <a:lnTo>
                  <a:pt x="786" y="13"/>
                </a:lnTo>
                <a:lnTo>
                  <a:pt x="785" y="12"/>
                </a:lnTo>
                <a:lnTo>
                  <a:pt x="785" y="11"/>
                </a:lnTo>
                <a:lnTo>
                  <a:pt x="784" y="11"/>
                </a:lnTo>
                <a:lnTo>
                  <a:pt x="784" y="10"/>
                </a:lnTo>
                <a:lnTo>
                  <a:pt x="783" y="10"/>
                </a:lnTo>
                <a:lnTo>
                  <a:pt x="783" y="9"/>
                </a:lnTo>
                <a:lnTo>
                  <a:pt x="781" y="7"/>
                </a:lnTo>
                <a:lnTo>
                  <a:pt x="780" y="7"/>
                </a:lnTo>
                <a:lnTo>
                  <a:pt x="780" y="6"/>
                </a:lnTo>
                <a:lnTo>
                  <a:pt x="780" y="5"/>
                </a:lnTo>
                <a:lnTo>
                  <a:pt x="779" y="5"/>
                </a:lnTo>
                <a:lnTo>
                  <a:pt x="778" y="4"/>
                </a:lnTo>
                <a:lnTo>
                  <a:pt x="777" y="4"/>
                </a:lnTo>
                <a:lnTo>
                  <a:pt x="777" y="3"/>
                </a:lnTo>
                <a:lnTo>
                  <a:pt x="776" y="3"/>
                </a:lnTo>
                <a:lnTo>
                  <a:pt x="775" y="2"/>
                </a:lnTo>
                <a:lnTo>
                  <a:pt x="774" y="2"/>
                </a:lnTo>
                <a:lnTo>
                  <a:pt x="773" y="1"/>
                </a:lnTo>
                <a:lnTo>
                  <a:pt x="771" y="1"/>
                </a:lnTo>
                <a:lnTo>
                  <a:pt x="770" y="1"/>
                </a:lnTo>
                <a:lnTo>
                  <a:pt x="767" y="1"/>
                </a:lnTo>
                <a:lnTo>
                  <a:pt x="766" y="0"/>
                </a:lnTo>
                <a:lnTo>
                  <a:pt x="3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91360" y="2136600"/>
            <a:ext cx="383400" cy="13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5fc62"/>
                </a:solidFill>
                <a:latin typeface="AvantGarde"/>
              </a:rPr>
              <a:t>INIZ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14440" y="2708280"/>
            <a:ext cx="1146240" cy="299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24520" y="2778120"/>
            <a:ext cx="1100880" cy="13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5fc62"/>
                </a:solidFill>
                <a:latin typeface="AvantGarde"/>
              </a:rPr>
              <a:t>RICEZIONE ORD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53920" y="3570120"/>
            <a:ext cx="455040" cy="13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5fc62"/>
                </a:solidFill>
                <a:latin typeface="AvantGarde"/>
              </a:rPr>
              <a:t>ORD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65720" y="3720960"/>
            <a:ext cx="630000" cy="13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5fc62"/>
                </a:solidFill>
                <a:latin typeface="AvantGarde"/>
              </a:rPr>
              <a:t>COMPL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58400" y="3871800"/>
            <a:ext cx="55440" cy="13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5fc62"/>
                </a:solidFill>
                <a:latin typeface="AvantGarde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14440" y="4591080"/>
            <a:ext cx="1146240" cy="301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33240" y="4597560"/>
            <a:ext cx="803880" cy="12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5fc62"/>
                </a:solidFill>
                <a:latin typeface="AvantGarde"/>
              </a:rPr>
              <a:t>INSERIMENTO 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960" y="4724280"/>
            <a:ext cx="1091880" cy="12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5fc62"/>
                </a:solidFill>
                <a:latin typeface="AvantGarde"/>
              </a:rPr>
              <a:t>SELEZIONE PRIORITA'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840" y="5372280"/>
            <a:ext cx="455040" cy="13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5fc62"/>
                </a:solidFill>
                <a:latin typeface="AvantGarde"/>
              </a:rPr>
              <a:t>ORD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02720" y="5522760"/>
            <a:ext cx="749160" cy="13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5fc62"/>
                </a:solidFill>
                <a:latin typeface="AvantGarde"/>
              </a:rPr>
              <a:t>PIANIFICA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81560" y="5675400"/>
            <a:ext cx="596520" cy="13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5fc62"/>
                </a:solidFill>
                <a:latin typeface="AvantGarde"/>
              </a:rPr>
              <a:t>A SISTE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50880" y="3330720"/>
            <a:ext cx="874800" cy="939600"/>
          </a:xfrm>
          <a:custGeom>
            <a:avLst/>
            <a:gdLst/>
            <a:ahLst/>
            <a:rect l="l" t="t" r="r" b="b"/>
            <a:pathLst>
              <a:path w="597" h="592">
                <a:moveTo>
                  <a:pt x="299" y="0"/>
                </a:moveTo>
                <a:lnTo>
                  <a:pt x="0" y="295"/>
                </a:lnTo>
                <a:lnTo>
                  <a:pt x="299" y="591"/>
                </a:lnTo>
                <a:lnTo>
                  <a:pt x="596" y="295"/>
                </a:lnTo>
                <a:lnTo>
                  <a:pt x="299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85200" y="5357880"/>
            <a:ext cx="627120" cy="13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82995"/>
                </a:solidFill>
                <a:latin typeface="AvantGarde"/>
              </a:rPr>
              <a:t>STAMPA D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66480" y="5508720"/>
            <a:ext cx="648360" cy="13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82995"/>
                </a:solidFill>
                <a:latin typeface="AvantGarde"/>
              </a:rPr>
              <a:t>CONFER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87560" y="2397240"/>
            <a:ext cx="1440" cy="29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7560" y="3022560"/>
            <a:ext cx="1440" cy="301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87560" y="4276800"/>
            <a:ext cx="1440" cy="301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28880" y="4451400"/>
            <a:ext cx="122040" cy="135000"/>
          </a:xfrm>
          <a:custGeom>
            <a:avLst/>
            <a:gdLst/>
            <a:ahLst/>
            <a:rect l="l" t="t" r="r" b="b"/>
            <a:pathLst>
              <a:path w="83" h="85">
                <a:moveTo>
                  <a:pt x="82" y="0"/>
                </a:moveTo>
                <a:lnTo>
                  <a:pt x="42" y="84"/>
                </a:lnTo>
                <a:lnTo>
                  <a:pt x="0" y="0"/>
                </a:lnTo>
                <a:lnTo>
                  <a:pt x="82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7560" y="4906800"/>
            <a:ext cx="1440" cy="29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28880" y="5079960"/>
            <a:ext cx="122040" cy="133560"/>
          </a:xfrm>
          <a:custGeom>
            <a:avLst/>
            <a:gdLst/>
            <a:ahLst/>
            <a:rect l="l" t="t" r="r" b="b"/>
            <a:pathLst>
              <a:path w="83" h="84">
                <a:moveTo>
                  <a:pt x="82" y="0"/>
                </a:moveTo>
                <a:lnTo>
                  <a:pt x="42" y="83"/>
                </a:lnTo>
                <a:lnTo>
                  <a:pt x="0" y="0"/>
                </a:lnTo>
                <a:lnTo>
                  <a:pt x="82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7560" y="4991040"/>
            <a:ext cx="1365120" cy="317520"/>
          </a:xfrm>
          <a:custGeom>
            <a:avLst/>
            <a:gdLst/>
            <a:ahLst/>
            <a:rect l="l" t="t" r="r" b="b"/>
            <a:pathLst>
              <a:path w="931" h="200">
                <a:moveTo>
                  <a:pt x="930" y="199"/>
                </a:moveTo>
                <a:lnTo>
                  <a:pt x="93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90760" y="5173560"/>
            <a:ext cx="120600" cy="135000"/>
          </a:xfrm>
          <a:custGeom>
            <a:avLst/>
            <a:gdLst/>
            <a:ahLst/>
            <a:rect l="l" t="t" r="r" b="b"/>
            <a:pathLst>
              <a:path w="82" h="85">
                <a:moveTo>
                  <a:pt x="81" y="0"/>
                </a:moveTo>
                <a:lnTo>
                  <a:pt x="41" y="84"/>
                </a:lnTo>
                <a:lnTo>
                  <a:pt x="0" y="0"/>
                </a:lnTo>
                <a:lnTo>
                  <a:pt x="81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32160" y="3800520"/>
            <a:ext cx="4204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35280" y="3735360"/>
            <a:ext cx="123840" cy="131760"/>
          </a:xfrm>
          <a:custGeom>
            <a:avLst/>
            <a:gdLst/>
            <a:ahLst/>
            <a:rect l="l" t="t" r="r" b="b"/>
            <a:pathLst>
              <a:path w="86" h="83">
                <a:moveTo>
                  <a:pt x="0" y="0"/>
                </a:moveTo>
                <a:lnTo>
                  <a:pt x="85" y="42"/>
                </a:lnTo>
                <a:lnTo>
                  <a:pt x="0" y="8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56360" y="3570120"/>
            <a:ext cx="163800" cy="13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5fc62"/>
                </a:solidFill>
                <a:latin typeface="AvantGarde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94120" y="4262400"/>
            <a:ext cx="98280" cy="13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5fc62"/>
                </a:solidFill>
                <a:latin typeface="AvantGarde"/>
              </a:rPr>
              <a:t>S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63520" y="3719520"/>
            <a:ext cx="79920" cy="13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5fc62"/>
                </a:solidFill>
                <a:latin typeface="AvantGarde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76800" y="2076480"/>
            <a:ext cx="1015920" cy="314280"/>
          </a:xfrm>
          <a:custGeom>
            <a:avLst/>
            <a:gdLst/>
            <a:ahLst/>
            <a:rect l="l" t="t" r="r" b="b"/>
            <a:pathLst>
              <a:path w="694" h="198">
                <a:moveTo>
                  <a:pt x="29" y="0"/>
                </a:moveTo>
                <a:lnTo>
                  <a:pt x="25" y="0"/>
                </a:lnTo>
                <a:lnTo>
                  <a:pt x="24" y="1"/>
                </a:lnTo>
                <a:lnTo>
                  <a:pt x="21" y="1"/>
                </a:lnTo>
                <a:lnTo>
                  <a:pt x="20" y="1"/>
                </a:lnTo>
                <a:lnTo>
                  <a:pt x="18" y="1"/>
                </a:lnTo>
                <a:lnTo>
                  <a:pt x="17" y="2"/>
                </a:lnTo>
                <a:lnTo>
                  <a:pt x="16" y="2"/>
                </a:lnTo>
                <a:lnTo>
                  <a:pt x="15" y="3"/>
                </a:lnTo>
                <a:lnTo>
                  <a:pt x="14" y="3"/>
                </a:lnTo>
                <a:lnTo>
                  <a:pt x="14" y="4"/>
                </a:lnTo>
                <a:lnTo>
                  <a:pt x="13" y="4"/>
                </a:lnTo>
                <a:lnTo>
                  <a:pt x="12" y="5"/>
                </a:lnTo>
                <a:lnTo>
                  <a:pt x="11" y="5"/>
                </a:lnTo>
                <a:lnTo>
                  <a:pt x="11" y="6"/>
                </a:lnTo>
                <a:lnTo>
                  <a:pt x="10" y="6"/>
                </a:lnTo>
                <a:lnTo>
                  <a:pt x="10" y="7"/>
                </a:lnTo>
                <a:lnTo>
                  <a:pt x="9" y="7"/>
                </a:lnTo>
                <a:lnTo>
                  <a:pt x="7" y="9"/>
                </a:lnTo>
                <a:lnTo>
                  <a:pt x="7" y="10"/>
                </a:lnTo>
                <a:lnTo>
                  <a:pt x="6" y="10"/>
                </a:lnTo>
                <a:lnTo>
                  <a:pt x="6" y="11"/>
                </a:lnTo>
                <a:lnTo>
                  <a:pt x="5" y="11"/>
                </a:lnTo>
                <a:lnTo>
                  <a:pt x="5" y="12"/>
                </a:lnTo>
                <a:lnTo>
                  <a:pt x="5" y="13"/>
                </a:lnTo>
                <a:lnTo>
                  <a:pt x="5" y="14"/>
                </a:lnTo>
                <a:lnTo>
                  <a:pt x="4" y="14"/>
                </a:lnTo>
                <a:lnTo>
                  <a:pt x="4" y="15"/>
                </a:lnTo>
                <a:lnTo>
                  <a:pt x="3" y="16"/>
                </a:lnTo>
                <a:lnTo>
                  <a:pt x="3" y="17"/>
                </a:lnTo>
                <a:lnTo>
                  <a:pt x="2" y="18"/>
                </a:lnTo>
                <a:lnTo>
                  <a:pt x="2" y="20"/>
                </a:lnTo>
                <a:lnTo>
                  <a:pt x="1" y="21"/>
                </a:lnTo>
                <a:lnTo>
                  <a:pt x="1" y="23"/>
                </a:lnTo>
                <a:lnTo>
                  <a:pt x="0" y="24"/>
                </a:lnTo>
                <a:lnTo>
                  <a:pt x="0" y="29"/>
                </a:lnTo>
                <a:lnTo>
                  <a:pt x="0" y="172"/>
                </a:lnTo>
                <a:lnTo>
                  <a:pt x="1" y="173"/>
                </a:lnTo>
                <a:lnTo>
                  <a:pt x="1" y="176"/>
                </a:lnTo>
                <a:lnTo>
                  <a:pt x="2" y="177"/>
                </a:lnTo>
                <a:lnTo>
                  <a:pt x="2" y="179"/>
                </a:lnTo>
                <a:lnTo>
                  <a:pt x="3" y="180"/>
                </a:lnTo>
                <a:lnTo>
                  <a:pt x="4" y="181"/>
                </a:lnTo>
                <a:lnTo>
                  <a:pt x="4" y="182"/>
                </a:lnTo>
                <a:lnTo>
                  <a:pt x="5" y="182"/>
                </a:lnTo>
                <a:lnTo>
                  <a:pt x="5" y="183"/>
                </a:lnTo>
                <a:lnTo>
                  <a:pt x="5" y="184"/>
                </a:lnTo>
                <a:lnTo>
                  <a:pt x="5" y="185"/>
                </a:lnTo>
                <a:lnTo>
                  <a:pt x="6" y="185"/>
                </a:lnTo>
                <a:lnTo>
                  <a:pt x="6" y="186"/>
                </a:lnTo>
                <a:lnTo>
                  <a:pt x="7" y="186"/>
                </a:lnTo>
                <a:lnTo>
                  <a:pt x="7" y="187"/>
                </a:lnTo>
                <a:lnTo>
                  <a:pt x="9" y="189"/>
                </a:lnTo>
                <a:lnTo>
                  <a:pt x="10" y="189"/>
                </a:lnTo>
                <a:lnTo>
                  <a:pt x="10" y="190"/>
                </a:lnTo>
                <a:lnTo>
                  <a:pt x="11" y="190"/>
                </a:lnTo>
                <a:lnTo>
                  <a:pt x="11" y="191"/>
                </a:lnTo>
                <a:lnTo>
                  <a:pt x="12" y="191"/>
                </a:lnTo>
                <a:lnTo>
                  <a:pt x="13" y="192"/>
                </a:lnTo>
                <a:lnTo>
                  <a:pt x="14" y="192"/>
                </a:lnTo>
                <a:lnTo>
                  <a:pt x="14" y="193"/>
                </a:lnTo>
                <a:lnTo>
                  <a:pt x="15" y="193"/>
                </a:lnTo>
                <a:lnTo>
                  <a:pt x="16" y="194"/>
                </a:lnTo>
                <a:lnTo>
                  <a:pt x="17" y="194"/>
                </a:lnTo>
                <a:lnTo>
                  <a:pt x="18" y="195"/>
                </a:lnTo>
                <a:lnTo>
                  <a:pt x="20" y="195"/>
                </a:lnTo>
                <a:lnTo>
                  <a:pt x="21" y="196"/>
                </a:lnTo>
                <a:lnTo>
                  <a:pt x="24" y="196"/>
                </a:lnTo>
                <a:lnTo>
                  <a:pt x="25" y="197"/>
                </a:lnTo>
                <a:lnTo>
                  <a:pt x="29" y="197"/>
                </a:lnTo>
                <a:lnTo>
                  <a:pt x="668" y="197"/>
                </a:lnTo>
                <a:lnTo>
                  <a:pt x="669" y="196"/>
                </a:lnTo>
                <a:lnTo>
                  <a:pt x="672" y="196"/>
                </a:lnTo>
                <a:lnTo>
                  <a:pt x="673" y="195"/>
                </a:lnTo>
                <a:lnTo>
                  <a:pt x="674" y="195"/>
                </a:lnTo>
                <a:lnTo>
                  <a:pt x="675" y="194"/>
                </a:lnTo>
                <a:lnTo>
                  <a:pt x="676" y="194"/>
                </a:lnTo>
                <a:lnTo>
                  <a:pt x="677" y="193"/>
                </a:lnTo>
                <a:lnTo>
                  <a:pt x="678" y="193"/>
                </a:lnTo>
                <a:lnTo>
                  <a:pt x="678" y="192"/>
                </a:lnTo>
                <a:lnTo>
                  <a:pt x="679" y="192"/>
                </a:lnTo>
                <a:lnTo>
                  <a:pt x="680" y="191"/>
                </a:lnTo>
                <a:lnTo>
                  <a:pt x="681" y="191"/>
                </a:lnTo>
                <a:lnTo>
                  <a:pt x="681" y="190"/>
                </a:lnTo>
                <a:lnTo>
                  <a:pt x="682" y="190"/>
                </a:lnTo>
                <a:lnTo>
                  <a:pt x="682" y="189"/>
                </a:lnTo>
                <a:lnTo>
                  <a:pt x="683" y="189"/>
                </a:lnTo>
                <a:lnTo>
                  <a:pt x="685" y="187"/>
                </a:lnTo>
                <a:lnTo>
                  <a:pt x="685" y="186"/>
                </a:lnTo>
                <a:lnTo>
                  <a:pt x="686" y="186"/>
                </a:lnTo>
                <a:lnTo>
                  <a:pt x="686" y="185"/>
                </a:lnTo>
                <a:lnTo>
                  <a:pt x="687" y="185"/>
                </a:lnTo>
                <a:lnTo>
                  <a:pt x="687" y="184"/>
                </a:lnTo>
                <a:lnTo>
                  <a:pt x="688" y="183"/>
                </a:lnTo>
                <a:lnTo>
                  <a:pt x="688" y="182"/>
                </a:lnTo>
                <a:lnTo>
                  <a:pt x="689" y="182"/>
                </a:lnTo>
                <a:lnTo>
                  <a:pt x="689" y="181"/>
                </a:lnTo>
                <a:lnTo>
                  <a:pt x="690" y="180"/>
                </a:lnTo>
                <a:lnTo>
                  <a:pt x="691" y="179"/>
                </a:lnTo>
                <a:lnTo>
                  <a:pt x="691" y="177"/>
                </a:lnTo>
                <a:lnTo>
                  <a:pt x="692" y="176"/>
                </a:lnTo>
                <a:lnTo>
                  <a:pt x="692" y="173"/>
                </a:lnTo>
                <a:lnTo>
                  <a:pt x="693" y="172"/>
                </a:lnTo>
                <a:lnTo>
                  <a:pt x="693" y="167"/>
                </a:lnTo>
                <a:lnTo>
                  <a:pt x="693" y="24"/>
                </a:lnTo>
                <a:lnTo>
                  <a:pt x="692" y="23"/>
                </a:lnTo>
                <a:lnTo>
                  <a:pt x="692" y="21"/>
                </a:lnTo>
                <a:lnTo>
                  <a:pt x="691" y="20"/>
                </a:lnTo>
                <a:lnTo>
                  <a:pt x="691" y="18"/>
                </a:lnTo>
                <a:lnTo>
                  <a:pt x="690" y="17"/>
                </a:lnTo>
                <a:lnTo>
                  <a:pt x="690" y="16"/>
                </a:lnTo>
                <a:lnTo>
                  <a:pt x="689" y="15"/>
                </a:lnTo>
                <a:lnTo>
                  <a:pt x="689" y="14"/>
                </a:lnTo>
                <a:lnTo>
                  <a:pt x="688" y="14"/>
                </a:lnTo>
                <a:lnTo>
                  <a:pt x="688" y="13"/>
                </a:lnTo>
                <a:lnTo>
                  <a:pt x="687" y="12"/>
                </a:lnTo>
                <a:lnTo>
                  <a:pt x="687" y="11"/>
                </a:lnTo>
                <a:lnTo>
                  <a:pt x="686" y="11"/>
                </a:lnTo>
                <a:lnTo>
                  <a:pt x="686" y="10"/>
                </a:lnTo>
                <a:lnTo>
                  <a:pt x="685" y="10"/>
                </a:lnTo>
                <a:lnTo>
                  <a:pt x="685" y="9"/>
                </a:lnTo>
                <a:lnTo>
                  <a:pt x="683" y="7"/>
                </a:lnTo>
                <a:lnTo>
                  <a:pt x="682" y="7"/>
                </a:lnTo>
                <a:lnTo>
                  <a:pt x="682" y="6"/>
                </a:lnTo>
                <a:lnTo>
                  <a:pt x="681" y="6"/>
                </a:lnTo>
                <a:lnTo>
                  <a:pt x="681" y="5"/>
                </a:lnTo>
                <a:lnTo>
                  <a:pt x="680" y="5"/>
                </a:lnTo>
                <a:lnTo>
                  <a:pt x="679" y="4"/>
                </a:lnTo>
                <a:lnTo>
                  <a:pt x="678" y="4"/>
                </a:lnTo>
                <a:lnTo>
                  <a:pt x="678" y="3"/>
                </a:lnTo>
                <a:lnTo>
                  <a:pt x="677" y="3"/>
                </a:lnTo>
                <a:lnTo>
                  <a:pt x="676" y="2"/>
                </a:lnTo>
                <a:lnTo>
                  <a:pt x="675" y="2"/>
                </a:lnTo>
                <a:lnTo>
                  <a:pt x="674" y="1"/>
                </a:lnTo>
                <a:lnTo>
                  <a:pt x="673" y="1"/>
                </a:lnTo>
                <a:lnTo>
                  <a:pt x="672" y="1"/>
                </a:lnTo>
                <a:lnTo>
                  <a:pt x="669" y="1"/>
                </a:lnTo>
                <a:lnTo>
                  <a:pt x="668" y="0"/>
                </a:lnTo>
                <a:lnTo>
                  <a:pt x="29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83280" y="2550960"/>
            <a:ext cx="1003320" cy="301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76800" y="3014640"/>
            <a:ext cx="1015920" cy="534960"/>
          </a:xfrm>
          <a:custGeom>
            <a:avLst/>
            <a:gdLst/>
            <a:ahLst/>
            <a:rect l="l" t="t" r="r" b="b"/>
            <a:pathLst>
              <a:path w="694" h="337">
                <a:moveTo>
                  <a:pt x="0" y="0"/>
                </a:moveTo>
                <a:lnTo>
                  <a:pt x="0" y="258"/>
                </a:lnTo>
                <a:lnTo>
                  <a:pt x="1" y="258"/>
                </a:lnTo>
                <a:lnTo>
                  <a:pt x="1" y="259"/>
                </a:lnTo>
                <a:lnTo>
                  <a:pt x="3" y="259"/>
                </a:lnTo>
                <a:lnTo>
                  <a:pt x="4" y="261"/>
                </a:lnTo>
                <a:lnTo>
                  <a:pt x="5" y="261"/>
                </a:lnTo>
                <a:lnTo>
                  <a:pt x="6" y="263"/>
                </a:lnTo>
                <a:lnTo>
                  <a:pt x="7" y="263"/>
                </a:lnTo>
                <a:lnTo>
                  <a:pt x="7" y="264"/>
                </a:lnTo>
                <a:lnTo>
                  <a:pt x="9" y="264"/>
                </a:lnTo>
                <a:lnTo>
                  <a:pt x="10" y="266"/>
                </a:lnTo>
                <a:lnTo>
                  <a:pt x="12" y="266"/>
                </a:lnTo>
                <a:lnTo>
                  <a:pt x="13" y="268"/>
                </a:lnTo>
                <a:lnTo>
                  <a:pt x="14" y="268"/>
                </a:lnTo>
                <a:lnTo>
                  <a:pt x="15" y="270"/>
                </a:lnTo>
                <a:lnTo>
                  <a:pt x="17" y="270"/>
                </a:lnTo>
                <a:lnTo>
                  <a:pt x="18" y="272"/>
                </a:lnTo>
                <a:lnTo>
                  <a:pt x="19" y="272"/>
                </a:lnTo>
                <a:lnTo>
                  <a:pt x="19" y="273"/>
                </a:lnTo>
                <a:lnTo>
                  <a:pt x="21" y="273"/>
                </a:lnTo>
                <a:lnTo>
                  <a:pt x="21" y="274"/>
                </a:lnTo>
                <a:lnTo>
                  <a:pt x="23" y="274"/>
                </a:lnTo>
                <a:lnTo>
                  <a:pt x="24" y="275"/>
                </a:lnTo>
                <a:lnTo>
                  <a:pt x="26" y="275"/>
                </a:lnTo>
                <a:lnTo>
                  <a:pt x="27" y="277"/>
                </a:lnTo>
                <a:lnTo>
                  <a:pt x="28" y="277"/>
                </a:lnTo>
                <a:lnTo>
                  <a:pt x="29" y="279"/>
                </a:lnTo>
                <a:lnTo>
                  <a:pt x="31" y="279"/>
                </a:lnTo>
                <a:lnTo>
                  <a:pt x="32" y="281"/>
                </a:lnTo>
                <a:lnTo>
                  <a:pt x="34" y="281"/>
                </a:lnTo>
                <a:lnTo>
                  <a:pt x="34" y="282"/>
                </a:lnTo>
                <a:lnTo>
                  <a:pt x="36" y="282"/>
                </a:lnTo>
                <a:lnTo>
                  <a:pt x="37" y="284"/>
                </a:lnTo>
                <a:lnTo>
                  <a:pt x="39" y="284"/>
                </a:lnTo>
                <a:lnTo>
                  <a:pt x="39" y="285"/>
                </a:lnTo>
                <a:lnTo>
                  <a:pt x="41" y="285"/>
                </a:lnTo>
                <a:lnTo>
                  <a:pt x="41" y="286"/>
                </a:lnTo>
                <a:lnTo>
                  <a:pt x="43" y="286"/>
                </a:lnTo>
                <a:lnTo>
                  <a:pt x="44" y="288"/>
                </a:lnTo>
                <a:lnTo>
                  <a:pt x="46" y="288"/>
                </a:lnTo>
                <a:lnTo>
                  <a:pt x="46" y="289"/>
                </a:lnTo>
                <a:lnTo>
                  <a:pt x="48" y="289"/>
                </a:lnTo>
                <a:lnTo>
                  <a:pt x="48" y="290"/>
                </a:lnTo>
                <a:lnTo>
                  <a:pt x="50" y="290"/>
                </a:lnTo>
                <a:lnTo>
                  <a:pt x="51" y="292"/>
                </a:lnTo>
                <a:lnTo>
                  <a:pt x="52" y="292"/>
                </a:lnTo>
                <a:lnTo>
                  <a:pt x="52" y="293"/>
                </a:lnTo>
                <a:lnTo>
                  <a:pt x="54" y="293"/>
                </a:lnTo>
                <a:lnTo>
                  <a:pt x="54" y="294"/>
                </a:lnTo>
                <a:lnTo>
                  <a:pt x="56" y="294"/>
                </a:lnTo>
                <a:lnTo>
                  <a:pt x="57" y="296"/>
                </a:lnTo>
                <a:lnTo>
                  <a:pt x="59" y="296"/>
                </a:lnTo>
                <a:lnTo>
                  <a:pt x="59" y="297"/>
                </a:lnTo>
                <a:lnTo>
                  <a:pt x="61" y="297"/>
                </a:lnTo>
                <a:lnTo>
                  <a:pt x="61" y="298"/>
                </a:lnTo>
                <a:lnTo>
                  <a:pt x="64" y="298"/>
                </a:lnTo>
                <a:lnTo>
                  <a:pt x="66" y="298"/>
                </a:lnTo>
                <a:lnTo>
                  <a:pt x="66" y="299"/>
                </a:lnTo>
                <a:lnTo>
                  <a:pt x="68" y="299"/>
                </a:lnTo>
                <a:lnTo>
                  <a:pt x="68" y="300"/>
                </a:lnTo>
                <a:lnTo>
                  <a:pt x="70" y="300"/>
                </a:lnTo>
                <a:lnTo>
                  <a:pt x="71" y="302"/>
                </a:lnTo>
                <a:lnTo>
                  <a:pt x="73" y="302"/>
                </a:lnTo>
                <a:lnTo>
                  <a:pt x="73" y="303"/>
                </a:lnTo>
                <a:lnTo>
                  <a:pt x="74" y="303"/>
                </a:lnTo>
                <a:lnTo>
                  <a:pt x="74" y="304"/>
                </a:lnTo>
                <a:lnTo>
                  <a:pt x="77" y="304"/>
                </a:lnTo>
                <a:lnTo>
                  <a:pt x="77" y="305"/>
                </a:lnTo>
                <a:lnTo>
                  <a:pt x="79" y="305"/>
                </a:lnTo>
                <a:lnTo>
                  <a:pt x="79" y="306"/>
                </a:lnTo>
                <a:lnTo>
                  <a:pt x="81" y="306"/>
                </a:lnTo>
                <a:lnTo>
                  <a:pt x="81" y="307"/>
                </a:lnTo>
                <a:lnTo>
                  <a:pt x="84" y="307"/>
                </a:lnTo>
                <a:lnTo>
                  <a:pt x="84" y="308"/>
                </a:lnTo>
                <a:lnTo>
                  <a:pt x="86" y="308"/>
                </a:lnTo>
                <a:lnTo>
                  <a:pt x="86" y="309"/>
                </a:lnTo>
                <a:lnTo>
                  <a:pt x="88" y="309"/>
                </a:lnTo>
                <a:lnTo>
                  <a:pt x="88" y="310"/>
                </a:lnTo>
                <a:lnTo>
                  <a:pt x="91" y="310"/>
                </a:lnTo>
                <a:lnTo>
                  <a:pt x="91" y="311"/>
                </a:lnTo>
                <a:lnTo>
                  <a:pt x="93" y="311"/>
                </a:lnTo>
                <a:lnTo>
                  <a:pt x="93" y="312"/>
                </a:lnTo>
                <a:lnTo>
                  <a:pt x="96" y="312"/>
                </a:lnTo>
                <a:lnTo>
                  <a:pt x="96" y="313"/>
                </a:lnTo>
                <a:lnTo>
                  <a:pt x="97" y="313"/>
                </a:lnTo>
                <a:lnTo>
                  <a:pt x="97" y="314"/>
                </a:lnTo>
                <a:lnTo>
                  <a:pt x="100" y="314"/>
                </a:lnTo>
                <a:lnTo>
                  <a:pt x="100" y="315"/>
                </a:lnTo>
                <a:lnTo>
                  <a:pt x="102" y="315"/>
                </a:lnTo>
                <a:lnTo>
                  <a:pt x="102" y="316"/>
                </a:lnTo>
                <a:lnTo>
                  <a:pt x="105" y="316"/>
                </a:lnTo>
                <a:lnTo>
                  <a:pt x="105" y="317"/>
                </a:lnTo>
                <a:lnTo>
                  <a:pt x="107" y="317"/>
                </a:lnTo>
                <a:lnTo>
                  <a:pt x="107" y="318"/>
                </a:lnTo>
                <a:lnTo>
                  <a:pt x="111" y="318"/>
                </a:lnTo>
                <a:lnTo>
                  <a:pt x="111" y="319"/>
                </a:lnTo>
                <a:lnTo>
                  <a:pt x="114" y="319"/>
                </a:lnTo>
                <a:lnTo>
                  <a:pt x="114" y="320"/>
                </a:lnTo>
                <a:lnTo>
                  <a:pt x="118" y="320"/>
                </a:lnTo>
                <a:lnTo>
                  <a:pt x="120" y="320"/>
                </a:lnTo>
                <a:lnTo>
                  <a:pt x="120" y="321"/>
                </a:lnTo>
                <a:lnTo>
                  <a:pt x="124" y="321"/>
                </a:lnTo>
                <a:lnTo>
                  <a:pt x="124" y="322"/>
                </a:lnTo>
                <a:lnTo>
                  <a:pt x="128" y="322"/>
                </a:lnTo>
                <a:lnTo>
                  <a:pt x="128" y="323"/>
                </a:lnTo>
                <a:lnTo>
                  <a:pt x="132" y="323"/>
                </a:lnTo>
                <a:lnTo>
                  <a:pt x="132" y="324"/>
                </a:lnTo>
                <a:lnTo>
                  <a:pt x="135" y="324"/>
                </a:lnTo>
                <a:lnTo>
                  <a:pt x="135" y="325"/>
                </a:lnTo>
                <a:lnTo>
                  <a:pt x="139" y="325"/>
                </a:lnTo>
                <a:lnTo>
                  <a:pt x="139" y="326"/>
                </a:lnTo>
                <a:lnTo>
                  <a:pt x="142" y="326"/>
                </a:lnTo>
                <a:lnTo>
                  <a:pt x="142" y="327"/>
                </a:lnTo>
                <a:lnTo>
                  <a:pt x="145" y="327"/>
                </a:lnTo>
                <a:lnTo>
                  <a:pt x="145" y="328"/>
                </a:lnTo>
                <a:lnTo>
                  <a:pt x="149" y="328"/>
                </a:lnTo>
                <a:lnTo>
                  <a:pt x="149" y="329"/>
                </a:lnTo>
                <a:lnTo>
                  <a:pt x="153" y="329"/>
                </a:lnTo>
                <a:lnTo>
                  <a:pt x="153" y="330"/>
                </a:lnTo>
                <a:lnTo>
                  <a:pt x="156" y="330"/>
                </a:lnTo>
                <a:lnTo>
                  <a:pt x="156" y="331"/>
                </a:lnTo>
                <a:lnTo>
                  <a:pt x="163" y="331"/>
                </a:lnTo>
                <a:lnTo>
                  <a:pt x="163" y="332"/>
                </a:lnTo>
                <a:lnTo>
                  <a:pt x="170" y="332"/>
                </a:lnTo>
                <a:lnTo>
                  <a:pt x="170" y="333"/>
                </a:lnTo>
                <a:lnTo>
                  <a:pt x="177" y="333"/>
                </a:lnTo>
                <a:lnTo>
                  <a:pt x="177" y="334"/>
                </a:lnTo>
                <a:lnTo>
                  <a:pt x="185" y="334"/>
                </a:lnTo>
                <a:lnTo>
                  <a:pt x="185" y="335"/>
                </a:lnTo>
                <a:lnTo>
                  <a:pt x="191" y="335"/>
                </a:lnTo>
                <a:lnTo>
                  <a:pt x="191" y="336"/>
                </a:lnTo>
                <a:lnTo>
                  <a:pt x="235" y="336"/>
                </a:lnTo>
                <a:lnTo>
                  <a:pt x="235" y="335"/>
                </a:lnTo>
                <a:lnTo>
                  <a:pt x="243" y="335"/>
                </a:lnTo>
                <a:lnTo>
                  <a:pt x="243" y="334"/>
                </a:lnTo>
                <a:lnTo>
                  <a:pt x="251" y="334"/>
                </a:lnTo>
                <a:lnTo>
                  <a:pt x="251" y="333"/>
                </a:lnTo>
                <a:lnTo>
                  <a:pt x="255" y="333"/>
                </a:lnTo>
                <a:lnTo>
                  <a:pt x="255" y="332"/>
                </a:lnTo>
                <a:lnTo>
                  <a:pt x="258" y="332"/>
                </a:lnTo>
                <a:lnTo>
                  <a:pt x="258" y="331"/>
                </a:lnTo>
                <a:lnTo>
                  <a:pt x="262" y="331"/>
                </a:lnTo>
                <a:lnTo>
                  <a:pt x="262" y="330"/>
                </a:lnTo>
                <a:lnTo>
                  <a:pt x="266" y="330"/>
                </a:lnTo>
                <a:lnTo>
                  <a:pt x="266" y="329"/>
                </a:lnTo>
                <a:lnTo>
                  <a:pt x="270" y="329"/>
                </a:lnTo>
                <a:lnTo>
                  <a:pt x="270" y="328"/>
                </a:lnTo>
                <a:lnTo>
                  <a:pt x="274" y="328"/>
                </a:lnTo>
                <a:lnTo>
                  <a:pt x="274" y="327"/>
                </a:lnTo>
                <a:lnTo>
                  <a:pt x="278" y="327"/>
                </a:lnTo>
                <a:lnTo>
                  <a:pt x="278" y="326"/>
                </a:lnTo>
                <a:lnTo>
                  <a:pt x="281" y="326"/>
                </a:lnTo>
                <a:lnTo>
                  <a:pt x="281" y="325"/>
                </a:lnTo>
                <a:lnTo>
                  <a:pt x="285" y="325"/>
                </a:lnTo>
                <a:lnTo>
                  <a:pt x="285" y="324"/>
                </a:lnTo>
                <a:lnTo>
                  <a:pt x="290" y="324"/>
                </a:lnTo>
                <a:lnTo>
                  <a:pt x="290" y="323"/>
                </a:lnTo>
                <a:lnTo>
                  <a:pt x="293" y="323"/>
                </a:lnTo>
                <a:lnTo>
                  <a:pt x="293" y="322"/>
                </a:lnTo>
                <a:lnTo>
                  <a:pt x="295" y="322"/>
                </a:lnTo>
                <a:lnTo>
                  <a:pt x="295" y="321"/>
                </a:lnTo>
                <a:lnTo>
                  <a:pt x="298" y="321"/>
                </a:lnTo>
                <a:lnTo>
                  <a:pt x="298" y="320"/>
                </a:lnTo>
                <a:lnTo>
                  <a:pt x="301" y="320"/>
                </a:lnTo>
                <a:lnTo>
                  <a:pt x="303" y="320"/>
                </a:lnTo>
                <a:lnTo>
                  <a:pt x="303" y="319"/>
                </a:lnTo>
                <a:lnTo>
                  <a:pt x="305" y="319"/>
                </a:lnTo>
                <a:lnTo>
                  <a:pt x="305" y="318"/>
                </a:lnTo>
                <a:lnTo>
                  <a:pt x="308" y="318"/>
                </a:lnTo>
                <a:lnTo>
                  <a:pt x="308" y="317"/>
                </a:lnTo>
                <a:lnTo>
                  <a:pt x="310" y="317"/>
                </a:lnTo>
                <a:lnTo>
                  <a:pt x="310" y="316"/>
                </a:lnTo>
                <a:lnTo>
                  <a:pt x="313" y="316"/>
                </a:lnTo>
                <a:lnTo>
                  <a:pt x="313" y="315"/>
                </a:lnTo>
                <a:lnTo>
                  <a:pt x="316" y="315"/>
                </a:lnTo>
                <a:lnTo>
                  <a:pt x="316" y="314"/>
                </a:lnTo>
                <a:lnTo>
                  <a:pt x="319" y="314"/>
                </a:lnTo>
                <a:lnTo>
                  <a:pt x="319" y="313"/>
                </a:lnTo>
                <a:lnTo>
                  <a:pt x="322" y="313"/>
                </a:lnTo>
                <a:lnTo>
                  <a:pt x="322" y="312"/>
                </a:lnTo>
                <a:lnTo>
                  <a:pt x="325" y="312"/>
                </a:lnTo>
                <a:lnTo>
                  <a:pt x="325" y="311"/>
                </a:lnTo>
                <a:lnTo>
                  <a:pt x="327" y="311"/>
                </a:lnTo>
                <a:lnTo>
                  <a:pt x="327" y="310"/>
                </a:lnTo>
                <a:lnTo>
                  <a:pt x="329" y="310"/>
                </a:lnTo>
                <a:lnTo>
                  <a:pt x="329" y="309"/>
                </a:lnTo>
                <a:lnTo>
                  <a:pt x="331" y="309"/>
                </a:lnTo>
                <a:lnTo>
                  <a:pt x="331" y="308"/>
                </a:lnTo>
                <a:lnTo>
                  <a:pt x="333" y="308"/>
                </a:lnTo>
                <a:lnTo>
                  <a:pt x="333" y="307"/>
                </a:lnTo>
                <a:lnTo>
                  <a:pt x="336" y="307"/>
                </a:lnTo>
                <a:lnTo>
                  <a:pt x="336" y="306"/>
                </a:lnTo>
                <a:lnTo>
                  <a:pt x="338" y="306"/>
                </a:lnTo>
                <a:lnTo>
                  <a:pt x="338" y="305"/>
                </a:lnTo>
                <a:lnTo>
                  <a:pt x="341" y="305"/>
                </a:lnTo>
                <a:lnTo>
                  <a:pt x="341" y="304"/>
                </a:lnTo>
                <a:lnTo>
                  <a:pt x="343" y="304"/>
                </a:lnTo>
                <a:lnTo>
                  <a:pt x="343" y="303"/>
                </a:lnTo>
                <a:lnTo>
                  <a:pt x="346" y="303"/>
                </a:lnTo>
                <a:lnTo>
                  <a:pt x="346" y="302"/>
                </a:lnTo>
                <a:lnTo>
                  <a:pt x="348" y="302"/>
                </a:lnTo>
                <a:lnTo>
                  <a:pt x="348" y="301"/>
                </a:lnTo>
                <a:lnTo>
                  <a:pt x="350" y="301"/>
                </a:lnTo>
                <a:lnTo>
                  <a:pt x="350" y="300"/>
                </a:lnTo>
                <a:lnTo>
                  <a:pt x="351" y="300"/>
                </a:lnTo>
                <a:lnTo>
                  <a:pt x="351" y="299"/>
                </a:lnTo>
                <a:lnTo>
                  <a:pt x="353" y="299"/>
                </a:lnTo>
                <a:lnTo>
                  <a:pt x="353" y="298"/>
                </a:lnTo>
                <a:lnTo>
                  <a:pt x="356" y="298"/>
                </a:lnTo>
                <a:lnTo>
                  <a:pt x="359" y="298"/>
                </a:lnTo>
                <a:lnTo>
                  <a:pt x="359" y="297"/>
                </a:lnTo>
                <a:lnTo>
                  <a:pt x="362" y="297"/>
                </a:lnTo>
                <a:lnTo>
                  <a:pt x="362" y="296"/>
                </a:lnTo>
                <a:lnTo>
                  <a:pt x="364" y="296"/>
                </a:lnTo>
                <a:lnTo>
                  <a:pt x="364" y="295"/>
                </a:lnTo>
                <a:lnTo>
                  <a:pt x="366" y="295"/>
                </a:lnTo>
                <a:lnTo>
                  <a:pt x="366" y="294"/>
                </a:lnTo>
                <a:lnTo>
                  <a:pt x="368" y="294"/>
                </a:lnTo>
                <a:lnTo>
                  <a:pt x="368" y="293"/>
                </a:lnTo>
                <a:lnTo>
                  <a:pt x="370" y="293"/>
                </a:lnTo>
                <a:lnTo>
                  <a:pt x="370" y="292"/>
                </a:lnTo>
                <a:lnTo>
                  <a:pt x="373" y="292"/>
                </a:lnTo>
                <a:lnTo>
                  <a:pt x="373" y="291"/>
                </a:lnTo>
                <a:lnTo>
                  <a:pt x="375" y="291"/>
                </a:lnTo>
                <a:lnTo>
                  <a:pt x="375" y="290"/>
                </a:lnTo>
                <a:lnTo>
                  <a:pt x="378" y="290"/>
                </a:lnTo>
                <a:lnTo>
                  <a:pt x="378" y="289"/>
                </a:lnTo>
                <a:lnTo>
                  <a:pt x="381" y="289"/>
                </a:lnTo>
                <a:lnTo>
                  <a:pt x="381" y="288"/>
                </a:lnTo>
                <a:lnTo>
                  <a:pt x="383" y="288"/>
                </a:lnTo>
                <a:lnTo>
                  <a:pt x="383" y="287"/>
                </a:lnTo>
                <a:lnTo>
                  <a:pt x="386" y="287"/>
                </a:lnTo>
                <a:lnTo>
                  <a:pt x="386" y="286"/>
                </a:lnTo>
                <a:lnTo>
                  <a:pt x="388" y="286"/>
                </a:lnTo>
                <a:lnTo>
                  <a:pt x="388" y="285"/>
                </a:lnTo>
                <a:lnTo>
                  <a:pt x="390" y="285"/>
                </a:lnTo>
                <a:lnTo>
                  <a:pt x="390" y="284"/>
                </a:lnTo>
                <a:lnTo>
                  <a:pt x="392" y="284"/>
                </a:lnTo>
                <a:lnTo>
                  <a:pt x="392" y="283"/>
                </a:lnTo>
                <a:lnTo>
                  <a:pt x="394" y="283"/>
                </a:lnTo>
                <a:lnTo>
                  <a:pt x="394" y="282"/>
                </a:lnTo>
                <a:lnTo>
                  <a:pt x="396" y="282"/>
                </a:lnTo>
                <a:lnTo>
                  <a:pt x="396" y="281"/>
                </a:lnTo>
                <a:lnTo>
                  <a:pt x="398" y="281"/>
                </a:lnTo>
                <a:lnTo>
                  <a:pt x="398" y="280"/>
                </a:lnTo>
                <a:lnTo>
                  <a:pt x="401" y="280"/>
                </a:lnTo>
                <a:lnTo>
                  <a:pt x="401" y="279"/>
                </a:lnTo>
                <a:lnTo>
                  <a:pt x="404" y="279"/>
                </a:lnTo>
                <a:lnTo>
                  <a:pt x="404" y="278"/>
                </a:lnTo>
                <a:lnTo>
                  <a:pt x="407" y="278"/>
                </a:lnTo>
                <a:lnTo>
                  <a:pt x="407" y="277"/>
                </a:lnTo>
                <a:lnTo>
                  <a:pt x="410" y="277"/>
                </a:lnTo>
                <a:lnTo>
                  <a:pt x="410" y="276"/>
                </a:lnTo>
                <a:lnTo>
                  <a:pt x="412" y="276"/>
                </a:lnTo>
                <a:lnTo>
                  <a:pt x="412" y="275"/>
                </a:lnTo>
                <a:lnTo>
                  <a:pt x="414" y="275"/>
                </a:lnTo>
                <a:lnTo>
                  <a:pt x="416" y="275"/>
                </a:lnTo>
                <a:lnTo>
                  <a:pt x="416" y="274"/>
                </a:lnTo>
                <a:lnTo>
                  <a:pt x="418" y="274"/>
                </a:lnTo>
                <a:lnTo>
                  <a:pt x="418" y="273"/>
                </a:lnTo>
                <a:lnTo>
                  <a:pt x="420" y="273"/>
                </a:lnTo>
                <a:lnTo>
                  <a:pt x="420" y="272"/>
                </a:lnTo>
                <a:lnTo>
                  <a:pt x="422" y="272"/>
                </a:lnTo>
                <a:lnTo>
                  <a:pt x="422" y="271"/>
                </a:lnTo>
                <a:lnTo>
                  <a:pt x="425" y="271"/>
                </a:lnTo>
                <a:lnTo>
                  <a:pt x="425" y="270"/>
                </a:lnTo>
                <a:lnTo>
                  <a:pt x="429" y="270"/>
                </a:lnTo>
                <a:lnTo>
                  <a:pt x="429" y="269"/>
                </a:lnTo>
                <a:lnTo>
                  <a:pt x="433" y="269"/>
                </a:lnTo>
                <a:lnTo>
                  <a:pt x="433" y="268"/>
                </a:lnTo>
                <a:lnTo>
                  <a:pt x="436" y="268"/>
                </a:lnTo>
                <a:lnTo>
                  <a:pt x="436" y="267"/>
                </a:lnTo>
                <a:lnTo>
                  <a:pt x="438" y="267"/>
                </a:lnTo>
                <a:lnTo>
                  <a:pt x="438" y="266"/>
                </a:lnTo>
                <a:lnTo>
                  <a:pt x="441" y="266"/>
                </a:lnTo>
                <a:lnTo>
                  <a:pt x="441" y="265"/>
                </a:lnTo>
                <a:lnTo>
                  <a:pt x="443" y="265"/>
                </a:lnTo>
                <a:lnTo>
                  <a:pt x="443" y="264"/>
                </a:lnTo>
                <a:lnTo>
                  <a:pt x="445" y="264"/>
                </a:lnTo>
                <a:lnTo>
                  <a:pt x="445" y="263"/>
                </a:lnTo>
                <a:lnTo>
                  <a:pt x="448" y="263"/>
                </a:lnTo>
                <a:lnTo>
                  <a:pt x="448" y="262"/>
                </a:lnTo>
                <a:lnTo>
                  <a:pt x="452" y="262"/>
                </a:lnTo>
                <a:lnTo>
                  <a:pt x="452" y="261"/>
                </a:lnTo>
                <a:lnTo>
                  <a:pt x="456" y="261"/>
                </a:lnTo>
                <a:lnTo>
                  <a:pt x="456" y="260"/>
                </a:lnTo>
                <a:lnTo>
                  <a:pt x="460" y="260"/>
                </a:lnTo>
                <a:lnTo>
                  <a:pt x="460" y="259"/>
                </a:lnTo>
                <a:lnTo>
                  <a:pt x="464" y="259"/>
                </a:lnTo>
                <a:lnTo>
                  <a:pt x="464" y="258"/>
                </a:lnTo>
                <a:lnTo>
                  <a:pt x="471" y="258"/>
                </a:lnTo>
                <a:lnTo>
                  <a:pt x="471" y="257"/>
                </a:lnTo>
                <a:lnTo>
                  <a:pt x="475" y="257"/>
                </a:lnTo>
                <a:lnTo>
                  <a:pt x="475" y="256"/>
                </a:lnTo>
                <a:lnTo>
                  <a:pt x="479" y="256"/>
                </a:lnTo>
                <a:lnTo>
                  <a:pt x="479" y="255"/>
                </a:lnTo>
                <a:lnTo>
                  <a:pt x="486" y="255"/>
                </a:lnTo>
                <a:lnTo>
                  <a:pt x="486" y="254"/>
                </a:lnTo>
                <a:lnTo>
                  <a:pt x="489" y="254"/>
                </a:lnTo>
                <a:lnTo>
                  <a:pt x="489" y="253"/>
                </a:lnTo>
                <a:lnTo>
                  <a:pt x="493" y="253"/>
                </a:lnTo>
                <a:lnTo>
                  <a:pt x="501" y="253"/>
                </a:lnTo>
                <a:lnTo>
                  <a:pt x="501" y="252"/>
                </a:lnTo>
                <a:lnTo>
                  <a:pt x="508" y="252"/>
                </a:lnTo>
                <a:lnTo>
                  <a:pt x="508" y="251"/>
                </a:lnTo>
                <a:lnTo>
                  <a:pt x="512" y="251"/>
                </a:lnTo>
                <a:lnTo>
                  <a:pt x="512" y="250"/>
                </a:lnTo>
                <a:lnTo>
                  <a:pt x="515" y="250"/>
                </a:lnTo>
                <a:lnTo>
                  <a:pt x="515" y="249"/>
                </a:lnTo>
                <a:lnTo>
                  <a:pt x="522" y="249"/>
                </a:lnTo>
                <a:lnTo>
                  <a:pt x="522" y="248"/>
                </a:lnTo>
                <a:lnTo>
                  <a:pt x="530" y="248"/>
                </a:lnTo>
                <a:lnTo>
                  <a:pt x="530" y="247"/>
                </a:lnTo>
                <a:lnTo>
                  <a:pt x="536" y="247"/>
                </a:lnTo>
                <a:lnTo>
                  <a:pt x="536" y="246"/>
                </a:lnTo>
                <a:lnTo>
                  <a:pt x="543" y="246"/>
                </a:lnTo>
                <a:lnTo>
                  <a:pt x="543" y="245"/>
                </a:lnTo>
                <a:lnTo>
                  <a:pt x="551" y="245"/>
                </a:lnTo>
                <a:lnTo>
                  <a:pt x="551" y="244"/>
                </a:lnTo>
                <a:lnTo>
                  <a:pt x="558" y="244"/>
                </a:lnTo>
                <a:lnTo>
                  <a:pt x="558" y="243"/>
                </a:lnTo>
                <a:lnTo>
                  <a:pt x="564" y="243"/>
                </a:lnTo>
                <a:lnTo>
                  <a:pt x="564" y="242"/>
                </a:lnTo>
                <a:lnTo>
                  <a:pt x="579" y="242"/>
                </a:lnTo>
                <a:lnTo>
                  <a:pt x="579" y="241"/>
                </a:lnTo>
                <a:lnTo>
                  <a:pt x="585" y="241"/>
                </a:lnTo>
                <a:lnTo>
                  <a:pt x="585" y="240"/>
                </a:lnTo>
                <a:lnTo>
                  <a:pt x="600" y="240"/>
                </a:lnTo>
                <a:lnTo>
                  <a:pt x="600" y="239"/>
                </a:lnTo>
                <a:lnTo>
                  <a:pt x="613" y="239"/>
                </a:lnTo>
                <a:lnTo>
                  <a:pt x="613" y="238"/>
                </a:lnTo>
                <a:lnTo>
                  <a:pt x="640" y="238"/>
                </a:lnTo>
                <a:lnTo>
                  <a:pt x="640" y="237"/>
                </a:lnTo>
                <a:lnTo>
                  <a:pt x="693" y="237"/>
                </a:lnTo>
                <a:lnTo>
                  <a:pt x="693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72200" y="3390840"/>
            <a:ext cx="20520" cy="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76800" y="3014640"/>
            <a:ext cx="1015920" cy="534960"/>
          </a:xfrm>
          <a:custGeom>
            <a:avLst/>
            <a:gdLst/>
            <a:ahLst/>
            <a:rect l="l" t="t" r="r" b="b"/>
            <a:pathLst>
              <a:path w="694" h="337">
                <a:moveTo>
                  <a:pt x="693" y="237"/>
                </a:moveTo>
                <a:lnTo>
                  <a:pt x="679" y="237"/>
                </a:lnTo>
                <a:lnTo>
                  <a:pt x="673" y="236"/>
                </a:lnTo>
                <a:lnTo>
                  <a:pt x="647" y="236"/>
                </a:lnTo>
                <a:lnTo>
                  <a:pt x="640" y="237"/>
                </a:lnTo>
                <a:lnTo>
                  <a:pt x="620" y="237"/>
                </a:lnTo>
                <a:lnTo>
                  <a:pt x="613" y="238"/>
                </a:lnTo>
                <a:lnTo>
                  <a:pt x="606" y="238"/>
                </a:lnTo>
                <a:lnTo>
                  <a:pt x="600" y="239"/>
                </a:lnTo>
                <a:lnTo>
                  <a:pt x="592" y="239"/>
                </a:lnTo>
                <a:lnTo>
                  <a:pt x="585" y="240"/>
                </a:lnTo>
                <a:lnTo>
                  <a:pt x="579" y="241"/>
                </a:lnTo>
                <a:lnTo>
                  <a:pt x="572" y="241"/>
                </a:lnTo>
                <a:lnTo>
                  <a:pt x="564" y="242"/>
                </a:lnTo>
                <a:lnTo>
                  <a:pt x="558" y="243"/>
                </a:lnTo>
                <a:lnTo>
                  <a:pt x="551" y="244"/>
                </a:lnTo>
                <a:lnTo>
                  <a:pt x="543" y="245"/>
                </a:lnTo>
                <a:lnTo>
                  <a:pt x="536" y="246"/>
                </a:lnTo>
                <a:lnTo>
                  <a:pt x="530" y="247"/>
                </a:lnTo>
                <a:lnTo>
                  <a:pt x="522" y="248"/>
                </a:lnTo>
                <a:lnTo>
                  <a:pt x="515" y="249"/>
                </a:lnTo>
                <a:lnTo>
                  <a:pt x="508" y="251"/>
                </a:lnTo>
                <a:lnTo>
                  <a:pt x="501" y="252"/>
                </a:lnTo>
                <a:lnTo>
                  <a:pt x="493" y="253"/>
                </a:lnTo>
                <a:lnTo>
                  <a:pt x="486" y="254"/>
                </a:lnTo>
                <a:lnTo>
                  <a:pt x="479" y="255"/>
                </a:lnTo>
                <a:lnTo>
                  <a:pt x="471" y="257"/>
                </a:lnTo>
                <a:lnTo>
                  <a:pt x="464" y="258"/>
                </a:lnTo>
                <a:lnTo>
                  <a:pt x="456" y="260"/>
                </a:lnTo>
                <a:lnTo>
                  <a:pt x="448" y="262"/>
                </a:lnTo>
                <a:lnTo>
                  <a:pt x="441" y="265"/>
                </a:lnTo>
                <a:lnTo>
                  <a:pt x="433" y="268"/>
                </a:lnTo>
                <a:lnTo>
                  <a:pt x="425" y="270"/>
                </a:lnTo>
                <a:lnTo>
                  <a:pt x="418" y="273"/>
                </a:lnTo>
                <a:lnTo>
                  <a:pt x="410" y="276"/>
                </a:lnTo>
                <a:lnTo>
                  <a:pt x="401" y="279"/>
                </a:lnTo>
                <a:lnTo>
                  <a:pt x="394" y="282"/>
                </a:lnTo>
                <a:lnTo>
                  <a:pt x="386" y="286"/>
                </a:lnTo>
                <a:lnTo>
                  <a:pt x="378" y="289"/>
                </a:lnTo>
                <a:lnTo>
                  <a:pt x="370" y="292"/>
                </a:lnTo>
                <a:lnTo>
                  <a:pt x="362" y="296"/>
                </a:lnTo>
                <a:lnTo>
                  <a:pt x="353" y="298"/>
                </a:lnTo>
                <a:lnTo>
                  <a:pt x="346" y="302"/>
                </a:lnTo>
                <a:lnTo>
                  <a:pt x="338" y="305"/>
                </a:lnTo>
                <a:lnTo>
                  <a:pt x="329" y="309"/>
                </a:lnTo>
                <a:lnTo>
                  <a:pt x="322" y="312"/>
                </a:lnTo>
                <a:lnTo>
                  <a:pt x="313" y="315"/>
                </a:lnTo>
                <a:lnTo>
                  <a:pt x="305" y="318"/>
                </a:lnTo>
                <a:lnTo>
                  <a:pt x="298" y="320"/>
                </a:lnTo>
                <a:lnTo>
                  <a:pt x="290" y="323"/>
                </a:lnTo>
                <a:lnTo>
                  <a:pt x="281" y="325"/>
                </a:lnTo>
                <a:lnTo>
                  <a:pt x="274" y="327"/>
                </a:lnTo>
                <a:lnTo>
                  <a:pt x="266" y="329"/>
                </a:lnTo>
                <a:lnTo>
                  <a:pt x="258" y="331"/>
                </a:lnTo>
                <a:lnTo>
                  <a:pt x="251" y="333"/>
                </a:lnTo>
                <a:lnTo>
                  <a:pt x="243" y="334"/>
                </a:lnTo>
                <a:lnTo>
                  <a:pt x="235" y="335"/>
                </a:lnTo>
                <a:lnTo>
                  <a:pt x="228" y="335"/>
                </a:lnTo>
                <a:lnTo>
                  <a:pt x="221" y="336"/>
                </a:lnTo>
                <a:lnTo>
                  <a:pt x="207" y="336"/>
                </a:lnTo>
                <a:lnTo>
                  <a:pt x="199" y="335"/>
                </a:lnTo>
                <a:lnTo>
                  <a:pt x="191" y="335"/>
                </a:lnTo>
                <a:lnTo>
                  <a:pt x="185" y="334"/>
                </a:lnTo>
                <a:lnTo>
                  <a:pt x="177" y="333"/>
                </a:lnTo>
                <a:lnTo>
                  <a:pt x="170" y="332"/>
                </a:lnTo>
                <a:lnTo>
                  <a:pt x="163" y="331"/>
                </a:lnTo>
                <a:lnTo>
                  <a:pt x="156" y="330"/>
                </a:lnTo>
                <a:lnTo>
                  <a:pt x="149" y="328"/>
                </a:lnTo>
                <a:lnTo>
                  <a:pt x="142" y="326"/>
                </a:lnTo>
                <a:lnTo>
                  <a:pt x="135" y="324"/>
                </a:lnTo>
                <a:lnTo>
                  <a:pt x="128" y="322"/>
                </a:lnTo>
                <a:lnTo>
                  <a:pt x="120" y="320"/>
                </a:lnTo>
                <a:lnTo>
                  <a:pt x="114" y="319"/>
                </a:lnTo>
                <a:lnTo>
                  <a:pt x="107" y="317"/>
                </a:lnTo>
                <a:lnTo>
                  <a:pt x="100" y="314"/>
                </a:lnTo>
                <a:lnTo>
                  <a:pt x="93" y="311"/>
                </a:lnTo>
                <a:lnTo>
                  <a:pt x="86" y="308"/>
                </a:lnTo>
                <a:lnTo>
                  <a:pt x="79" y="305"/>
                </a:lnTo>
                <a:lnTo>
                  <a:pt x="73" y="302"/>
                </a:lnTo>
                <a:lnTo>
                  <a:pt x="66" y="298"/>
                </a:lnTo>
                <a:lnTo>
                  <a:pt x="59" y="296"/>
                </a:lnTo>
                <a:lnTo>
                  <a:pt x="52" y="292"/>
                </a:lnTo>
                <a:lnTo>
                  <a:pt x="46" y="288"/>
                </a:lnTo>
                <a:lnTo>
                  <a:pt x="39" y="284"/>
                </a:lnTo>
                <a:lnTo>
                  <a:pt x="32" y="280"/>
                </a:lnTo>
                <a:lnTo>
                  <a:pt x="26" y="275"/>
                </a:lnTo>
                <a:lnTo>
                  <a:pt x="19" y="272"/>
                </a:lnTo>
                <a:lnTo>
                  <a:pt x="13" y="267"/>
                </a:lnTo>
                <a:lnTo>
                  <a:pt x="6" y="262"/>
                </a:lnTo>
                <a:lnTo>
                  <a:pt x="0" y="257"/>
                </a:lnTo>
                <a:lnTo>
                  <a:pt x="0" y="0"/>
                </a:lnTo>
                <a:lnTo>
                  <a:pt x="693" y="0"/>
                </a:lnTo>
                <a:lnTo>
                  <a:pt x="693" y="237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21160" y="3643200"/>
            <a:ext cx="723960" cy="785880"/>
          </a:xfrm>
          <a:custGeom>
            <a:avLst/>
            <a:gdLst/>
            <a:ahLst/>
            <a:rect l="l" t="t" r="r" b="b"/>
            <a:pathLst>
              <a:path w="495" h="495">
                <a:moveTo>
                  <a:pt x="247" y="0"/>
                </a:moveTo>
                <a:lnTo>
                  <a:pt x="0" y="247"/>
                </a:lnTo>
                <a:lnTo>
                  <a:pt x="247" y="494"/>
                </a:lnTo>
                <a:lnTo>
                  <a:pt x="494" y="247"/>
                </a:lnTo>
                <a:lnTo>
                  <a:pt x="247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43640" y="4591080"/>
            <a:ext cx="280800" cy="301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27640" y="5729760"/>
            <a:ext cx="711000" cy="100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60" y="8113"/>
                </a:moveTo>
                <a:arcTo wR="10800" hR="10800" stAng="-864417" swAng="12415265"/>
                <a:lnTo>
                  <a:pt x="10800" y="10800"/>
                </a:lnTo>
                <a:close/>
              </a:path>
              <a:path fill="none" w="21600" h="21600">
                <a:moveTo>
                  <a:pt x="21260" y="8113"/>
                </a:moveTo>
                <a:arcTo wR="10800" hR="10800" stAng="-864417" swAng="12415265"/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21160" y="5433840"/>
            <a:ext cx="0" cy="33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043680" y="5433840"/>
            <a:ext cx="0" cy="33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27640" y="5375160"/>
            <a:ext cx="709560" cy="103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83280" y="5137200"/>
            <a:ext cx="10033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70680" y="5073480"/>
            <a:ext cx="122040" cy="130320"/>
          </a:xfrm>
          <a:custGeom>
            <a:avLst/>
            <a:gdLst/>
            <a:ahLst/>
            <a:rect l="l" t="t" r="r" b="b"/>
            <a:pathLst>
              <a:path w="84" h="82">
                <a:moveTo>
                  <a:pt x="0" y="0"/>
                </a:moveTo>
                <a:lnTo>
                  <a:pt x="83" y="40"/>
                </a:lnTo>
                <a:lnTo>
                  <a:pt x="0" y="8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30960" y="2139840"/>
            <a:ext cx="799920" cy="33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5fc62"/>
                </a:solidFill>
                <a:latin typeface="AvantGarde"/>
              </a:rPr>
              <a:t>INIZIO/F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30960" y="2611440"/>
            <a:ext cx="1136520" cy="16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5fc62"/>
                </a:solidFill>
                <a:latin typeface="AvantGarde"/>
              </a:rPr>
              <a:t>OPER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17280" y="3036960"/>
            <a:ext cx="921240" cy="16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5fc62"/>
                </a:solidFill>
                <a:latin typeface="AvantGarde"/>
              </a:rPr>
              <a:t>DOCUMENTO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30960" y="3214800"/>
            <a:ext cx="893880" cy="16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5fc62"/>
                </a:solidFill>
                <a:latin typeface="AvantGarde"/>
              </a:rPr>
              <a:t>TABULA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30960" y="3943440"/>
            <a:ext cx="893880" cy="16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5fc62"/>
                </a:solidFill>
                <a:latin typeface="AvantGarde"/>
              </a:rPr>
              <a:t>DECIS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30960" y="4648320"/>
            <a:ext cx="1136520" cy="16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5fc62"/>
                </a:solidFill>
                <a:latin typeface="AvantGarde"/>
              </a:rPr>
              <a:t>CONNESS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30960" y="5045040"/>
            <a:ext cx="1338120" cy="16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5fc62"/>
                </a:solidFill>
                <a:latin typeface="AvantGarde"/>
              </a:rPr>
              <a:t>LINEA DI FLUSS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30960" y="5513400"/>
            <a:ext cx="799920" cy="16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5fc62"/>
                </a:solidFill>
                <a:latin typeface="AvantGarde"/>
              </a:rPr>
              <a:t>ARCHIV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90720" y="1963800"/>
            <a:ext cx="6678360" cy="4513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3560" y="609480"/>
            <a:ext cx="8299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2995"/>
                </a:solidFill>
                <a:latin typeface="Arial"/>
              </a:rPr>
              <a:t>ESEMPIO DI DIAGRAMMA DI FLUSSO - USARE IL TELEVISORE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998800" y="1301760"/>
            <a:ext cx="1736280" cy="4975200"/>
            <a:chOff x="2998800" y="1301760"/>
            <a:chExt cx="1736280" cy="4975200"/>
          </a:xfrm>
        </p:grpSpPr>
        <p:sp>
          <p:nvSpPr>
            <p:cNvPr id="337" name=""/>
            <p:cNvSpPr/>
            <p:nvPr/>
          </p:nvSpPr>
          <p:spPr>
            <a:xfrm>
              <a:off x="3006000" y="6004080"/>
              <a:ext cx="248400" cy="26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88" y="21593"/>
                  </a:moveTo>
                  <a:arcTo wR="10800" hR="10800" stAng="5276528" swAng="10682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88" y="21593"/>
                  </a:moveTo>
                  <a:arcTo wR="10800" hR="10800" stAng="5276528" swAng="10682629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38000" y="6004080"/>
              <a:ext cx="248040" cy="26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05" y="12"/>
                  </a:moveTo>
                  <a:arcTo wR="10800" hR="10800" stAng="-5239293" swAng="108038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05" y="12"/>
                  </a:moveTo>
                  <a:arcTo wR="10800" hR="10800" stAng="-5239293" swAng="10803867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27680" y="5994360"/>
              <a:ext cx="438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27680" y="6275520"/>
              <a:ext cx="43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16960" y="1428840"/>
              <a:ext cx="3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40000" y="1428840"/>
              <a:ext cx="6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01200" y="1428840"/>
              <a:ext cx="3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28560" y="142884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Z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74640" y="1428840"/>
              <a:ext cx="3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97680" y="1428840"/>
              <a:ext cx="69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79160" y="1301760"/>
              <a:ext cx="334080" cy="365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87360" y="1886040"/>
              <a:ext cx="57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39920" y="1886040"/>
              <a:ext cx="57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98600" y="1886040"/>
              <a:ext cx="57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60520" y="1886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11280" y="1886040"/>
              <a:ext cx="6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74280" y="188604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35120" y="1886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90200" y="1886040"/>
              <a:ext cx="5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49600" y="1886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36600" y="2001960"/>
              <a:ext cx="3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62520" y="2001960"/>
              <a:ext cx="4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04640" y="200196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382995"/>
                  </a:solidFill>
                  <a:latin typeface="Sans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31640" y="20019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81320" y="20019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38560" y="2001960"/>
              <a:ext cx="4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81760" y="20019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41880" y="200196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91560" y="2001960"/>
              <a:ext cx="3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14600" y="20019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67160" y="2001960"/>
              <a:ext cx="69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37000" y="2001960"/>
              <a:ext cx="5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97840" y="20019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04560" y="1866960"/>
              <a:ext cx="683280" cy="26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48200" y="2660760"/>
              <a:ext cx="40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86000" y="2660760"/>
              <a:ext cx="57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32080" y="2660760"/>
              <a:ext cx="58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81760" y="26607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20640" y="266076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36840" y="2660760"/>
              <a:ext cx="6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87240" y="2660760"/>
              <a:ext cx="58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40160" y="266076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79040" y="266076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600" spc="-1" strike="noStrike">
                  <a:solidFill>
                    <a:srgbClr val="382995"/>
                  </a:solidFill>
                  <a:latin typeface="Sans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97040" y="266076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?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98800" y="2517840"/>
              <a:ext cx="696600" cy="377640"/>
            </a:xfrm>
            <a:custGeom>
              <a:avLst/>
              <a:gdLst/>
              <a:ahLst/>
              <a:rect l="l" t="t" r="r" b="b"/>
              <a:pathLst>
                <a:path w="475" h="238">
                  <a:moveTo>
                    <a:pt x="237" y="0"/>
                  </a:moveTo>
                  <a:lnTo>
                    <a:pt x="0" y="118"/>
                  </a:lnTo>
                  <a:lnTo>
                    <a:pt x="237" y="237"/>
                  </a:lnTo>
                  <a:lnTo>
                    <a:pt x="474" y="118"/>
                  </a:lnTo>
                  <a:lnTo>
                    <a:pt x="2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64480" y="2603520"/>
              <a:ext cx="3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86080" y="2603520"/>
              <a:ext cx="6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49080" y="26035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04160" y="26035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61400" y="2603520"/>
              <a:ext cx="5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415400" y="2603520"/>
              <a:ext cx="3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43480" y="2603520"/>
              <a:ext cx="5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05760" y="2603520"/>
              <a:ext cx="4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48960" y="2603520"/>
              <a:ext cx="57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47480" y="2523960"/>
              <a:ext cx="680400" cy="268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36120" y="1666800"/>
              <a:ext cx="40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73560" y="166680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14960" y="16668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600" spc="-1" strike="noStrike">
                  <a:solidFill>
                    <a:srgbClr val="382995"/>
                  </a:solidFill>
                  <a:latin typeface="Sans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33680" y="166680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76160" y="1666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22240" y="16668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40600" y="1666800"/>
              <a:ext cx="58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92080" y="166680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93640" y="1766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33960" y="176688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'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49080" y="176688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600" spc="-1" strike="noStrike">
                  <a:solidFill>
                    <a:srgbClr val="382995"/>
                  </a:solidFill>
                  <a:latin typeface="Sans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68160" y="17668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83640" y="1766880"/>
              <a:ext cx="58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33680" y="176688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81200" y="1766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25480" y="176688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71200" y="17668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492080" y="1766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34560" y="176688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74640" y="1866960"/>
              <a:ext cx="58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26840" y="1866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372560" y="1866960"/>
              <a:ext cx="40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09280" y="1866960"/>
              <a:ext cx="40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46360" y="186696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88480" y="186696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600" spc="-1" strike="noStrike">
                  <a:solidFill>
                    <a:srgbClr val="382995"/>
                  </a:solidFill>
                  <a:latin typeface="Sans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41160" y="196848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8680" y="196848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36560" y="196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80840" y="196848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29080" y="196848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70840" y="196848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600" spc="-1" strike="noStrike">
                  <a:solidFill>
                    <a:srgbClr val="382995"/>
                  </a:solidFill>
                  <a:latin typeface="Sans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88840" y="196848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?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41720" y="1484280"/>
              <a:ext cx="693360" cy="754200"/>
            </a:xfrm>
            <a:custGeom>
              <a:avLst/>
              <a:gdLst/>
              <a:ahLst/>
              <a:rect l="l" t="t" r="r" b="b"/>
              <a:pathLst>
                <a:path w="473" h="475">
                  <a:moveTo>
                    <a:pt x="236" y="0"/>
                  </a:moveTo>
                  <a:lnTo>
                    <a:pt x="0" y="237"/>
                  </a:lnTo>
                  <a:lnTo>
                    <a:pt x="236" y="474"/>
                  </a:lnTo>
                  <a:lnTo>
                    <a:pt x="472" y="237"/>
                  </a:lnTo>
                  <a:lnTo>
                    <a:pt x="2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87880" y="3127320"/>
              <a:ext cx="40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25680" y="3127320"/>
              <a:ext cx="57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73560" y="3127320"/>
              <a:ext cx="58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1800" y="312732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Z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360680" y="312732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75080" y="3127320"/>
              <a:ext cx="6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27640" y="3127320"/>
              <a:ext cx="58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81640" y="312732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20520" y="312732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600" spc="-1" strike="noStrike">
                  <a:solidFill>
                    <a:srgbClr val="382995"/>
                  </a:solidFill>
                  <a:latin typeface="Sans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37800" y="312732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?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41720" y="2986200"/>
              <a:ext cx="693360" cy="377640"/>
            </a:xfrm>
            <a:custGeom>
              <a:avLst/>
              <a:gdLst/>
              <a:ahLst/>
              <a:rect l="l" t="t" r="r" b="b"/>
              <a:pathLst>
                <a:path w="473" h="238">
                  <a:moveTo>
                    <a:pt x="236" y="0"/>
                  </a:moveTo>
                  <a:lnTo>
                    <a:pt x="0" y="119"/>
                  </a:lnTo>
                  <a:lnTo>
                    <a:pt x="236" y="237"/>
                  </a:lnTo>
                  <a:lnTo>
                    <a:pt x="472" y="119"/>
                  </a:lnTo>
                  <a:lnTo>
                    <a:pt x="2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50720" y="3736800"/>
              <a:ext cx="40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82760" y="373680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'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97880" y="37368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17320" y="37368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71320" y="3736800"/>
              <a:ext cx="6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28920" y="373680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69960" y="37368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20360" y="37368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439080" y="3736800"/>
              <a:ext cx="58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490200" y="3736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58640" y="3838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00400" y="3838680"/>
              <a:ext cx="17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'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15160" y="383868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600" spc="-1" strike="noStrike">
                  <a:solidFill>
                    <a:srgbClr val="382995"/>
                  </a:solidFill>
                  <a:latin typeface="Sans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33520" y="3838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B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76720" y="3838680"/>
              <a:ext cx="57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24960" y="3838680"/>
              <a:ext cx="6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375000" y="3838680"/>
              <a:ext cx="58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28640" y="383868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70400" y="383868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600" spc="-1" strike="noStrike">
                  <a:solidFill>
                    <a:srgbClr val="382995"/>
                  </a:solidFill>
                  <a:latin typeface="Sans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88760" y="383868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?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98800" y="3551400"/>
              <a:ext cx="696600" cy="566640"/>
            </a:xfrm>
            <a:custGeom>
              <a:avLst/>
              <a:gdLst/>
              <a:ahLst/>
              <a:rect l="l" t="t" r="r" b="b"/>
              <a:pathLst>
                <a:path w="475" h="357">
                  <a:moveTo>
                    <a:pt x="237" y="0"/>
                  </a:moveTo>
                  <a:lnTo>
                    <a:pt x="0" y="178"/>
                  </a:lnTo>
                  <a:lnTo>
                    <a:pt x="237" y="356"/>
                  </a:lnTo>
                  <a:lnTo>
                    <a:pt x="474" y="178"/>
                  </a:lnTo>
                  <a:lnTo>
                    <a:pt x="2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91400" y="3598920"/>
              <a:ext cx="5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50440" y="3598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03000" y="359892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65640" y="3598920"/>
              <a:ext cx="69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36920" y="3598920"/>
              <a:ext cx="4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80840" y="3598920"/>
              <a:ext cx="57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35920" y="3598920"/>
              <a:ext cx="5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95680" y="3598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46440" y="359892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382995"/>
                  </a:solidFill>
                  <a:latin typeface="Sans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74880" y="3598920"/>
              <a:ext cx="4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19520" y="3598920"/>
              <a:ext cx="57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74560" y="3714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230000" y="3714840"/>
              <a:ext cx="3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50520" y="3714840"/>
              <a:ext cx="6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15320" y="3714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61040" y="3714840"/>
              <a:ext cx="69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26560" y="3714840"/>
              <a:ext cx="6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88840" y="3714840"/>
              <a:ext cx="3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16200" y="3714840"/>
              <a:ext cx="57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66600" y="37148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90000" y="371484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382995"/>
                  </a:solidFill>
                  <a:latin typeface="Sans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74120" y="3830760"/>
              <a:ext cx="3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00760" y="3830760"/>
              <a:ext cx="4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44320" y="383076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382995"/>
                  </a:solidFill>
                  <a:latin typeface="Sans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68080" y="3830760"/>
              <a:ext cx="57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24960" y="3830760"/>
              <a:ext cx="69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96240" y="3830760"/>
              <a:ext cx="4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36920" y="3830760"/>
              <a:ext cx="69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05320" y="3830760"/>
              <a:ext cx="5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66520" y="3830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16560" y="38307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42120" y="383076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382995"/>
                  </a:solidFill>
                  <a:latin typeface="Sans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64080" y="383076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382995"/>
                  </a:solidFill>
                  <a:latin typeface="Sans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93960" y="3830760"/>
              <a:ext cx="4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38240" y="3830760"/>
              <a:ext cx="57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89000" y="383076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382995"/>
                  </a:solidFill>
                  <a:latin typeface="Sans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124520" y="3944880"/>
              <a:ext cx="4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64840" y="39448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25320" y="3944880"/>
              <a:ext cx="8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96600" y="3944880"/>
              <a:ext cx="3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18560" y="3944880"/>
              <a:ext cx="6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377240" y="3944880"/>
              <a:ext cx="69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44560" y="39448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498560" y="3944880"/>
              <a:ext cx="3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26640" y="39448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76680" y="3944880"/>
              <a:ext cx="57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26000" y="394488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'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47480" y="3557520"/>
              <a:ext cx="680400" cy="55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61800" y="43290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125520" y="43290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89240" y="4329000"/>
              <a:ext cx="57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242160" y="4329000"/>
              <a:ext cx="5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01560" y="43290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63840" y="4329000"/>
              <a:ext cx="57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16760" y="4329000"/>
              <a:ext cx="5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79040" y="4329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30160" y="432900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382995"/>
                  </a:solidFill>
                  <a:latin typeface="Sans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55000" y="4329000"/>
              <a:ext cx="3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640" y="4329000"/>
              <a:ext cx="4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36600" y="4444920"/>
              <a:ext cx="3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62520" y="4444920"/>
              <a:ext cx="4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04640" y="444492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382995"/>
                  </a:solidFill>
                  <a:latin typeface="Sans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31640" y="4444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181320" y="4444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38560" y="4444920"/>
              <a:ext cx="4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81760" y="4444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41880" y="44449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91560" y="4444920"/>
              <a:ext cx="3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14600" y="4444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67160" y="4444920"/>
              <a:ext cx="69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37000" y="4444920"/>
              <a:ext cx="5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97840" y="4444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82995"/>
                  </a:solidFill>
                  <a:latin typeface="Sans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04560" y="4309920"/>
              <a:ext cx="683280" cy="268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83400" y="495936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06080" y="4959360"/>
              <a:ext cx="40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38840" y="495936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600" spc="-1" strike="noStrike">
                  <a:solidFill>
                    <a:srgbClr val="382995"/>
                  </a:solidFill>
                  <a:latin typeface="Sans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55040" y="495936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03280" y="495936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49000" y="4959360"/>
              <a:ext cx="6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302280" y="49593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82995"/>
                  </a:solidFill>
                  <a:latin typeface="Sans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352680" y="4959360"/>
            <a:ext cx="47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04880" y="4959360"/>
            <a:ext cx="4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442680" y="4959360"/>
            <a:ext cx="69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98480" y="4959360"/>
            <a:ext cx="69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57520" y="4959360"/>
            <a:ext cx="4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82320" y="50608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124080" y="5060880"/>
            <a:ext cx="17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'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37760" y="50608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382995"/>
                </a:solidFill>
                <a:latin typeface="San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57200" y="50608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0040" y="50608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44680" y="5060880"/>
            <a:ext cx="47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88960" y="5060880"/>
            <a:ext cx="69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44400" y="5060880"/>
            <a:ext cx="26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62400" y="5060880"/>
            <a:ext cx="58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14600" y="5060880"/>
            <a:ext cx="4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57080" y="50608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495240" y="5060880"/>
            <a:ext cx="6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47440" y="50608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382995"/>
                </a:solidFill>
                <a:latin typeface="San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63640" y="5060880"/>
            <a:ext cx="34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13120" y="4772160"/>
            <a:ext cx="869760" cy="566640"/>
          </a:xfrm>
          <a:custGeom>
            <a:avLst/>
            <a:gdLst/>
            <a:ahLst/>
            <a:rect l="l" t="t" r="r" b="b"/>
            <a:pathLst>
              <a:path w="592" h="357">
                <a:moveTo>
                  <a:pt x="295" y="0"/>
                </a:moveTo>
                <a:lnTo>
                  <a:pt x="0" y="178"/>
                </a:lnTo>
                <a:lnTo>
                  <a:pt x="295" y="356"/>
                </a:lnTo>
                <a:lnTo>
                  <a:pt x="591" y="178"/>
                </a:lnTo>
                <a:lnTo>
                  <a:pt x="29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11480" y="55497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64760" y="554976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26320" y="55497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76000" y="554976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42960" y="5549760"/>
            <a:ext cx="6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404160" y="55497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460680" y="5549760"/>
            <a:ext cx="5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18640" y="55497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36600" y="5667480"/>
            <a:ext cx="3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062880" y="5667480"/>
            <a:ext cx="46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04280" y="566748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382995"/>
                </a:solidFill>
                <a:latin typeface="Sans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131280" y="56674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82040" y="56674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37480" y="5667480"/>
            <a:ext cx="46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83560" y="56674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340080" y="566748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390480" y="5667480"/>
            <a:ext cx="3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414600" y="56674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465720" y="5667480"/>
            <a:ext cx="69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537000" y="5667480"/>
            <a:ext cx="5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96400" y="56674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03480" y="5530680"/>
            <a:ext cx="684360" cy="26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47920" y="6078600"/>
            <a:ext cx="46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95080" y="6078600"/>
            <a:ext cx="3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317400" y="6078600"/>
            <a:ext cx="6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380400" y="60786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029920" y="2543040"/>
            <a:ext cx="57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089680" y="2543040"/>
            <a:ext cx="6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48000" y="2543040"/>
            <a:ext cx="3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176800" y="2543040"/>
            <a:ext cx="57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225040" y="2543040"/>
            <a:ext cx="8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297400" y="2543040"/>
            <a:ext cx="57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49960" y="2543040"/>
            <a:ext cx="5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10800" y="254304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64400" y="2660760"/>
            <a:ext cx="46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03280" y="2660760"/>
            <a:ext cx="2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'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024160" y="2660760"/>
            <a:ext cx="57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078520" y="26607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30720" y="26607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185800" y="2660760"/>
            <a:ext cx="3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208480" y="26607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66440" y="26607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17200" y="26607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68320" y="2660760"/>
            <a:ext cx="6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430600" y="2660760"/>
            <a:ext cx="51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83160" y="2660760"/>
            <a:ext cx="57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910040" y="2523960"/>
            <a:ext cx="682560" cy="26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057280" y="3736800"/>
            <a:ext cx="40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89680" y="3736800"/>
            <a:ext cx="17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'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04800" y="3736800"/>
            <a:ext cx="26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122440" y="3736800"/>
            <a:ext cx="69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74640" y="3736800"/>
            <a:ext cx="69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233680" y="3736800"/>
            <a:ext cx="4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75440" y="3736800"/>
            <a:ext cx="55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25480" y="3736800"/>
            <a:ext cx="26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43840" y="3736800"/>
            <a:ext cx="58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392080" y="373680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063760" y="38386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05520" y="3838680"/>
            <a:ext cx="17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'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118840" y="3838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382995"/>
                </a:solidFill>
                <a:latin typeface="San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37200" y="3838680"/>
            <a:ext cx="51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180760" y="3838680"/>
            <a:ext cx="57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28640" y="3838680"/>
            <a:ext cx="6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280120" y="3838680"/>
            <a:ext cx="58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332320" y="3838680"/>
            <a:ext cx="4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73000" y="3838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382995"/>
                </a:solidFill>
                <a:latin typeface="San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89200" y="3838680"/>
            <a:ext cx="34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82995"/>
                </a:solidFill>
                <a:latin typeface="Sans"/>
              </a:rPr>
              <a:t>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906800" y="3551400"/>
            <a:ext cx="692280" cy="566640"/>
          </a:xfrm>
          <a:custGeom>
            <a:avLst/>
            <a:gdLst/>
            <a:ahLst/>
            <a:rect l="l" t="t" r="r" b="b"/>
            <a:pathLst>
              <a:path w="474" h="357">
                <a:moveTo>
                  <a:pt x="236" y="0"/>
                </a:moveTo>
                <a:lnTo>
                  <a:pt x="0" y="178"/>
                </a:lnTo>
                <a:lnTo>
                  <a:pt x="236" y="356"/>
                </a:lnTo>
                <a:lnTo>
                  <a:pt x="473" y="178"/>
                </a:lnTo>
                <a:lnTo>
                  <a:pt x="2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33840" y="2901600"/>
            <a:ext cx="308880" cy="3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07" y="21592"/>
                </a:moveTo>
                <a:arcTo wR="10800" hR="10800" stAng="5270410" swAng="10673039"/>
                <a:lnTo>
                  <a:pt x="10800" y="10800"/>
                </a:lnTo>
                <a:close/>
              </a:path>
              <a:path fill="none" w="21600" h="21600">
                <a:moveTo>
                  <a:pt x="11207" y="21592"/>
                </a:moveTo>
                <a:arcTo wR="10800" hR="10800" stAng="5270410" swAng="10673039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972760" y="2901600"/>
            <a:ext cx="311760" cy="3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05" y="23"/>
                </a:moveTo>
                <a:arcTo wR="10800" hR="10800" stAng="-5175421" swAng="10737365"/>
                <a:lnTo>
                  <a:pt x="10800" y="10800"/>
                </a:lnTo>
                <a:close/>
              </a:path>
              <a:path fill="none" w="21600" h="21600">
                <a:moveTo>
                  <a:pt x="11505" y="23"/>
                </a:moveTo>
                <a:arcTo wR="10800" hR="10800" stAng="-5175421" swAng="10737365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86480" y="2894040"/>
            <a:ext cx="552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586480" y="3268800"/>
            <a:ext cx="552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513400" y="2921040"/>
            <a:ext cx="57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562000" y="292104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620680" y="292104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382995"/>
                </a:solidFill>
                <a:latin typeface="Sans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644440" y="292104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04920" y="2921040"/>
            <a:ext cx="6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763600" y="292104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382995"/>
                </a:solidFill>
                <a:latin typeface="Sans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789160" y="292104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846400" y="2921040"/>
            <a:ext cx="3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875200" y="2921040"/>
            <a:ext cx="57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925600" y="292104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94360" y="2921040"/>
            <a:ext cx="5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53040" y="2921040"/>
            <a:ext cx="57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106320" y="2921040"/>
            <a:ext cx="8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174000" y="292104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1640" y="3021120"/>
            <a:ext cx="81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634000" y="3021120"/>
            <a:ext cx="57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687280" y="302112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382995"/>
                </a:solidFill>
                <a:latin typeface="Sans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08160" y="302112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66840" y="3021120"/>
            <a:ext cx="3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90600" y="302112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382995"/>
                </a:solidFill>
                <a:latin typeface="Sans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17960" y="3021120"/>
            <a:ext cx="46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870880" y="3021120"/>
            <a:ext cx="46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11200" y="302112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973840" y="30211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27840" y="30211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8960" y="3021120"/>
            <a:ext cx="69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630760" y="31194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686920" y="31194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36600" y="311940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795640" y="3119400"/>
            <a:ext cx="57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850000" y="3119400"/>
            <a:ext cx="5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13360" y="3119400"/>
            <a:ext cx="57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64840" y="31194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10560" y="3119400"/>
            <a:ext cx="69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3344760" y="16682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290760" y="1741320"/>
            <a:ext cx="111240" cy="120960"/>
          </a:xfrm>
          <a:custGeom>
            <a:avLst/>
            <a:gdLst/>
            <a:ahLst/>
            <a:rect l="l" t="t" r="r" b="b"/>
            <a:pathLst>
              <a:path w="75" h="76">
                <a:moveTo>
                  <a:pt x="74" y="0"/>
                </a:moveTo>
                <a:lnTo>
                  <a:pt x="36" y="75"/>
                </a:lnTo>
                <a:lnTo>
                  <a:pt x="0" y="0"/>
                </a:lnTo>
                <a:lnTo>
                  <a:pt x="74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44760" y="2149560"/>
            <a:ext cx="1800" cy="3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90760" y="2398680"/>
            <a:ext cx="111240" cy="120600"/>
          </a:xfrm>
          <a:custGeom>
            <a:avLst/>
            <a:gdLst/>
            <a:ahLst/>
            <a:rect l="l" t="t" r="r" b="b"/>
            <a:pathLst>
              <a:path w="75" h="76">
                <a:moveTo>
                  <a:pt x="74" y="0"/>
                </a:moveTo>
                <a:lnTo>
                  <a:pt x="36" y="75"/>
                </a:lnTo>
                <a:lnTo>
                  <a:pt x="0" y="0"/>
                </a:lnTo>
                <a:lnTo>
                  <a:pt x="74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3344760" y="2889360"/>
            <a:ext cx="0" cy="66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290760" y="3432240"/>
            <a:ext cx="111240" cy="120600"/>
          </a:xfrm>
          <a:custGeom>
            <a:avLst/>
            <a:gdLst/>
            <a:ahLst/>
            <a:rect l="l" t="t" r="r" b="b"/>
            <a:pathLst>
              <a:path w="75" h="76">
                <a:moveTo>
                  <a:pt x="74" y="0"/>
                </a:moveTo>
                <a:lnTo>
                  <a:pt x="36" y="75"/>
                </a:lnTo>
                <a:lnTo>
                  <a:pt x="0" y="0"/>
                </a:lnTo>
                <a:lnTo>
                  <a:pt x="74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3341520" y="3174840"/>
            <a:ext cx="704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344760" y="3117960"/>
            <a:ext cx="114480" cy="117360"/>
          </a:xfrm>
          <a:custGeom>
            <a:avLst/>
            <a:gdLst/>
            <a:ahLst/>
            <a:rect l="l" t="t" r="r" b="b"/>
            <a:pathLst>
              <a:path w="77" h="74">
                <a:moveTo>
                  <a:pt x="76" y="73"/>
                </a:moveTo>
                <a:lnTo>
                  <a:pt x="0" y="36"/>
                </a:lnTo>
                <a:lnTo>
                  <a:pt x="76" y="0"/>
                </a:lnTo>
                <a:lnTo>
                  <a:pt x="76" y="7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4386240" y="22302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35480" y="2398680"/>
            <a:ext cx="10800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73" y="0"/>
                </a:moveTo>
                <a:lnTo>
                  <a:pt x="36" y="75"/>
                </a:lnTo>
                <a:lnTo>
                  <a:pt x="0" y="0"/>
                </a:lnTo>
                <a:lnTo>
                  <a:pt x="7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4386240" y="27936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335480" y="2865600"/>
            <a:ext cx="108000" cy="122040"/>
          </a:xfrm>
          <a:custGeom>
            <a:avLst/>
            <a:gdLst/>
            <a:ahLst/>
            <a:rect l="l" t="t" r="r" b="b"/>
            <a:pathLst>
              <a:path w="74" h="77">
                <a:moveTo>
                  <a:pt x="73" y="0"/>
                </a:moveTo>
                <a:lnTo>
                  <a:pt x="36" y="76"/>
                </a:lnTo>
                <a:lnTo>
                  <a:pt x="0" y="0"/>
                </a:lnTo>
                <a:lnTo>
                  <a:pt x="7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251320" y="2793600"/>
            <a:ext cx="0" cy="7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99120" y="2798640"/>
            <a:ext cx="108000" cy="122400"/>
          </a:xfrm>
          <a:custGeom>
            <a:avLst/>
            <a:gdLst/>
            <a:ahLst/>
            <a:rect l="l" t="t" r="r" b="b"/>
            <a:pathLst>
              <a:path w="74" h="77">
                <a:moveTo>
                  <a:pt x="0" y="76"/>
                </a:moveTo>
                <a:lnTo>
                  <a:pt x="37" y="0"/>
                </a:lnTo>
                <a:lnTo>
                  <a:pt x="73" y="76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32200" y="2798640"/>
            <a:ext cx="347760" cy="378000"/>
          </a:xfrm>
          <a:custGeom>
            <a:avLst/>
            <a:gdLst/>
            <a:ahLst/>
            <a:rect l="l" t="t" r="r" b="b"/>
            <a:pathLst>
              <a:path w="238" h="238">
                <a:moveTo>
                  <a:pt x="0" y="237"/>
                </a:moveTo>
                <a:lnTo>
                  <a:pt x="237" y="237"/>
                </a:lnTo>
                <a:lnTo>
                  <a:pt x="23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7760" y="2798640"/>
            <a:ext cx="107640" cy="122400"/>
          </a:xfrm>
          <a:custGeom>
            <a:avLst/>
            <a:gdLst/>
            <a:ahLst/>
            <a:rect l="l" t="t" r="r" b="b"/>
            <a:pathLst>
              <a:path w="74" h="77">
                <a:moveTo>
                  <a:pt x="0" y="76"/>
                </a:moveTo>
                <a:lnTo>
                  <a:pt x="36" y="0"/>
                </a:lnTo>
                <a:lnTo>
                  <a:pt x="73" y="76"/>
                </a:lnTo>
                <a:lnTo>
                  <a:pt x="0" y="7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32200" y="1860480"/>
            <a:ext cx="520920" cy="658800"/>
          </a:xfrm>
          <a:custGeom>
            <a:avLst/>
            <a:gdLst/>
            <a:ahLst/>
            <a:rect l="l" t="t" r="r" b="b"/>
            <a:pathLst>
              <a:path w="356" h="415">
                <a:moveTo>
                  <a:pt x="0" y="0"/>
                </a:moveTo>
                <a:lnTo>
                  <a:pt x="355" y="0"/>
                </a:lnTo>
                <a:lnTo>
                  <a:pt x="355" y="4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199120" y="2398680"/>
            <a:ext cx="10800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73" y="0"/>
                </a:moveTo>
                <a:lnTo>
                  <a:pt x="37" y="75"/>
                </a:lnTo>
                <a:lnTo>
                  <a:pt x="0" y="0"/>
                </a:lnTo>
                <a:lnTo>
                  <a:pt x="7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599080" y="2649600"/>
            <a:ext cx="260280" cy="245880"/>
          </a:xfrm>
          <a:custGeom>
            <a:avLst/>
            <a:gdLst/>
            <a:ahLst/>
            <a:rect l="l" t="t" r="r" b="b"/>
            <a:pathLst>
              <a:path w="179" h="155">
                <a:moveTo>
                  <a:pt x="0" y="0"/>
                </a:moveTo>
                <a:lnTo>
                  <a:pt x="178" y="0"/>
                </a:lnTo>
                <a:lnTo>
                  <a:pt x="178" y="1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05360" y="2774880"/>
            <a:ext cx="111240" cy="120600"/>
          </a:xfrm>
          <a:custGeom>
            <a:avLst/>
            <a:gdLst/>
            <a:ahLst/>
            <a:rect l="l" t="t" r="r" b="b"/>
            <a:pathLst>
              <a:path w="74" h="76">
                <a:moveTo>
                  <a:pt x="73" y="0"/>
                </a:moveTo>
                <a:lnTo>
                  <a:pt x="36" y="75"/>
                </a:lnTo>
                <a:lnTo>
                  <a:pt x="0" y="0"/>
                </a:lnTo>
                <a:lnTo>
                  <a:pt x="73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00440" y="3832200"/>
            <a:ext cx="333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929040" y="3774960"/>
            <a:ext cx="111240" cy="117720"/>
          </a:xfrm>
          <a:custGeom>
            <a:avLst/>
            <a:gdLst/>
            <a:ahLst/>
            <a:rect l="l" t="t" r="r" b="b"/>
            <a:pathLst>
              <a:path w="76" h="74">
                <a:moveTo>
                  <a:pt x="0" y="0"/>
                </a:moveTo>
                <a:lnTo>
                  <a:pt x="75" y="36"/>
                </a:lnTo>
                <a:lnTo>
                  <a:pt x="0" y="7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738680" y="3832200"/>
            <a:ext cx="162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794120" y="3774960"/>
            <a:ext cx="112680" cy="117720"/>
          </a:xfrm>
          <a:custGeom>
            <a:avLst/>
            <a:gdLst/>
            <a:ahLst/>
            <a:rect l="l" t="t" r="r" b="b"/>
            <a:pathLst>
              <a:path w="77" h="74">
                <a:moveTo>
                  <a:pt x="0" y="0"/>
                </a:moveTo>
                <a:lnTo>
                  <a:pt x="76" y="36"/>
                </a:lnTo>
                <a:lnTo>
                  <a:pt x="0" y="7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344760" y="4124160"/>
            <a:ext cx="180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90760" y="4183200"/>
            <a:ext cx="111240" cy="122040"/>
          </a:xfrm>
          <a:custGeom>
            <a:avLst/>
            <a:gdLst/>
            <a:ahLst/>
            <a:rect l="l" t="t" r="r" b="b"/>
            <a:pathLst>
              <a:path w="75" h="77">
                <a:moveTo>
                  <a:pt x="74" y="0"/>
                </a:moveTo>
                <a:lnTo>
                  <a:pt x="36" y="76"/>
                </a:lnTo>
                <a:lnTo>
                  <a:pt x="0" y="0"/>
                </a:lnTo>
                <a:lnTo>
                  <a:pt x="74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344760" y="4592520"/>
            <a:ext cx="180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290760" y="4653000"/>
            <a:ext cx="111240" cy="120600"/>
          </a:xfrm>
          <a:custGeom>
            <a:avLst/>
            <a:gdLst/>
            <a:ahLst/>
            <a:rect l="l" t="t" r="r" b="b"/>
            <a:pathLst>
              <a:path w="75" h="76">
                <a:moveTo>
                  <a:pt x="74" y="0"/>
                </a:moveTo>
                <a:lnTo>
                  <a:pt x="36" y="75"/>
                </a:lnTo>
                <a:lnTo>
                  <a:pt x="0" y="0"/>
                </a:lnTo>
                <a:lnTo>
                  <a:pt x="74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93960" y="4116240"/>
            <a:ext cx="1559160" cy="281160"/>
          </a:xfrm>
          <a:custGeom>
            <a:avLst/>
            <a:gdLst/>
            <a:ahLst/>
            <a:rect l="l" t="t" r="r" b="b"/>
            <a:pathLst>
              <a:path w="1065" h="177">
                <a:moveTo>
                  <a:pt x="0" y="176"/>
                </a:moveTo>
                <a:lnTo>
                  <a:pt x="1064" y="176"/>
                </a:lnTo>
                <a:lnTo>
                  <a:pt x="106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91080" y="4336920"/>
            <a:ext cx="112680" cy="119160"/>
          </a:xfrm>
          <a:custGeom>
            <a:avLst/>
            <a:gdLst/>
            <a:ahLst/>
            <a:rect l="l" t="t" r="r" b="b"/>
            <a:pathLst>
              <a:path w="77" h="75">
                <a:moveTo>
                  <a:pt x="76" y="74"/>
                </a:moveTo>
                <a:lnTo>
                  <a:pt x="0" y="36"/>
                </a:lnTo>
                <a:lnTo>
                  <a:pt x="76" y="0"/>
                </a:lnTo>
                <a:lnTo>
                  <a:pt x="76" y="7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344760" y="5345280"/>
            <a:ext cx="180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90760" y="5405400"/>
            <a:ext cx="111240" cy="120600"/>
          </a:xfrm>
          <a:custGeom>
            <a:avLst/>
            <a:gdLst/>
            <a:ahLst/>
            <a:rect l="l" t="t" r="r" b="b"/>
            <a:pathLst>
              <a:path w="75" h="76">
                <a:moveTo>
                  <a:pt x="74" y="0"/>
                </a:moveTo>
                <a:lnTo>
                  <a:pt x="36" y="75"/>
                </a:lnTo>
                <a:lnTo>
                  <a:pt x="0" y="0"/>
                </a:lnTo>
                <a:lnTo>
                  <a:pt x="74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44760" y="5813280"/>
            <a:ext cx="180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290760" y="5873760"/>
            <a:ext cx="111240" cy="122400"/>
          </a:xfrm>
          <a:custGeom>
            <a:avLst/>
            <a:gdLst/>
            <a:ahLst/>
            <a:rect l="l" t="t" r="r" b="b"/>
            <a:pathLst>
              <a:path w="75" h="77">
                <a:moveTo>
                  <a:pt x="74" y="0"/>
                </a:moveTo>
                <a:lnTo>
                  <a:pt x="36" y="76"/>
                </a:lnTo>
                <a:lnTo>
                  <a:pt x="0" y="0"/>
                </a:lnTo>
                <a:lnTo>
                  <a:pt x="74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693960" y="4491000"/>
            <a:ext cx="260640" cy="565200"/>
          </a:xfrm>
          <a:custGeom>
            <a:avLst/>
            <a:gdLst/>
            <a:ahLst/>
            <a:rect l="l" t="t" r="r" b="b"/>
            <a:pathLst>
              <a:path w="178" h="356">
                <a:moveTo>
                  <a:pt x="0" y="0"/>
                </a:moveTo>
                <a:lnTo>
                  <a:pt x="177" y="0"/>
                </a:lnTo>
                <a:lnTo>
                  <a:pt x="177" y="355"/>
                </a:lnTo>
                <a:lnTo>
                  <a:pt x="59" y="35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691080" y="4433760"/>
            <a:ext cx="112680" cy="117720"/>
          </a:xfrm>
          <a:custGeom>
            <a:avLst/>
            <a:gdLst/>
            <a:ahLst/>
            <a:rect l="l" t="t" r="r" b="b"/>
            <a:pathLst>
              <a:path w="77" h="74">
                <a:moveTo>
                  <a:pt x="76" y="73"/>
                </a:moveTo>
                <a:lnTo>
                  <a:pt x="0" y="36"/>
                </a:lnTo>
                <a:lnTo>
                  <a:pt x="76" y="0"/>
                </a:lnTo>
                <a:lnTo>
                  <a:pt x="76" y="7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93960" y="1860480"/>
            <a:ext cx="349560" cy="847800"/>
          </a:xfrm>
          <a:custGeom>
            <a:avLst/>
            <a:gdLst/>
            <a:ahLst/>
            <a:rect l="l" t="t" r="r" b="b"/>
            <a:pathLst>
              <a:path w="238" h="534">
                <a:moveTo>
                  <a:pt x="237" y="0"/>
                </a:moveTo>
                <a:lnTo>
                  <a:pt x="119" y="0"/>
                </a:lnTo>
                <a:lnTo>
                  <a:pt x="119" y="533"/>
                </a:lnTo>
                <a:lnTo>
                  <a:pt x="0" y="5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929040" y="1801800"/>
            <a:ext cx="111240" cy="119160"/>
          </a:xfrm>
          <a:custGeom>
            <a:avLst/>
            <a:gdLst/>
            <a:ahLst/>
            <a:rect l="l" t="t" r="r" b="b"/>
            <a:pathLst>
              <a:path w="76" h="75">
                <a:moveTo>
                  <a:pt x="0" y="0"/>
                </a:moveTo>
                <a:lnTo>
                  <a:pt x="75" y="36"/>
                </a:lnTo>
                <a:lnTo>
                  <a:pt x="0" y="7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743360" y="172404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796640" y="172404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400280" y="2232000"/>
            <a:ext cx="6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54640" y="223200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04760" y="2570040"/>
            <a:ext cx="6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60920" y="257004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76440" y="290844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429720" y="290844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48120" y="30402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999600" y="304020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11320" y="3041640"/>
            <a:ext cx="6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65680" y="304164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82640" y="3452760"/>
            <a:ext cx="6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337360" y="345276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84800" y="41673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39520" y="416736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704760" y="3699000"/>
            <a:ext cx="6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60920" y="369900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376440" y="41101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429720" y="411012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793680" y="4917960"/>
            <a:ext cx="6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848040" y="491796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376440" y="53323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429720" y="533232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82995"/>
                </a:solidFill>
                <a:latin typeface="Sans"/>
              </a:rPr>
              <a:t>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921040" y="1243080"/>
            <a:ext cx="3422520" cy="51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DIAGRAMMA DI FLUSSO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51040" y="990720"/>
            <a:ext cx="7448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PUNTI DI FORZA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OSSIBILITA’ DI DESCRIZIONE DELLE ATTIVITA’ E DEGLI OUTPUT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13960" indent="-452160">
              <a:spcBef>
                <a:spcPts val="700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OSSIBILITA’ DI GESTIONE DI ALTERNATIVE (punti di decisione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13960" indent="-452160">
              <a:spcBef>
                <a:spcPts val="700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FACILE COLLEGAMENTO CON ALTRI PROCESSI</a:t>
            </a:r>
            <a:br>
              <a:rPr sz="2800"/>
            </a:b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ONOSCENZA DIFFUSA CHE DERIVA DALL’IMPIEGO IN CAMPO INFORMATICO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3560" y="228240"/>
            <a:ext cx="8299440" cy="1066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ffff"/>
                </a:solidFill>
                <a:latin typeface="Arial"/>
              </a:rPr>
              <a:t>FLUSSO DEL PROCESSO: DIAGRAMMA DI FLUSSO FUNZIONALE</a:t>
            </a:r>
            <a:endParaRPr b="1" lang="en-US" sz="31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183680" y="2803680"/>
            <a:ext cx="471600" cy="16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ffff"/>
                </a:solidFill>
                <a:latin typeface="AvantGarde"/>
              </a:rPr>
              <a:t>INIZ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47280" y="2671920"/>
            <a:ext cx="900000" cy="16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ffff"/>
                </a:solidFill>
                <a:latin typeface="AvantGarde"/>
              </a:rPr>
              <a:t>INTERVEN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536920" y="2801880"/>
            <a:ext cx="735120" cy="16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ffff"/>
                </a:solidFill>
                <a:latin typeface="AvantGarde"/>
              </a:rPr>
              <a:t>PRESSO I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586960" y="2930400"/>
            <a:ext cx="578160" cy="16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ffff"/>
                </a:solidFill>
                <a:latin typeface="AvantGarde"/>
              </a:rPr>
              <a:t>CLI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999600" y="3503520"/>
            <a:ext cx="70164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ffff"/>
                </a:solidFill>
                <a:latin typeface="AvantGarde"/>
              </a:rPr>
              <a:t>CLIENTE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020840" y="3633840"/>
            <a:ext cx="6606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ffff"/>
                </a:solidFill>
                <a:latin typeface="AvantGarde"/>
              </a:rPr>
              <a:t>GARANZ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03800" y="3762360"/>
            <a:ext cx="67680" cy="16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ffff"/>
                </a:solidFill>
                <a:latin typeface="AvantGarde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674520" y="4543560"/>
            <a:ext cx="1241280" cy="16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ffff"/>
                </a:solidFill>
                <a:latin typeface="AvantGarde"/>
              </a:rPr>
              <a:t>AUTORIZZ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182120" y="4672080"/>
            <a:ext cx="351360" cy="16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ffff"/>
                </a:solidFill>
                <a:latin typeface="AvantGarde"/>
              </a:rPr>
              <a:t>AL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755880" y="4802040"/>
            <a:ext cx="1072080" cy="16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ffff"/>
                </a:solidFill>
                <a:latin typeface="AvantGarde"/>
              </a:rPr>
              <a:t>FATTUR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234760" y="5181480"/>
            <a:ext cx="1072080" cy="16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ffff"/>
                </a:solidFill>
                <a:latin typeface="AvantGarde"/>
              </a:rPr>
              <a:t>FATTUR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859200" y="3149640"/>
            <a:ext cx="942840" cy="1022400"/>
          </a:xfrm>
          <a:custGeom>
            <a:avLst/>
            <a:gdLst/>
            <a:ahLst/>
            <a:rect l="l" t="t" r="r" b="b"/>
            <a:pathLst>
              <a:path w="644" h="644">
                <a:moveTo>
                  <a:pt x="322" y="0"/>
                </a:moveTo>
                <a:lnTo>
                  <a:pt x="0" y="322"/>
                </a:lnTo>
                <a:lnTo>
                  <a:pt x="322" y="643"/>
                </a:lnTo>
                <a:lnTo>
                  <a:pt x="643" y="322"/>
                </a:lnTo>
                <a:lnTo>
                  <a:pt x="32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710160" y="4518000"/>
            <a:ext cx="1244520" cy="493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78320" y="5024520"/>
            <a:ext cx="1090800" cy="498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92480" y="2647800"/>
            <a:ext cx="1090440" cy="495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76400" y="2476440"/>
            <a:ext cx="1562040" cy="3218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49600" y="2476440"/>
            <a:ext cx="1562040" cy="3218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122800" y="2476440"/>
            <a:ext cx="1405080" cy="3218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22160" y="2476440"/>
            <a:ext cx="1241640" cy="3218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74800" y="2727360"/>
            <a:ext cx="941400" cy="338040"/>
          </a:xfrm>
          <a:custGeom>
            <a:avLst/>
            <a:gdLst/>
            <a:ahLst/>
            <a:rect l="l" t="t" r="r" b="b"/>
            <a:pathLst>
              <a:path w="644" h="213">
                <a:moveTo>
                  <a:pt x="31" y="0"/>
                </a:moveTo>
                <a:lnTo>
                  <a:pt x="26" y="0"/>
                </a:lnTo>
                <a:lnTo>
                  <a:pt x="25" y="1"/>
                </a:lnTo>
                <a:lnTo>
                  <a:pt x="22" y="1"/>
                </a:lnTo>
                <a:lnTo>
                  <a:pt x="21" y="2"/>
                </a:lnTo>
                <a:lnTo>
                  <a:pt x="19" y="2"/>
                </a:lnTo>
                <a:lnTo>
                  <a:pt x="18" y="3"/>
                </a:lnTo>
                <a:lnTo>
                  <a:pt x="17" y="3"/>
                </a:lnTo>
                <a:lnTo>
                  <a:pt x="16" y="4"/>
                </a:lnTo>
                <a:lnTo>
                  <a:pt x="15" y="4"/>
                </a:lnTo>
                <a:lnTo>
                  <a:pt x="15" y="5"/>
                </a:lnTo>
                <a:lnTo>
                  <a:pt x="14" y="5"/>
                </a:lnTo>
                <a:lnTo>
                  <a:pt x="13" y="6"/>
                </a:lnTo>
                <a:lnTo>
                  <a:pt x="12" y="6"/>
                </a:lnTo>
                <a:lnTo>
                  <a:pt x="12" y="7"/>
                </a:lnTo>
                <a:lnTo>
                  <a:pt x="11" y="7"/>
                </a:lnTo>
                <a:lnTo>
                  <a:pt x="11" y="8"/>
                </a:lnTo>
                <a:lnTo>
                  <a:pt x="10" y="8"/>
                </a:lnTo>
                <a:lnTo>
                  <a:pt x="8" y="10"/>
                </a:lnTo>
                <a:lnTo>
                  <a:pt x="8" y="11"/>
                </a:lnTo>
                <a:lnTo>
                  <a:pt x="7" y="11"/>
                </a:lnTo>
                <a:lnTo>
                  <a:pt x="7" y="12"/>
                </a:lnTo>
                <a:lnTo>
                  <a:pt x="6" y="12"/>
                </a:lnTo>
                <a:lnTo>
                  <a:pt x="6" y="13"/>
                </a:lnTo>
                <a:lnTo>
                  <a:pt x="5" y="14"/>
                </a:lnTo>
                <a:lnTo>
                  <a:pt x="5" y="15"/>
                </a:lnTo>
                <a:lnTo>
                  <a:pt x="4" y="15"/>
                </a:lnTo>
                <a:lnTo>
                  <a:pt x="4" y="16"/>
                </a:lnTo>
                <a:lnTo>
                  <a:pt x="3" y="17"/>
                </a:lnTo>
                <a:lnTo>
                  <a:pt x="3" y="18"/>
                </a:lnTo>
                <a:lnTo>
                  <a:pt x="2" y="19"/>
                </a:lnTo>
                <a:lnTo>
                  <a:pt x="2" y="21"/>
                </a:lnTo>
                <a:lnTo>
                  <a:pt x="1" y="22"/>
                </a:lnTo>
                <a:lnTo>
                  <a:pt x="1" y="25"/>
                </a:lnTo>
                <a:lnTo>
                  <a:pt x="0" y="25"/>
                </a:lnTo>
                <a:lnTo>
                  <a:pt x="0" y="30"/>
                </a:lnTo>
                <a:lnTo>
                  <a:pt x="0" y="186"/>
                </a:lnTo>
                <a:lnTo>
                  <a:pt x="1" y="187"/>
                </a:lnTo>
                <a:lnTo>
                  <a:pt x="1" y="190"/>
                </a:lnTo>
                <a:lnTo>
                  <a:pt x="2" y="191"/>
                </a:lnTo>
                <a:lnTo>
                  <a:pt x="2" y="193"/>
                </a:lnTo>
                <a:lnTo>
                  <a:pt x="3" y="194"/>
                </a:lnTo>
                <a:lnTo>
                  <a:pt x="3" y="195"/>
                </a:lnTo>
                <a:lnTo>
                  <a:pt x="4" y="196"/>
                </a:lnTo>
                <a:lnTo>
                  <a:pt x="4" y="197"/>
                </a:lnTo>
                <a:lnTo>
                  <a:pt x="5" y="197"/>
                </a:lnTo>
                <a:lnTo>
                  <a:pt x="5" y="198"/>
                </a:lnTo>
                <a:lnTo>
                  <a:pt x="6" y="199"/>
                </a:lnTo>
                <a:lnTo>
                  <a:pt x="6" y="200"/>
                </a:lnTo>
                <a:lnTo>
                  <a:pt x="7" y="200"/>
                </a:lnTo>
                <a:lnTo>
                  <a:pt x="7" y="201"/>
                </a:lnTo>
                <a:lnTo>
                  <a:pt x="8" y="201"/>
                </a:lnTo>
                <a:lnTo>
                  <a:pt x="8" y="202"/>
                </a:lnTo>
                <a:lnTo>
                  <a:pt x="10" y="204"/>
                </a:lnTo>
                <a:lnTo>
                  <a:pt x="11" y="204"/>
                </a:lnTo>
                <a:lnTo>
                  <a:pt x="11" y="205"/>
                </a:lnTo>
                <a:lnTo>
                  <a:pt x="12" y="205"/>
                </a:lnTo>
                <a:lnTo>
                  <a:pt x="12" y="206"/>
                </a:lnTo>
                <a:lnTo>
                  <a:pt x="13" y="206"/>
                </a:lnTo>
                <a:lnTo>
                  <a:pt x="14" y="207"/>
                </a:lnTo>
                <a:lnTo>
                  <a:pt x="15" y="207"/>
                </a:lnTo>
                <a:lnTo>
                  <a:pt x="15" y="208"/>
                </a:lnTo>
                <a:lnTo>
                  <a:pt x="16" y="208"/>
                </a:lnTo>
                <a:lnTo>
                  <a:pt x="17" y="209"/>
                </a:lnTo>
                <a:lnTo>
                  <a:pt x="18" y="209"/>
                </a:lnTo>
                <a:lnTo>
                  <a:pt x="19" y="210"/>
                </a:lnTo>
                <a:lnTo>
                  <a:pt x="21" y="210"/>
                </a:lnTo>
                <a:lnTo>
                  <a:pt x="22" y="211"/>
                </a:lnTo>
                <a:lnTo>
                  <a:pt x="25" y="211"/>
                </a:lnTo>
                <a:lnTo>
                  <a:pt x="26" y="212"/>
                </a:lnTo>
                <a:lnTo>
                  <a:pt x="31" y="212"/>
                </a:lnTo>
                <a:lnTo>
                  <a:pt x="617" y="212"/>
                </a:lnTo>
                <a:lnTo>
                  <a:pt x="618" y="211"/>
                </a:lnTo>
                <a:lnTo>
                  <a:pt x="621" y="211"/>
                </a:lnTo>
                <a:lnTo>
                  <a:pt x="622" y="210"/>
                </a:lnTo>
                <a:lnTo>
                  <a:pt x="624" y="210"/>
                </a:lnTo>
                <a:lnTo>
                  <a:pt x="625" y="209"/>
                </a:lnTo>
                <a:lnTo>
                  <a:pt x="626" y="209"/>
                </a:lnTo>
                <a:lnTo>
                  <a:pt x="627" y="208"/>
                </a:lnTo>
                <a:lnTo>
                  <a:pt x="628" y="208"/>
                </a:lnTo>
                <a:lnTo>
                  <a:pt x="628" y="207"/>
                </a:lnTo>
                <a:lnTo>
                  <a:pt x="629" y="207"/>
                </a:lnTo>
                <a:lnTo>
                  <a:pt x="630" y="206"/>
                </a:lnTo>
                <a:lnTo>
                  <a:pt x="631" y="206"/>
                </a:lnTo>
                <a:lnTo>
                  <a:pt x="631" y="205"/>
                </a:lnTo>
                <a:lnTo>
                  <a:pt x="632" y="205"/>
                </a:lnTo>
                <a:lnTo>
                  <a:pt x="632" y="204"/>
                </a:lnTo>
                <a:lnTo>
                  <a:pt x="633" y="204"/>
                </a:lnTo>
                <a:lnTo>
                  <a:pt x="635" y="202"/>
                </a:lnTo>
                <a:lnTo>
                  <a:pt x="635" y="201"/>
                </a:lnTo>
                <a:lnTo>
                  <a:pt x="636" y="201"/>
                </a:lnTo>
                <a:lnTo>
                  <a:pt x="636" y="200"/>
                </a:lnTo>
                <a:lnTo>
                  <a:pt x="637" y="200"/>
                </a:lnTo>
                <a:lnTo>
                  <a:pt x="637" y="199"/>
                </a:lnTo>
                <a:lnTo>
                  <a:pt x="638" y="198"/>
                </a:lnTo>
                <a:lnTo>
                  <a:pt x="638" y="197"/>
                </a:lnTo>
                <a:lnTo>
                  <a:pt x="639" y="197"/>
                </a:lnTo>
                <a:lnTo>
                  <a:pt x="639" y="196"/>
                </a:lnTo>
                <a:lnTo>
                  <a:pt x="640" y="195"/>
                </a:lnTo>
                <a:lnTo>
                  <a:pt x="640" y="194"/>
                </a:lnTo>
                <a:lnTo>
                  <a:pt x="641" y="193"/>
                </a:lnTo>
                <a:lnTo>
                  <a:pt x="641" y="191"/>
                </a:lnTo>
                <a:lnTo>
                  <a:pt x="642" y="190"/>
                </a:lnTo>
                <a:lnTo>
                  <a:pt x="642" y="187"/>
                </a:lnTo>
                <a:lnTo>
                  <a:pt x="643" y="186"/>
                </a:lnTo>
                <a:lnTo>
                  <a:pt x="643" y="181"/>
                </a:lnTo>
                <a:lnTo>
                  <a:pt x="643" y="25"/>
                </a:lnTo>
                <a:lnTo>
                  <a:pt x="642" y="25"/>
                </a:lnTo>
                <a:lnTo>
                  <a:pt x="642" y="22"/>
                </a:lnTo>
                <a:lnTo>
                  <a:pt x="641" y="21"/>
                </a:lnTo>
                <a:lnTo>
                  <a:pt x="641" y="19"/>
                </a:lnTo>
                <a:lnTo>
                  <a:pt x="640" y="18"/>
                </a:lnTo>
                <a:lnTo>
                  <a:pt x="640" y="17"/>
                </a:lnTo>
                <a:lnTo>
                  <a:pt x="639" y="16"/>
                </a:lnTo>
                <a:lnTo>
                  <a:pt x="639" y="15"/>
                </a:lnTo>
                <a:lnTo>
                  <a:pt x="638" y="15"/>
                </a:lnTo>
                <a:lnTo>
                  <a:pt x="638" y="14"/>
                </a:lnTo>
                <a:lnTo>
                  <a:pt x="637" y="13"/>
                </a:lnTo>
                <a:lnTo>
                  <a:pt x="637" y="12"/>
                </a:lnTo>
                <a:lnTo>
                  <a:pt x="636" y="12"/>
                </a:lnTo>
                <a:lnTo>
                  <a:pt x="636" y="11"/>
                </a:lnTo>
                <a:lnTo>
                  <a:pt x="635" y="11"/>
                </a:lnTo>
                <a:lnTo>
                  <a:pt x="635" y="10"/>
                </a:lnTo>
                <a:lnTo>
                  <a:pt x="633" y="8"/>
                </a:lnTo>
                <a:lnTo>
                  <a:pt x="632" y="8"/>
                </a:lnTo>
                <a:lnTo>
                  <a:pt x="632" y="7"/>
                </a:lnTo>
                <a:lnTo>
                  <a:pt x="631" y="7"/>
                </a:lnTo>
                <a:lnTo>
                  <a:pt x="631" y="6"/>
                </a:lnTo>
                <a:lnTo>
                  <a:pt x="630" y="6"/>
                </a:lnTo>
                <a:lnTo>
                  <a:pt x="629" y="5"/>
                </a:lnTo>
                <a:lnTo>
                  <a:pt x="628" y="5"/>
                </a:lnTo>
                <a:lnTo>
                  <a:pt x="628" y="4"/>
                </a:lnTo>
                <a:lnTo>
                  <a:pt x="627" y="4"/>
                </a:lnTo>
                <a:lnTo>
                  <a:pt x="626" y="3"/>
                </a:lnTo>
                <a:lnTo>
                  <a:pt x="625" y="3"/>
                </a:lnTo>
                <a:lnTo>
                  <a:pt x="624" y="2"/>
                </a:lnTo>
                <a:lnTo>
                  <a:pt x="622" y="2"/>
                </a:lnTo>
                <a:lnTo>
                  <a:pt x="621" y="1"/>
                </a:lnTo>
                <a:lnTo>
                  <a:pt x="618" y="1"/>
                </a:lnTo>
                <a:lnTo>
                  <a:pt x="617" y="0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128680" y="2023920"/>
            <a:ext cx="1386000" cy="182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AvantGarde"/>
              </a:rPr>
              <a:t>CONCESSIO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16800" y="2023920"/>
            <a:ext cx="907560" cy="182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AvantGarde"/>
              </a:rPr>
              <a:t>ASSIST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34520" y="2182680"/>
            <a:ext cx="657720" cy="182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AvantGarde"/>
              </a:rPr>
              <a:t>TE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439960" y="2023920"/>
            <a:ext cx="837360" cy="182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AvantGarde"/>
              </a:rPr>
              <a:t>DIRE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11800" y="2182680"/>
            <a:ext cx="1126800" cy="182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AvantGarde"/>
              </a:rPr>
              <a:t>COMMERC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540480" y="2476440"/>
            <a:ext cx="1244520" cy="3218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32720" y="2023920"/>
            <a:ext cx="945720" cy="182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AvantGarde"/>
              </a:rPr>
              <a:t>MAGAZZ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9800" y="2182680"/>
            <a:ext cx="668160" cy="182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AvantGarde"/>
              </a:rPr>
              <a:t>RICA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976400" y="1971720"/>
            <a:ext cx="1562040" cy="466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549600" y="1971720"/>
            <a:ext cx="1562040" cy="466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122800" y="1971720"/>
            <a:ext cx="1405080" cy="466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540480" y="1971720"/>
            <a:ext cx="1244520" cy="466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22320" y="2897280"/>
            <a:ext cx="459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158920" y="2830680"/>
            <a:ext cx="128520" cy="136440"/>
          </a:xfrm>
          <a:custGeom>
            <a:avLst/>
            <a:gdLst/>
            <a:ahLst/>
            <a:rect l="l" t="t" r="r" b="b"/>
            <a:pathLst>
              <a:path w="88" h="86">
                <a:moveTo>
                  <a:pt x="0" y="0"/>
                </a:moveTo>
                <a:lnTo>
                  <a:pt x="87" y="42"/>
                </a:lnTo>
                <a:lnTo>
                  <a:pt x="0" y="8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30800" y="4178160"/>
            <a:ext cx="0" cy="32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268880" y="4373640"/>
            <a:ext cx="125280" cy="139680"/>
          </a:xfrm>
          <a:custGeom>
            <a:avLst/>
            <a:gdLst/>
            <a:ahLst/>
            <a:rect l="l" t="t" r="r" b="b"/>
            <a:pathLst>
              <a:path w="85" h="88">
                <a:moveTo>
                  <a:pt x="84" y="0"/>
                </a:moveTo>
                <a:lnTo>
                  <a:pt x="42" y="87"/>
                </a:lnTo>
                <a:lnTo>
                  <a:pt x="0" y="0"/>
                </a:lnTo>
                <a:lnTo>
                  <a:pt x="8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819520" y="3149640"/>
            <a:ext cx="1041120" cy="512640"/>
          </a:xfrm>
          <a:custGeom>
            <a:avLst/>
            <a:gdLst/>
            <a:ahLst/>
            <a:rect l="l" t="t" r="r" b="b"/>
            <a:pathLst>
              <a:path w="710" h="323">
                <a:moveTo>
                  <a:pt x="709" y="322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60840" y="3149640"/>
            <a:ext cx="122040" cy="141120"/>
          </a:xfrm>
          <a:custGeom>
            <a:avLst/>
            <a:gdLst/>
            <a:ahLst/>
            <a:rect l="l" t="t" r="r" b="b"/>
            <a:pathLst>
              <a:path w="85" h="89">
                <a:moveTo>
                  <a:pt x="0" y="88"/>
                </a:moveTo>
                <a:lnTo>
                  <a:pt x="42" y="0"/>
                </a:lnTo>
                <a:lnTo>
                  <a:pt x="84" y="88"/>
                </a:lnTo>
                <a:lnTo>
                  <a:pt x="0" y="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389400" y="2879640"/>
            <a:ext cx="941400" cy="271440"/>
          </a:xfrm>
          <a:custGeom>
            <a:avLst/>
            <a:gdLst/>
            <a:ahLst/>
            <a:rect l="l" t="t" r="r" b="b"/>
            <a:pathLst>
              <a:path w="644" h="171">
                <a:moveTo>
                  <a:pt x="0" y="0"/>
                </a:moveTo>
                <a:lnTo>
                  <a:pt x="643" y="0"/>
                </a:lnTo>
                <a:lnTo>
                  <a:pt x="643" y="17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268880" y="3013200"/>
            <a:ext cx="125280" cy="137880"/>
          </a:xfrm>
          <a:custGeom>
            <a:avLst/>
            <a:gdLst/>
            <a:ahLst/>
            <a:rect l="l" t="t" r="r" b="b"/>
            <a:pathLst>
              <a:path w="85" h="87">
                <a:moveTo>
                  <a:pt x="84" y="0"/>
                </a:moveTo>
                <a:lnTo>
                  <a:pt x="42" y="86"/>
                </a:lnTo>
                <a:lnTo>
                  <a:pt x="0" y="0"/>
                </a:lnTo>
                <a:lnTo>
                  <a:pt x="8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59360" y="4748040"/>
            <a:ext cx="851040" cy="271800"/>
          </a:xfrm>
          <a:custGeom>
            <a:avLst/>
            <a:gdLst/>
            <a:ahLst/>
            <a:rect l="l" t="t" r="r" b="b"/>
            <a:pathLst>
              <a:path w="580" h="171">
                <a:moveTo>
                  <a:pt x="0" y="0"/>
                </a:moveTo>
                <a:lnTo>
                  <a:pt x="579" y="0"/>
                </a:lnTo>
                <a:lnTo>
                  <a:pt x="579" y="17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48480" y="4881600"/>
            <a:ext cx="125280" cy="138240"/>
          </a:xfrm>
          <a:custGeom>
            <a:avLst/>
            <a:gdLst/>
            <a:ahLst/>
            <a:rect l="l" t="t" r="r" b="b"/>
            <a:pathLst>
              <a:path w="85" h="87">
                <a:moveTo>
                  <a:pt x="84" y="0"/>
                </a:moveTo>
                <a:lnTo>
                  <a:pt x="42" y="86"/>
                </a:lnTo>
                <a:lnTo>
                  <a:pt x="0" y="0"/>
                </a:lnTo>
                <a:lnTo>
                  <a:pt x="8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406040" y="4154400"/>
            <a:ext cx="120960" cy="16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ffff"/>
                </a:solidFill>
                <a:latin typeface="AvantGarde"/>
              </a:rPr>
              <a:t>S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680280" y="3438360"/>
            <a:ext cx="201960" cy="16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ffff"/>
                </a:solidFill>
                <a:latin typeface="AvantGarde"/>
              </a:rPr>
              <a:t>N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60520" y="1741320"/>
            <a:ext cx="7422840" cy="410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87360" y="108000"/>
            <a:ext cx="829944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DIAGRAMMA DI FLUSSO FUNZIONALE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51040" y="1282320"/>
            <a:ext cx="7448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ts val="30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PUNTI DI FORZA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05680" indent="-447480">
              <a:lnSpc>
                <a:spcPts val="3098"/>
              </a:lnSpc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DENTIFICAZIONE DELLE RESPONSABILITA’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05680" indent="-447480"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HIARA VISIBILITA’ DEI “VA E VIENI” NEL FLUSSO E DEI RITORNI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05680" indent="-447480"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DENTIFICAZIONE IMMEDIATA DELLA FRAMMENTAZIONE FUNZIONALE DEL PROCESSO (n° di enti coinvolti)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05680" indent="-447480"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OSSIBILITA’ DI GESTIONE DELLE ALTERNATIV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588960" y="2000160"/>
          <a:ext cx="4095720" cy="42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2000160"/>
                    <a:ext cx="4095720" cy="42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744800" y="1719360"/>
            <a:ext cx="4206600" cy="40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57160" indent="-476280">
              <a:lnSpc>
                <a:spcPts val="2999"/>
              </a:lnSpc>
              <a:spcBef>
                <a:spcPts val="2174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e funzioni sono, di norma, </a:t>
            </a: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“sovradimensionate”</a:t>
            </a:r>
            <a:endParaRPr b="1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lnSpc>
                <a:spcPts val="2999"/>
              </a:lnSpc>
              <a:spcBef>
                <a:spcPts val="233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essuno si preoccupa degli spazi interfunzionali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lnSpc>
                <a:spcPts val="2999"/>
              </a:lnSpc>
              <a:spcBef>
                <a:spcPts val="233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 processi sono gestiti da procedur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685800"/>
            <a:ext cx="8555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'effetto "regno" riduce le prestazioni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561960"/>
            <a:ext cx="777564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307240" y="1127160"/>
            <a:ext cx="48088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accettazione e ricovero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1967040"/>
            <a:ext cx="1374480" cy="49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916200" y="2101680"/>
            <a:ext cx="720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azien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743200" y="1967040"/>
            <a:ext cx="1374840" cy="49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065040" y="2101680"/>
            <a:ext cx="838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greter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724280" y="1967040"/>
            <a:ext cx="1374840" cy="49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145840" y="2101680"/>
            <a:ext cx="636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edic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705720" y="1967040"/>
            <a:ext cx="1374480" cy="49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000920" y="2101680"/>
            <a:ext cx="898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nfermie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9480" y="2600280"/>
            <a:ext cx="1222560" cy="63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015200" y="2805120"/>
            <a:ext cx="515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rriv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19520" y="2811600"/>
            <a:ext cx="1222200" cy="63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896920" y="2890800"/>
            <a:ext cx="1188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gistra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321000" y="3144960"/>
            <a:ext cx="323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at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800600" y="3373560"/>
            <a:ext cx="1222200" cy="63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232240" y="3578400"/>
            <a:ext cx="466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isi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480" y="3373560"/>
            <a:ext cx="1222560" cy="63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041120" y="3578400"/>
            <a:ext cx="466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isi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9480" y="4216320"/>
            <a:ext cx="1222560" cy="63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963000" y="4295880"/>
            <a:ext cx="630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itorn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014480" y="4549680"/>
            <a:ext cx="52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 cas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858000" y="5340240"/>
            <a:ext cx="1222200" cy="6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167600" y="5545080"/>
            <a:ext cx="707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eliev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648320" y="4216320"/>
            <a:ext cx="1600200" cy="492120"/>
          </a:xfrm>
          <a:custGeom>
            <a:avLst/>
            <a:gdLst/>
            <a:ahLst/>
            <a:rect l="l" t="t" r="r" b="b"/>
            <a:pathLst>
              <a:path w="1008" h="310">
                <a:moveTo>
                  <a:pt x="504" y="0"/>
                </a:moveTo>
                <a:lnTo>
                  <a:pt x="0" y="155"/>
                </a:lnTo>
                <a:lnTo>
                  <a:pt x="504" y="310"/>
                </a:lnTo>
                <a:lnTo>
                  <a:pt x="1008" y="155"/>
                </a:lnTo>
                <a:lnTo>
                  <a:pt x="50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135760" y="4362480"/>
            <a:ext cx="711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ccetta 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09480" y="5411880"/>
            <a:ext cx="1222560" cy="63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919080" y="5616720"/>
            <a:ext cx="707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eliev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19520" y="4708440"/>
            <a:ext cx="1374480" cy="63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59440" y="4788000"/>
            <a:ext cx="59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vvi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269880" y="5041800"/>
            <a:ext cx="587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at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600200" y="3232080"/>
            <a:ext cx="14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600200" y="3259080"/>
            <a:ext cx="1219320" cy="90720"/>
            <a:chOff x="1600200" y="3259080"/>
            <a:chExt cx="1219320" cy="90720"/>
          </a:xfrm>
        </p:grpSpPr>
        <p:sp>
          <p:nvSpPr>
            <p:cNvPr id="810" name=""/>
            <p:cNvSpPr/>
            <p:nvPr/>
          </p:nvSpPr>
          <p:spPr>
            <a:xfrm>
              <a:off x="1600200" y="3303720"/>
              <a:ext cx="112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720880" y="3259080"/>
              <a:ext cx="98640" cy="9072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0" y="57"/>
                  </a:moveTo>
                  <a:lnTo>
                    <a:pt x="62" y="28"/>
                  </a:lnTo>
                  <a:lnTo>
                    <a:pt x="0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4038480" y="32320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4905360" y="3232080"/>
            <a:ext cx="98280" cy="141480"/>
            <a:chOff x="4905360" y="3232080"/>
            <a:chExt cx="98280" cy="141480"/>
          </a:xfrm>
        </p:grpSpPr>
        <p:sp>
          <p:nvSpPr>
            <p:cNvPr id="814" name=""/>
            <p:cNvSpPr/>
            <p:nvPr/>
          </p:nvSpPr>
          <p:spPr>
            <a:xfrm>
              <a:off x="4952880" y="3232080"/>
              <a:ext cx="1800" cy="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05360" y="3282840"/>
              <a:ext cx="98280" cy="9072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0" y="0"/>
                  </a:moveTo>
                  <a:lnTo>
                    <a:pt x="30" y="57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5362560" y="4005360"/>
            <a:ext cx="98280" cy="210960"/>
            <a:chOff x="5362560" y="4005360"/>
            <a:chExt cx="98280" cy="210960"/>
          </a:xfrm>
        </p:grpSpPr>
        <p:sp>
          <p:nvSpPr>
            <p:cNvPr id="817" name=""/>
            <p:cNvSpPr/>
            <p:nvPr/>
          </p:nvSpPr>
          <p:spPr>
            <a:xfrm>
              <a:off x="5410080" y="4005360"/>
              <a:ext cx="180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62560" y="4125960"/>
              <a:ext cx="98280" cy="9036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0" y="0"/>
                  </a:moveTo>
                  <a:lnTo>
                    <a:pt x="30" y="57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5410080" y="4708440"/>
            <a:ext cx="180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828800" y="4452840"/>
            <a:ext cx="2819520" cy="92160"/>
            <a:chOff x="1828800" y="4452840"/>
            <a:chExt cx="2819520" cy="92160"/>
          </a:xfrm>
        </p:grpSpPr>
        <p:sp>
          <p:nvSpPr>
            <p:cNvPr id="821" name=""/>
            <p:cNvSpPr/>
            <p:nvPr/>
          </p:nvSpPr>
          <p:spPr>
            <a:xfrm flipH="1">
              <a:off x="1920960" y="4497480"/>
              <a:ext cx="2727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828800" y="4452840"/>
              <a:ext cx="101520" cy="9216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64" y="0"/>
                  </a:moveTo>
                  <a:lnTo>
                    <a:pt x="0" y="28"/>
                  </a:lnTo>
                  <a:lnTo>
                    <a:pt x="64" y="5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4191120" y="4875120"/>
            <a:ext cx="1218600" cy="90720"/>
            <a:chOff x="4191120" y="4875120"/>
            <a:chExt cx="1218600" cy="90720"/>
          </a:xfrm>
        </p:grpSpPr>
        <p:sp>
          <p:nvSpPr>
            <p:cNvPr id="824" name=""/>
            <p:cNvSpPr/>
            <p:nvPr/>
          </p:nvSpPr>
          <p:spPr>
            <a:xfrm flipH="1">
              <a:off x="4282560" y="4919760"/>
              <a:ext cx="112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191120" y="4875120"/>
              <a:ext cx="101520" cy="9072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64" y="0"/>
                  </a:moveTo>
                  <a:lnTo>
                    <a:pt x="0" y="28"/>
                  </a:lnTo>
                  <a:lnTo>
                    <a:pt x="64" y="57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3505320" y="5340240"/>
            <a:ext cx="144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3505320" y="5506920"/>
            <a:ext cx="3276360" cy="92160"/>
            <a:chOff x="3505320" y="5506920"/>
            <a:chExt cx="3276360" cy="92160"/>
          </a:xfrm>
        </p:grpSpPr>
        <p:sp>
          <p:nvSpPr>
            <p:cNvPr id="828" name=""/>
            <p:cNvSpPr/>
            <p:nvPr/>
          </p:nvSpPr>
          <p:spPr>
            <a:xfrm>
              <a:off x="3505320" y="5551560"/>
              <a:ext cx="318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683400" y="5506920"/>
              <a:ext cx="98280" cy="92160"/>
            </a:xfrm>
            <a:custGeom>
              <a:avLst/>
              <a:gdLst/>
              <a:ahLst/>
              <a:rect l="l" t="t" r="r" b="b"/>
              <a:pathLst>
                <a:path w="62" h="58">
                  <a:moveTo>
                    <a:pt x="0" y="58"/>
                  </a:moveTo>
                  <a:lnTo>
                    <a:pt x="62" y="28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1828800" y="5718240"/>
            <a:ext cx="5029200" cy="90360"/>
            <a:chOff x="1828800" y="5718240"/>
            <a:chExt cx="5029200" cy="90360"/>
          </a:xfrm>
        </p:grpSpPr>
        <p:sp>
          <p:nvSpPr>
            <p:cNvPr id="831" name=""/>
            <p:cNvSpPr/>
            <p:nvPr/>
          </p:nvSpPr>
          <p:spPr>
            <a:xfrm flipH="1">
              <a:off x="1920960" y="5762520"/>
              <a:ext cx="4844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759720" y="5718240"/>
              <a:ext cx="98280" cy="9036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0" y="57"/>
                  </a:moveTo>
                  <a:lnTo>
                    <a:pt x="62" y="28"/>
                  </a:lnTo>
                  <a:lnTo>
                    <a:pt x="0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8800" y="5718240"/>
              <a:ext cx="101520" cy="9036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64" y="0"/>
                  </a:moveTo>
                  <a:lnTo>
                    <a:pt x="0" y="28"/>
                  </a:lnTo>
                  <a:lnTo>
                    <a:pt x="64" y="57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108240" y="4075200"/>
            <a:ext cx="3906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248640" y="41306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708440" y="4884840"/>
            <a:ext cx="3398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55680" y="4941720"/>
            <a:ext cx="144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87360" y="108000"/>
            <a:ext cx="82994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DIAGRAMMA DI FLUSSO A MAT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746360" y="2558880"/>
            <a:ext cx="5405400" cy="1435320"/>
          </a:xfrm>
          <a:prstGeom prst="rect">
            <a:avLst/>
          </a:prstGeom>
          <a:solidFill>
            <a:srgbClr val="f5fc62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GLIORAMENTO DEI PROC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3560" y="456840"/>
            <a:ext cx="829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LE 2 DOMANDE CHIAVE ALL’INIZIO DELLE ATTIVITA’ DI MIGLIORAMENTO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851040" y="1770120"/>
            <a:ext cx="7448400" cy="39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OVE AGIR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CELTA DELLE PRIORITA’ DI INTERVENTO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OME AGIR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CELTA DELL’APPROCCIO PER IL MIGLIORAMENTO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1" name="RULLIO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746360" y="2558880"/>
            <a:ext cx="5405400" cy="1435320"/>
          </a:xfrm>
          <a:prstGeom prst="rect">
            <a:avLst/>
          </a:prstGeom>
          <a:solidFill>
            <a:srgbClr val="f5fc62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039760" y="2819520"/>
            <a:ext cx="49244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News Serif"/>
              </a:rPr>
              <a:t>1. SCELTA DELLE PRIORITA’ DI INTERV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3560" y="1066320"/>
            <a:ext cx="829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SCELTA DELLE PRIORITA’ D’INTERVENTO</a:t>
            </a:r>
            <a:br>
              <a:rPr sz="3200"/>
            </a:b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851040" y="1671480"/>
            <a:ext cx="7448400" cy="37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DUE ELEMENTI DA VALUTARE: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805680" indent="-447480">
              <a:spcBef>
                <a:spcPts val="7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LIVELLO DI DETTAGLIO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805680" indent="-447480">
              <a:spcBef>
                <a:spcPts val="7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METODO DA IMPIEGARE PER LA SCELTA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3560" y="152280"/>
            <a:ext cx="8299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LIVELLO DI DETTAGLIO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63400" y="1219320"/>
            <a:ext cx="8226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Times New Roman"/>
              </a:rPr>
              <a:t>MACRO = PROCESSI GENERALI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48520" indent="-471240">
              <a:lnSpc>
                <a:spcPts val="2398"/>
              </a:lnSpc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ISULTATI POTENZIALI GRANDI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48520" indent="-471240">
              <a:lnSpc>
                <a:spcPts val="2398"/>
              </a:lnSpc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ODIFICA DELL’ORGANIZZAZION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48520" indent="-471240">
              <a:lnSpc>
                <a:spcPts val="2398"/>
              </a:lnSpc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OMPLESSITA' DI INTERVENTO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48520" indent="-471240">
              <a:lnSpc>
                <a:spcPts val="2398"/>
              </a:lnSpc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EMPI LUNGHI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4852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4852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4852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Times New Roman"/>
              </a:rPr>
              <a:t>MICRO = SOTTO PROCESSI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4852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48520" indent="-471240">
              <a:lnSpc>
                <a:spcPts val="2398"/>
              </a:lnSpc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ISULTATI MENO IMPORTANTI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48520" indent="-471240">
              <a:lnSpc>
                <a:spcPts val="2398"/>
              </a:lnSpc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ISCHIO DI SUB-OTTIMIZZAZION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48520" indent="-471240">
              <a:lnSpc>
                <a:spcPts val="2398"/>
              </a:lnSpc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IU’ FACILI DA GESTIRE (sia nello studio che nella realizzazione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848520" indent="-471240">
              <a:lnSpc>
                <a:spcPts val="2398"/>
              </a:lnSpc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INORI SFORZI (e risorse) PER LA REALIZZAZION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3560" y="761760"/>
            <a:ext cx="82994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I METODI DI SCELTA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51040" y="1477440"/>
            <a:ext cx="7448400" cy="26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indent="0">
              <a:lnSpc>
                <a:spcPts val="2599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indent="0">
              <a:lnSpc>
                <a:spcPts val="2599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indent="0">
              <a:lnSpc>
                <a:spcPts val="2599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>
              <a:lnSpc>
                <a:spcPts val="2599"/>
              </a:lnSpc>
              <a:spcBef>
                <a:spcPts val="7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AUTODIAGNOSI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>
              <a:lnSpc>
                <a:spcPts val="2599"/>
              </a:lnSpc>
              <a:spcBef>
                <a:spcPts val="7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CORRELAZIONE PRIORITA’ DELL’AZIENDA/PROCESSI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558720" y="1062000"/>
            <a:ext cx="8097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fc62"/>
                </a:solidFill>
                <a:latin typeface="Sans"/>
              </a:rPr>
              <a:t>AUTODIAGNOSI PER L’INDIVIDUAZIONE DEI PROCESSI CRI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69880" y="3054240"/>
            <a:ext cx="1536840" cy="166392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63920"/>
              <a:gd name="textAreaBottom" fmla="*/ 1664280 h 166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5fc6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"/>
              </a:rPr>
              <a:t>OBIETTIVI STRATEGICI DI RIFERIMEN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59000" y="3054240"/>
            <a:ext cx="1533600" cy="1663920"/>
          </a:xfrm>
          <a:custGeom>
            <a:avLst/>
            <a:gdLst>
              <a:gd name="textAreaLeft" fmla="*/ 0 w 1533600"/>
              <a:gd name="textAreaRight" fmla="*/ 1533960 w 1533600"/>
              <a:gd name="textAreaTop" fmla="*/ 0 h 1663920"/>
              <a:gd name="textAreaBottom" fmla="*/ 1664280 h 166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5fc6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"/>
              </a:rPr>
              <a:t>FATTORI CHI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944880" y="3054240"/>
            <a:ext cx="1535040" cy="1663920"/>
          </a:xfrm>
          <a:custGeom>
            <a:avLst/>
            <a:gdLst>
              <a:gd name="textAreaLeft" fmla="*/ 0 w 1535040"/>
              <a:gd name="textAreaRight" fmla="*/ 1535400 w 1535040"/>
              <a:gd name="textAreaTop" fmla="*/ 0 h 1663920"/>
              <a:gd name="textAreaBottom" fmla="*/ 1664280 h 166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5fc6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"/>
              </a:rPr>
              <a:t>MAPPATURA PROCESS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3054240"/>
            <a:ext cx="1535040" cy="1663920"/>
          </a:xfrm>
          <a:custGeom>
            <a:avLst/>
            <a:gdLst>
              <a:gd name="textAreaLeft" fmla="*/ 0 w 1535040"/>
              <a:gd name="textAreaRight" fmla="*/ 1535400 w 1535040"/>
              <a:gd name="textAreaTop" fmla="*/ 0 h 1663920"/>
              <a:gd name="textAreaBottom" fmla="*/ 1664280 h 166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5fc6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"/>
              </a:rPr>
              <a:t>VALUTAZIONE PROCESS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180200" y="3054240"/>
            <a:ext cx="1676520" cy="16639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63920"/>
              <a:gd name="textAreaBottom" fmla="*/ 1664280 h 166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5fc6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ookman"/>
              </a:rPr>
              <a:t>INDIVIDUAZIONE DEI PROCESSI CRITIC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93560" y="685440"/>
            <a:ext cx="829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OBIETTIVI STRATEGICI DI RIFERIMENTO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93560" y="1295280"/>
            <a:ext cx="829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5fc62"/>
                </a:solidFill>
                <a:latin typeface="Sans"/>
              </a:rPr>
              <a:t>Sono derivati dal piano strategico e dal business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17400" y="1963800"/>
            <a:ext cx="6353280" cy="4140000"/>
          </a:xfrm>
          <a:custGeom>
            <a:avLst/>
            <a:gdLst/>
            <a:ahLst/>
            <a:rect l="l" t="t" r="r" b="b"/>
            <a:pathLst>
              <a:path w="4335" h="2608">
                <a:moveTo>
                  <a:pt x="0" y="0"/>
                </a:moveTo>
                <a:lnTo>
                  <a:pt x="0" y="2607"/>
                </a:lnTo>
                <a:lnTo>
                  <a:pt x="4334" y="2607"/>
                </a:lnTo>
                <a:lnTo>
                  <a:pt x="4334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052640" y="2143080"/>
            <a:ext cx="4827600" cy="3610080"/>
          </a:xfrm>
          <a:custGeom>
            <a:avLst/>
            <a:gdLst/>
            <a:ahLst/>
            <a:rect l="l" t="t" r="r" b="b"/>
            <a:pathLst>
              <a:path w="3296" h="2274">
                <a:moveTo>
                  <a:pt x="3295" y="1136"/>
                </a:moveTo>
                <a:lnTo>
                  <a:pt x="2840" y="0"/>
                </a:lnTo>
                <a:lnTo>
                  <a:pt x="0" y="0"/>
                </a:lnTo>
                <a:lnTo>
                  <a:pt x="0" y="2273"/>
                </a:lnTo>
                <a:lnTo>
                  <a:pt x="2840" y="2273"/>
                </a:lnTo>
                <a:lnTo>
                  <a:pt x="3295" y="113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150920" y="2251080"/>
            <a:ext cx="4829040" cy="3610080"/>
          </a:xfrm>
          <a:custGeom>
            <a:avLst/>
            <a:gdLst/>
            <a:ahLst/>
            <a:rect l="l" t="t" r="r" b="b"/>
            <a:pathLst>
              <a:path w="3296" h="2274">
                <a:moveTo>
                  <a:pt x="3295" y="1137"/>
                </a:moveTo>
                <a:lnTo>
                  <a:pt x="2840" y="0"/>
                </a:lnTo>
                <a:lnTo>
                  <a:pt x="0" y="0"/>
                </a:lnTo>
                <a:lnTo>
                  <a:pt x="0" y="2273"/>
                </a:lnTo>
                <a:lnTo>
                  <a:pt x="2840" y="2273"/>
                </a:lnTo>
                <a:lnTo>
                  <a:pt x="3295" y="1137"/>
                </a:lnTo>
              </a:path>
            </a:pathLst>
          </a:custGeom>
          <a:solidFill>
            <a:srgbClr val="f5fc6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147320" y="2516040"/>
            <a:ext cx="15379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vantGarde"/>
              </a:rPr>
              <a:t>Alcuni esempi 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256040" y="3027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492920" y="3000240"/>
            <a:ext cx="38451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Aumentare il market share del 5% in Ital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256040" y="326880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109160" y="3238560"/>
            <a:ext cx="36666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Svilupparsi come fornitore qualificato d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992160" y="3479760"/>
            <a:ext cx="33087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  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componenti a tecnologia avanz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56040" y="37479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101600" y="3719520"/>
            <a:ext cx="3616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Aumentare la propria presenza presso 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72160" y="3959280"/>
            <a:ext cx="14709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  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clienti chia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256040" y="422748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176480" y="4199040"/>
            <a:ext cx="3092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Ridurre il capitale investito del 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256040" y="4467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153800" y="4438800"/>
            <a:ext cx="32583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Ridurre i costi del prodotto del 1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256040" y="4708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144440" y="4678200"/>
            <a:ext cx="30420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Diventare partner in un proget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147680" y="4919760"/>
            <a:ext cx="15958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  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internazion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93560" y="685440"/>
            <a:ext cx="829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FATTORI CHIAVE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93560" y="1447920"/>
            <a:ext cx="829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5fc62"/>
                </a:solidFill>
                <a:latin typeface="Sans"/>
              </a:rPr>
              <a:t>Sono gli elementi  su cui concentrarsi per conseguire gli obiettivi strategici di riferimento. Sono in numero limitato (max 8). Hanno spesso pesi diver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224000" y="2335320"/>
            <a:ext cx="5284800" cy="38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325520" y="2406600"/>
            <a:ext cx="4819680" cy="3598920"/>
          </a:xfrm>
          <a:custGeom>
            <a:avLst/>
            <a:gdLst/>
            <a:ahLst/>
            <a:rect l="l" t="t" r="r" b="b"/>
            <a:pathLst>
              <a:path w="6074" h="4534">
                <a:moveTo>
                  <a:pt x="6074" y="2267"/>
                </a:moveTo>
                <a:lnTo>
                  <a:pt x="5235" y="0"/>
                </a:lnTo>
                <a:lnTo>
                  <a:pt x="0" y="0"/>
                </a:lnTo>
                <a:lnTo>
                  <a:pt x="0" y="4534"/>
                </a:lnTo>
                <a:lnTo>
                  <a:pt x="5235" y="4534"/>
                </a:lnTo>
                <a:lnTo>
                  <a:pt x="6074" y="226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422360" y="2514600"/>
            <a:ext cx="4821120" cy="3598920"/>
          </a:xfrm>
          <a:custGeom>
            <a:avLst/>
            <a:gdLst/>
            <a:ahLst/>
            <a:rect l="l" t="t" r="r" b="b"/>
            <a:pathLst>
              <a:path w="6074" h="4534">
                <a:moveTo>
                  <a:pt x="6074" y="2267"/>
                </a:moveTo>
                <a:lnTo>
                  <a:pt x="5235" y="0"/>
                </a:lnTo>
                <a:lnTo>
                  <a:pt x="0" y="0"/>
                </a:lnTo>
                <a:lnTo>
                  <a:pt x="0" y="4534"/>
                </a:lnTo>
                <a:lnTo>
                  <a:pt x="5235" y="4534"/>
                </a:lnTo>
                <a:lnTo>
                  <a:pt x="6074" y="2267"/>
                </a:lnTo>
                <a:close/>
              </a:path>
            </a:pathLst>
          </a:custGeom>
          <a:solidFill>
            <a:srgbClr val="f5fc6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775520" y="2697120"/>
            <a:ext cx="13572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vantGarde"/>
              </a:rPr>
              <a:t>Alcuni esempi 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83360" y="3184560"/>
            <a:ext cx="92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47600" y="3130560"/>
            <a:ext cx="15199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Qualità prodot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683360" y="3397320"/>
            <a:ext cx="92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84680" y="3343320"/>
            <a:ext cx="16693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Costo del prodot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683360" y="3608280"/>
            <a:ext cx="92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04840" y="3556080"/>
            <a:ext cx="18691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Affidabilità conseg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683360" y="3821040"/>
            <a:ext cx="92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839240" y="3768840"/>
            <a:ext cx="7459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Serviz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683360" y="4033800"/>
            <a:ext cx="92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911240" y="3979800"/>
            <a:ext cx="13813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AvantGarde"/>
              </a:rPr>
              <a:t>  </a:t>
            </a:r>
            <a:r>
              <a:rPr b="0" i="1" lang="it-IT" sz="1500" spc="-1" strike="noStrike">
                <a:solidFill>
                  <a:srgbClr val="000000"/>
                </a:solidFill>
                <a:latin typeface="AvantGarde"/>
              </a:rPr>
              <a:t>Time to mark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683360" y="4245120"/>
            <a:ext cx="92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5400" y="4192560"/>
            <a:ext cx="19252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Innovazione prodot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683360" y="4459320"/>
            <a:ext cx="92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880280" y="4405320"/>
            <a:ext cx="966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Immag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83360" y="4672080"/>
            <a:ext cx="92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138040" y="4616280"/>
            <a:ext cx="30758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Reattività alle esigenze del merca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683360" y="4883040"/>
            <a:ext cx="92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935720" y="4829040"/>
            <a:ext cx="19130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Flessibilità produtti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683360" y="5095800"/>
            <a:ext cx="92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071800" y="5041800"/>
            <a:ext cx="21585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Conoscenza del merca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83360" y="5308560"/>
            <a:ext cx="92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205720" y="5253120"/>
            <a:ext cx="3294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Completezza del processo tecnolog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683360" y="5519880"/>
            <a:ext cx="92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892160" y="5465880"/>
            <a:ext cx="9133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  </a:t>
            </a:r>
            <a:r>
              <a:rPr b="0" i="1" lang="en-US" sz="1500" spc="-1" strike="noStrike">
                <a:solidFill>
                  <a:srgbClr val="000000"/>
                </a:solidFill>
                <a:latin typeface="AvantGarde"/>
              </a:rPr>
              <a:t>Creativit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683360" y="5732640"/>
            <a:ext cx="92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088360" y="5678640"/>
            <a:ext cx="30103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000000"/>
                </a:solidFill>
                <a:latin typeface="AvantGarde"/>
              </a:rPr>
              <a:t>  </a:t>
            </a:r>
            <a:r>
              <a:rPr b="0" i="1" lang="it-IT" sz="1500" spc="-1" strike="noStrike">
                <a:solidFill>
                  <a:srgbClr val="000000"/>
                </a:solidFill>
                <a:latin typeface="AvantGarde"/>
              </a:rPr>
              <a:t>Proattività nei confronti del cli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PROCESSI AZIENDALI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3040" y="1771560"/>
            <a:ext cx="8224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CESSO: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lnSpc>
                <a:spcPts val="4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un insieme di attività che trasformano input in output che hanno  valore per il cliente”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4760" y="4811760"/>
            <a:ext cx="1325520" cy="863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NI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43720" y="4811760"/>
            <a:ext cx="1325520" cy="863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629720" y="4546440"/>
            <a:ext cx="1044000" cy="697320"/>
            <a:chOff x="1629720" y="4546440"/>
            <a:chExt cx="1044000" cy="697320"/>
          </a:xfrm>
        </p:grpSpPr>
        <p:sp>
          <p:nvSpPr>
            <p:cNvPr id="107" name=""/>
            <p:cNvSpPr/>
            <p:nvPr/>
          </p:nvSpPr>
          <p:spPr>
            <a:xfrm>
              <a:off x="1629720" y="4546440"/>
              <a:ext cx="742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" name=""/>
            <p:cNvCxnSpPr>
              <a:stCxn id="104" idx="6"/>
              <a:endCxn id="109" idx="1"/>
            </p:cNvCxnSpPr>
            <p:nvPr/>
          </p:nvCxnSpPr>
          <p:spPr>
            <a:xfrm>
              <a:off x="1698480" y="5243040"/>
              <a:ext cx="975600" cy="1080"/>
            </a:xfrm>
            <a:prstGeom prst="straightConnector1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0" name=""/>
          <p:cNvGrpSpPr/>
          <p:nvPr/>
        </p:nvGrpSpPr>
        <p:grpSpPr>
          <a:xfrm>
            <a:off x="2673360" y="4546440"/>
            <a:ext cx="3986280" cy="1353960"/>
            <a:chOff x="2673360" y="4546440"/>
            <a:chExt cx="3986280" cy="1353960"/>
          </a:xfrm>
        </p:grpSpPr>
        <p:sp>
          <p:nvSpPr>
            <p:cNvPr id="111" name=""/>
            <p:cNvSpPr/>
            <p:nvPr/>
          </p:nvSpPr>
          <p:spPr>
            <a:xfrm>
              <a:off x="2673360" y="4546440"/>
              <a:ext cx="3986280" cy="1353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73360" y="4935240"/>
              <a:ext cx="804240" cy="6159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63480" y="4935240"/>
              <a:ext cx="804240" cy="6159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55040" y="4935240"/>
              <a:ext cx="804240" cy="6159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" name=""/>
            <p:cNvCxnSpPr>
              <a:stCxn id="109" idx="3"/>
              <a:endCxn id="112" idx="1"/>
            </p:cNvCxnSpPr>
            <p:nvPr/>
          </p:nvCxnSpPr>
          <p:spPr>
            <a:xfrm>
              <a:off x="3477600" y="5243040"/>
              <a:ext cx="786240" cy="1080"/>
            </a:xfrm>
            <a:prstGeom prst="straightConnector1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12" idx="3"/>
              <a:endCxn id="113" idx="1"/>
            </p:cNvCxnSpPr>
            <p:nvPr/>
          </p:nvCxnSpPr>
          <p:spPr>
            <a:xfrm>
              <a:off x="5067720" y="5243040"/>
              <a:ext cx="787320" cy="1080"/>
            </a:xfrm>
            <a:prstGeom prst="straightConnector1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6" name=""/>
          <p:cNvGrpSpPr/>
          <p:nvPr/>
        </p:nvGrpSpPr>
        <p:grpSpPr>
          <a:xfrm>
            <a:off x="6659640" y="4546440"/>
            <a:ext cx="1048680" cy="697320"/>
            <a:chOff x="6659640" y="4546440"/>
            <a:chExt cx="1048680" cy="697320"/>
          </a:xfrm>
        </p:grpSpPr>
        <p:sp>
          <p:nvSpPr>
            <p:cNvPr id="117" name=""/>
            <p:cNvSpPr/>
            <p:nvPr/>
          </p:nvSpPr>
          <p:spPr>
            <a:xfrm>
              <a:off x="6775560" y="4546440"/>
              <a:ext cx="932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3" idx="3"/>
              <a:endCxn id="105" idx="2"/>
            </p:cNvCxnSpPr>
            <p:nvPr/>
          </p:nvCxnSpPr>
          <p:spPr>
            <a:xfrm>
              <a:off x="6659640" y="5243040"/>
              <a:ext cx="784800" cy="1080"/>
            </a:xfrm>
            <a:prstGeom prst="straightConnector1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829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MAPPATURA DEI PROCESSI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93560" y="1295280"/>
            <a:ext cx="829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5fc62"/>
                </a:solidFill>
                <a:latin typeface="Sans"/>
              </a:rPr>
              <a:t>Tutte le attività necessarie a realizzare il business vengono descritte in termini di pro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338120" y="2297160"/>
            <a:ext cx="5054760" cy="39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03280" y="2405160"/>
            <a:ext cx="4821480" cy="3598920"/>
          </a:xfrm>
          <a:custGeom>
            <a:avLst/>
            <a:gdLst/>
            <a:ahLst/>
            <a:rect l="l" t="t" r="r" b="b"/>
            <a:pathLst>
              <a:path w="6073" h="4534">
                <a:moveTo>
                  <a:pt x="6073" y="2267"/>
                </a:moveTo>
                <a:lnTo>
                  <a:pt x="5237" y="0"/>
                </a:lnTo>
                <a:lnTo>
                  <a:pt x="0" y="0"/>
                </a:lnTo>
                <a:lnTo>
                  <a:pt x="0" y="4534"/>
                </a:lnTo>
                <a:lnTo>
                  <a:pt x="5237" y="4534"/>
                </a:lnTo>
                <a:lnTo>
                  <a:pt x="6073" y="226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503360" y="2513160"/>
            <a:ext cx="4821120" cy="3598560"/>
          </a:xfrm>
          <a:custGeom>
            <a:avLst/>
            <a:gdLst/>
            <a:ahLst/>
            <a:rect l="l" t="t" r="r" b="b"/>
            <a:pathLst>
              <a:path w="6073" h="4534">
                <a:moveTo>
                  <a:pt x="6073" y="2267"/>
                </a:moveTo>
                <a:lnTo>
                  <a:pt x="5236" y="0"/>
                </a:lnTo>
                <a:lnTo>
                  <a:pt x="0" y="0"/>
                </a:lnTo>
                <a:lnTo>
                  <a:pt x="0" y="4534"/>
                </a:lnTo>
                <a:lnTo>
                  <a:pt x="5236" y="4534"/>
                </a:lnTo>
                <a:lnTo>
                  <a:pt x="6073" y="2267"/>
                </a:lnTo>
                <a:close/>
              </a:path>
            </a:pathLst>
          </a:custGeom>
          <a:solidFill>
            <a:srgbClr val="f5fc6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868040" y="2692440"/>
            <a:ext cx="17564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vantGarde"/>
              </a:rPr>
              <a:t>Esempi di processi 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563640" y="3162240"/>
            <a:ext cx="1418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Valutare i fornitor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560760" y="3511440"/>
            <a:ext cx="16617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Selezionare i fornitor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582360" y="3860640"/>
            <a:ext cx="1514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Ordinare i material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935000" y="3421080"/>
            <a:ext cx="854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ACQUISI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912320" y="3597120"/>
            <a:ext cx="9439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I MATERIAL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67200" y="3260880"/>
            <a:ext cx="331560" cy="684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2734920" y="3602160"/>
            <a:ext cx="66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067200" y="4449600"/>
            <a:ext cx="331560" cy="137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2734920" y="5149800"/>
            <a:ext cx="66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3066840" y="4791240"/>
            <a:ext cx="331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3066840" y="5475240"/>
            <a:ext cx="331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611520" y="4349880"/>
            <a:ext cx="20412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Individuare caratteristich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600360" y="4699080"/>
            <a:ext cx="1430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Definire specifich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638520" y="5048280"/>
            <a:ext cx="21999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vantGarde"/>
              </a:rPr>
              <a:t>Standardiz. componentist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612600" y="5396040"/>
            <a:ext cx="18997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Fornire documentazi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47080" y="5745240"/>
            <a:ext cx="578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Test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923480" y="4865760"/>
            <a:ext cx="950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SVILUPP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926000" y="5040360"/>
            <a:ext cx="5724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NUOVI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916640" y="5214960"/>
            <a:ext cx="817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vantGarde"/>
              </a:rPr>
              <a:t>PRODOTT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423720" y="990720"/>
            <a:ext cx="829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6ffff"/>
                </a:solidFill>
                <a:latin typeface="Sans"/>
              </a:rPr>
              <a:t>VALUTAZIONE DEI PROCESSI: MATRICE DI CORRELAZIO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694480" y="2357280"/>
            <a:ext cx="289080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1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fc62"/>
                </a:solidFill>
                <a:latin typeface="Sans"/>
              </a:rPr>
              <a:t>IMPATTO SUL BUSINESS 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5fc62"/>
                </a:solidFill>
                <a:latin typeface="Sans"/>
              </a:rPr>
              <a:t>Esprime quantitativamente il contributo di ciascun processo sull’insieme dei fattori chiave. Si calcola moltiplicando l’impatto dal processo sul FC per il peso del FC, e sommando tutti gli impat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694480" y="4110120"/>
            <a:ext cx="28908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1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fc62"/>
                </a:solidFill>
                <a:latin typeface="Sans"/>
              </a:rPr>
              <a:t>QUALITA’ (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5fc62"/>
                </a:solidFill>
                <a:latin typeface="Sans"/>
              </a:rPr>
              <a:t>Giudizio di sintesi sulle prestazioni del processo in termini di efficacia ed efficienza. Esprime il “Potenziale di migliorament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635040" y="2496960"/>
            <a:ext cx="4605840" cy="2605320"/>
            <a:chOff x="635040" y="2496960"/>
            <a:chExt cx="4605840" cy="2605320"/>
          </a:xfrm>
        </p:grpSpPr>
        <p:sp>
          <p:nvSpPr>
            <p:cNvPr id="938" name=""/>
            <p:cNvSpPr/>
            <p:nvPr/>
          </p:nvSpPr>
          <p:spPr>
            <a:xfrm>
              <a:off x="2120760" y="3814920"/>
              <a:ext cx="915840" cy="286920"/>
            </a:xfrm>
            <a:prstGeom prst="rect">
              <a:avLst/>
            </a:prstGeom>
            <a:solidFill>
              <a:srgbClr val="f5f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vantGarde"/>
                </a:rPr>
                <a:t>MATRI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366640" y="4065480"/>
              <a:ext cx="367200" cy="286920"/>
            </a:xfrm>
            <a:prstGeom prst="rect">
              <a:avLst/>
            </a:prstGeom>
            <a:solidFill>
              <a:srgbClr val="f5f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vantGarde"/>
                </a:rPr>
                <a:t>D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83520" y="4316400"/>
              <a:ext cx="1449360" cy="286920"/>
            </a:xfrm>
            <a:prstGeom prst="rect">
              <a:avLst/>
            </a:prstGeom>
            <a:solidFill>
              <a:srgbClr val="f5f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vantGarde"/>
                </a:rPr>
                <a:t>CORRELAZIO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972800" y="2930400"/>
              <a:ext cx="1251360" cy="286920"/>
            </a:xfrm>
            <a:prstGeom prst="rect">
              <a:avLst/>
            </a:prstGeom>
            <a:solidFill>
              <a:srgbClr val="f5f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vantGarde"/>
                </a:rPr>
                <a:t>PESO DEI F.C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848240" y="2530440"/>
              <a:ext cx="1531800" cy="286920"/>
            </a:xfrm>
            <a:prstGeom prst="rect">
              <a:avLst/>
            </a:prstGeom>
            <a:solidFill>
              <a:srgbClr val="f5f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vantGarde"/>
                </a:rPr>
                <a:t>FATTORI CHI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00280" y="2894040"/>
              <a:ext cx="1670400" cy="331920"/>
            </a:xfrm>
            <a:custGeom>
              <a:avLst/>
              <a:gdLst/>
              <a:ahLst/>
              <a:rect l="l" t="t" r="r" b="b"/>
              <a:pathLst>
                <a:path w="1140" h="209">
                  <a:moveTo>
                    <a:pt x="5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205"/>
                  </a:lnTo>
                  <a:lnTo>
                    <a:pt x="2" y="207"/>
                  </a:lnTo>
                  <a:lnTo>
                    <a:pt x="3" y="207"/>
                  </a:lnTo>
                  <a:lnTo>
                    <a:pt x="5" y="208"/>
                  </a:lnTo>
                  <a:lnTo>
                    <a:pt x="1135" y="208"/>
                  </a:lnTo>
                  <a:lnTo>
                    <a:pt x="1136" y="207"/>
                  </a:lnTo>
                  <a:lnTo>
                    <a:pt x="1137" y="207"/>
                  </a:lnTo>
                  <a:lnTo>
                    <a:pt x="1138" y="205"/>
                  </a:lnTo>
                  <a:lnTo>
                    <a:pt x="1138" y="204"/>
                  </a:lnTo>
                  <a:lnTo>
                    <a:pt x="1139" y="203"/>
                  </a:lnTo>
                  <a:lnTo>
                    <a:pt x="1139" y="4"/>
                  </a:lnTo>
                  <a:lnTo>
                    <a:pt x="1138" y="2"/>
                  </a:lnTo>
                  <a:lnTo>
                    <a:pt x="1138" y="1"/>
                  </a:lnTo>
                  <a:lnTo>
                    <a:pt x="1137" y="0"/>
                  </a:lnTo>
                  <a:lnTo>
                    <a:pt x="1135" y="0"/>
                  </a:lnTo>
                  <a:lnTo>
                    <a:pt x="5" y="0"/>
                  </a:lnTo>
                  <a:lnTo>
                    <a:pt x="5" y="9"/>
                  </a:lnTo>
                  <a:lnTo>
                    <a:pt x="1135" y="9"/>
                  </a:lnTo>
                  <a:lnTo>
                    <a:pt x="1130" y="4"/>
                  </a:lnTo>
                  <a:lnTo>
                    <a:pt x="1130" y="203"/>
                  </a:lnTo>
                  <a:lnTo>
                    <a:pt x="1135" y="198"/>
                  </a:lnTo>
                  <a:lnTo>
                    <a:pt x="5" y="198"/>
                  </a:lnTo>
                  <a:lnTo>
                    <a:pt x="10" y="203"/>
                  </a:lnTo>
                  <a:lnTo>
                    <a:pt x="10" y="4"/>
                  </a:lnTo>
                  <a:lnTo>
                    <a:pt x="5" y="9"/>
                  </a:lnTo>
                  <a:lnTo>
                    <a:pt x="5" y="0"/>
                  </a:lnTo>
                </a:path>
              </a:pathLst>
            </a:custGeom>
            <a:solidFill>
              <a:srgbClr val="f5f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700280" y="3290760"/>
              <a:ext cx="1670400" cy="1811520"/>
            </a:xfrm>
            <a:custGeom>
              <a:avLst/>
              <a:gdLst/>
              <a:ahLst/>
              <a:rect l="l" t="t" r="r" b="b"/>
              <a:pathLst>
                <a:path w="1140" h="1141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1137"/>
                  </a:lnTo>
                  <a:lnTo>
                    <a:pt x="2" y="1139"/>
                  </a:lnTo>
                  <a:lnTo>
                    <a:pt x="3" y="1139"/>
                  </a:lnTo>
                  <a:lnTo>
                    <a:pt x="5" y="1140"/>
                  </a:lnTo>
                  <a:lnTo>
                    <a:pt x="1135" y="1140"/>
                  </a:lnTo>
                  <a:lnTo>
                    <a:pt x="1136" y="1139"/>
                  </a:lnTo>
                  <a:lnTo>
                    <a:pt x="1137" y="1139"/>
                  </a:lnTo>
                  <a:lnTo>
                    <a:pt x="1138" y="1137"/>
                  </a:lnTo>
                  <a:lnTo>
                    <a:pt x="1138" y="1136"/>
                  </a:lnTo>
                  <a:lnTo>
                    <a:pt x="1139" y="1135"/>
                  </a:lnTo>
                  <a:lnTo>
                    <a:pt x="1139" y="5"/>
                  </a:lnTo>
                  <a:lnTo>
                    <a:pt x="1138" y="3"/>
                  </a:lnTo>
                  <a:lnTo>
                    <a:pt x="1138" y="2"/>
                  </a:lnTo>
                  <a:lnTo>
                    <a:pt x="1137" y="0"/>
                  </a:lnTo>
                  <a:lnTo>
                    <a:pt x="1135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1135" y="10"/>
                  </a:lnTo>
                  <a:lnTo>
                    <a:pt x="1130" y="5"/>
                  </a:lnTo>
                  <a:lnTo>
                    <a:pt x="1130" y="1135"/>
                  </a:lnTo>
                  <a:lnTo>
                    <a:pt x="1135" y="1131"/>
                  </a:lnTo>
                  <a:lnTo>
                    <a:pt x="5" y="1131"/>
                  </a:lnTo>
                  <a:lnTo>
                    <a:pt x="10" y="1135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5" y="0"/>
                  </a:lnTo>
                </a:path>
              </a:pathLst>
            </a:custGeom>
            <a:solidFill>
              <a:srgbClr val="f5f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35040" y="3290760"/>
              <a:ext cx="1005120" cy="1811520"/>
            </a:xfrm>
            <a:custGeom>
              <a:avLst/>
              <a:gdLst/>
              <a:ahLst/>
              <a:rect l="l" t="t" r="r" b="b"/>
              <a:pathLst>
                <a:path w="686" h="1141">
                  <a:moveTo>
                    <a:pt x="683" y="8"/>
                  </a:moveTo>
                  <a:lnTo>
                    <a:pt x="675" y="5"/>
                  </a:lnTo>
                  <a:lnTo>
                    <a:pt x="675" y="1135"/>
                  </a:lnTo>
                  <a:lnTo>
                    <a:pt x="683" y="1132"/>
                  </a:lnTo>
                  <a:lnTo>
                    <a:pt x="8" y="566"/>
                  </a:lnTo>
                  <a:lnTo>
                    <a:pt x="8" y="573"/>
                  </a:lnTo>
                  <a:lnTo>
                    <a:pt x="683" y="8"/>
                  </a:lnTo>
                  <a:lnTo>
                    <a:pt x="676" y="1"/>
                  </a:lnTo>
                  <a:lnTo>
                    <a:pt x="1" y="566"/>
                  </a:lnTo>
                  <a:lnTo>
                    <a:pt x="0" y="568"/>
                  </a:lnTo>
                  <a:lnTo>
                    <a:pt x="0" y="571"/>
                  </a:lnTo>
                  <a:lnTo>
                    <a:pt x="1" y="573"/>
                  </a:lnTo>
                  <a:lnTo>
                    <a:pt x="676" y="1138"/>
                  </a:lnTo>
                  <a:lnTo>
                    <a:pt x="677" y="1139"/>
                  </a:lnTo>
                  <a:lnTo>
                    <a:pt x="678" y="1139"/>
                  </a:lnTo>
                  <a:lnTo>
                    <a:pt x="680" y="1140"/>
                  </a:lnTo>
                  <a:lnTo>
                    <a:pt x="681" y="1139"/>
                  </a:lnTo>
                  <a:lnTo>
                    <a:pt x="682" y="1139"/>
                  </a:lnTo>
                  <a:lnTo>
                    <a:pt x="684" y="1137"/>
                  </a:lnTo>
                  <a:lnTo>
                    <a:pt x="684" y="1136"/>
                  </a:lnTo>
                  <a:lnTo>
                    <a:pt x="685" y="1135"/>
                  </a:lnTo>
                  <a:lnTo>
                    <a:pt x="685" y="4"/>
                  </a:lnTo>
                  <a:lnTo>
                    <a:pt x="684" y="3"/>
                  </a:lnTo>
                  <a:lnTo>
                    <a:pt x="683" y="1"/>
                  </a:lnTo>
                  <a:lnTo>
                    <a:pt x="681" y="0"/>
                  </a:lnTo>
                  <a:lnTo>
                    <a:pt x="678" y="0"/>
                  </a:lnTo>
                  <a:lnTo>
                    <a:pt x="676" y="1"/>
                  </a:lnTo>
                  <a:lnTo>
                    <a:pt x="683" y="8"/>
                  </a:lnTo>
                </a:path>
              </a:pathLst>
            </a:custGeom>
            <a:solidFill>
              <a:srgbClr val="f5f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65000" y="4064040"/>
              <a:ext cx="967680" cy="286920"/>
            </a:xfrm>
            <a:prstGeom prst="rect">
              <a:avLst/>
            </a:prstGeom>
            <a:solidFill>
              <a:srgbClr val="f5f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vantGarde"/>
                </a:rPr>
                <a:t>PROCESS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00280" y="2496960"/>
              <a:ext cx="1670400" cy="331920"/>
            </a:xfrm>
            <a:custGeom>
              <a:avLst/>
              <a:gdLst/>
              <a:ahLst/>
              <a:rect l="l" t="t" r="r" b="b"/>
              <a:pathLst>
                <a:path w="1140" h="209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05"/>
                  </a:lnTo>
                  <a:lnTo>
                    <a:pt x="2" y="207"/>
                  </a:lnTo>
                  <a:lnTo>
                    <a:pt x="3" y="207"/>
                  </a:lnTo>
                  <a:lnTo>
                    <a:pt x="5" y="208"/>
                  </a:lnTo>
                  <a:lnTo>
                    <a:pt x="1135" y="208"/>
                  </a:lnTo>
                  <a:lnTo>
                    <a:pt x="1136" y="207"/>
                  </a:lnTo>
                  <a:lnTo>
                    <a:pt x="1137" y="207"/>
                  </a:lnTo>
                  <a:lnTo>
                    <a:pt x="1138" y="205"/>
                  </a:lnTo>
                  <a:lnTo>
                    <a:pt x="1138" y="204"/>
                  </a:lnTo>
                  <a:lnTo>
                    <a:pt x="1139" y="203"/>
                  </a:lnTo>
                  <a:lnTo>
                    <a:pt x="1139" y="5"/>
                  </a:lnTo>
                  <a:lnTo>
                    <a:pt x="1138" y="3"/>
                  </a:lnTo>
                  <a:lnTo>
                    <a:pt x="1138" y="2"/>
                  </a:lnTo>
                  <a:lnTo>
                    <a:pt x="1137" y="0"/>
                  </a:lnTo>
                  <a:lnTo>
                    <a:pt x="1135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1135" y="10"/>
                  </a:lnTo>
                  <a:lnTo>
                    <a:pt x="1130" y="5"/>
                  </a:lnTo>
                  <a:lnTo>
                    <a:pt x="1130" y="203"/>
                  </a:lnTo>
                  <a:lnTo>
                    <a:pt x="1135" y="198"/>
                  </a:lnTo>
                  <a:lnTo>
                    <a:pt x="5" y="198"/>
                  </a:lnTo>
                  <a:lnTo>
                    <a:pt x="10" y="20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5" y="0"/>
                  </a:lnTo>
                </a:path>
              </a:pathLst>
            </a:custGeom>
            <a:solidFill>
              <a:srgbClr val="f5f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379680" y="4064040"/>
              <a:ext cx="981720" cy="682920"/>
            </a:xfrm>
            <a:prstGeom prst="rect">
              <a:avLst/>
            </a:prstGeom>
            <a:solidFill>
              <a:srgbClr val="f5f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vantGarde"/>
                </a:rPr>
                <a:t>IMPATT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vantGarde"/>
                </a:rPr>
                <a:t>SU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vantGarde"/>
                </a:rPr>
                <a:t>BUSINE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432600" y="3290760"/>
              <a:ext cx="830520" cy="1811520"/>
            </a:xfrm>
            <a:custGeom>
              <a:avLst/>
              <a:gdLst/>
              <a:ahLst/>
              <a:rect l="l" t="t" r="r" b="b"/>
              <a:pathLst>
                <a:path w="567" h="1141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1137"/>
                  </a:lnTo>
                  <a:lnTo>
                    <a:pt x="2" y="1139"/>
                  </a:lnTo>
                  <a:lnTo>
                    <a:pt x="3" y="1139"/>
                  </a:lnTo>
                  <a:lnTo>
                    <a:pt x="5" y="1140"/>
                  </a:lnTo>
                  <a:lnTo>
                    <a:pt x="561" y="1140"/>
                  </a:lnTo>
                  <a:lnTo>
                    <a:pt x="562" y="1139"/>
                  </a:lnTo>
                  <a:lnTo>
                    <a:pt x="563" y="1139"/>
                  </a:lnTo>
                  <a:lnTo>
                    <a:pt x="565" y="1137"/>
                  </a:lnTo>
                  <a:lnTo>
                    <a:pt x="565" y="1136"/>
                  </a:lnTo>
                  <a:lnTo>
                    <a:pt x="566" y="1135"/>
                  </a:lnTo>
                  <a:lnTo>
                    <a:pt x="566" y="5"/>
                  </a:lnTo>
                  <a:lnTo>
                    <a:pt x="565" y="3"/>
                  </a:lnTo>
                  <a:lnTo>
                    <a:pt x="565" y="2"/>
                  </a:lnTo>
                  <a:lnTo>
                    <a:pt x="563" y="0"/>
                  </a:lnTo>
                  <a:lnTo>
                    <a:pt x="561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561" y="10"/>
                  </a:lnTo>
                  <a:lnTo>
                    <a:pt x="556" y="5"/>
                  </a:lnTo>
                  <a:lnTo>
                    <a:pt x="556" y="1135"/>
                  </a:lnTo>
                  <a:lnTo>
                    <a:pt x="561" y="1131"/>
                  </a:lnTo>
                  <a:lnTo>
                    <a:pt x="5" y="1131"/>
                  </a:lnTo>
                  <a:lnTo>
                    <a:pt x="10" y="1135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5" y="0"/>
                  </a:lnTo>
                </a:path>
              </a:pathLst>
            </a:custGeom>
            <a:solidFill>
              <a:srgbClr val="f5f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709080" y="2930400"/>
              <a:ext cx="292680" cy="286920"/>
            </a:xfrm>
            <a:prstGeom prst="rect">
              <a:avLst/>
            </a:prstGeom>
            <a:solidFill>
              <a:srgbClr val="f5f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vantGarde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277520" y="4064040"/>
              <a:ext cx="963360" cy="286920"/>
            </a:xfrm>
            <a:prstGeom prst="rect">
              <a:avLst/>
            </a:prstGeom>
            <a:solidFill>
              <a:srgbClr val="f5f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vantGarde"/>
                </a:rPr>
                <a:t>QUALITA'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296600" y="3290760"/>
              <a:ext cx="830880" cy="1811520"/>
            </a:xfrm>
            <a:custGeom>
              <a:avLst/>
              <a:gdLst/>
              <a:ahLst/>
              <a:rect l="l" t="t" r="r" b="b"/>
              <a:pathLst>
                <a:path w="567" h="1141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1137"/>
                  </a:lnTo>
                  <a:lnTo>
                    <a:pt x="2" y="1139"/>
                  </a:lnTo>
                  <a:lnTo>
                    <a:pt x="3" y="1139"/>
                  </a:lnTo>
                  <a:lnTo>
                    <a:pt x="5" y="1140"/>
                  </a:lnTo>
                  <a:lnTo>
                    <a:pt x="561" y="1140"/>
                  </a:lnTo>
                  <a:lnTo>
                    <a:pt x="562" y="1139"/>
                  </a:lnTo>
                  <a:lnTo>
                    <a:pt x="563" y="1139"/>
                  </a:lnTo>
                  <a:lnTo>
                    <a:pt x="565" y="1137"/>
                  </a:lnTo>
                  <a:lnTo>
                    <a:pt x="565" y="1136"/>
                  </a:lnTo>
                  <a:lnTo>
                    <a:pt x="566" y="1135"/>
                  </a:lnTo>
                  <a:lnTo>
                    <a:pt x="566" y="5"/>
                  </a:lnTo>
                  <a:lnTo>
                    <a:pt x="565" y="3"/>
                  </a:lnTo>
                  <a:lnTo>
                    <a:pt x="565" y="2"/>
                  </a:lnTo>
                  <a:lnTo>
                    <a:pt x="563" y="0"/>
                  </a:lnTo>
                  <a:lnTo>
                    <a:pt x="561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561" y="10"/>
                  </a:lnTo>
                  <a:lnTo>
                    <a:pt x="557" y="5"/>
                  </a:lnTo>
                  <a:lnTo>
                    <a:pt x="557" y="1135"/>
                  </a:lnTo>
                  <a:lnTo>
                    <a:pt x="561" y="1131"/>
                  </a:lnTo>
                  <a:lnTo>
                    <a:pt x="5" y="1131"/>
                  </a:lnTo>
                  <a:lnTo>
                    <a:pt x="10" y="1135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5" y="0"/>
                  </a:lnTo>
                </a:path>
              </a:pathLst>
            </a:custGeom>
            <a:solidFill>
              <a:srgbClr val="f5f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568040" y="2930400"/>
              <a:ext cx="312480" cy="286920"/>
            </a:xfrm>
            <a:prstGeom prst="rect">
              <a:avLst/>
            </a:prstGeom>
            <a:solidFill>
              <a:srgbClr val="f5f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vantGarde"/>
                </a:rPr>
                <a:t>Q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54120" y="2444760"/>
            <a:ext cx="5543640" cy="1549440"/>
          </a:xfrm>
          <a:prstGeom prst="rect">
            <a:avLst/>
          </a:prstGeom>
          <a:solidFill>
            <a:srgbClr val="f5fc62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09960" y="2666880"/>
            <a:ext cx="450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News Serif"/>
              </a:rPr>
              <a:t>2. SCELTA DELL’APPROCCIO PER IL MIGLIO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1554120" y="2444760"/>
            <a:ext cx="5264280" cy="1434960"/>
          </a:xfrm>
          <a:prstGeom prst="rect">
            <a:avLst/>
          </a:prstGeom>
          <a:solidFill>
            <a:srgbClr val="f5fc62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673360" y="2819520"/>
            <a:ext cx="316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News Serif"/>
              </a:rPr>
              <a:t>RIPROGET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93560" y="837720"/>
            <a:ext cx="829944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HECK LIST PER MIGLIORAMENTO PROCESSI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93200" y="16765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ts val="1698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it-IT" sz="2000" spc="-1" strike="noStrike">
                <a:solidFill>
                  <a:srgbClr val="fafd00"/>
                </a:solidFill>
                <a:latin typeface="Times New Roman"/>
              </a:rPr>
              <a:t>Punto di partenza: DIAGRAMMA DI FLUSSO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lnSpc>
                <a:spcPts val="1698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lnSpc>
                <a:spcPts val="1698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1.</a:t>
            </a: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ANALISI  VALORE AGGIUNTO DI OGNI ATTIVITA’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942840" indent="-565920">
              <a:lnSpc>
                <a:spcPts val="1698"/>
              </a:lnSpc>
              <a:spcBef>
                <a:spcPts val="499"/>
              </a:spcBef>
              <a:buClr>
                <a:srgbClr val="fafd00"/>
              </a:buClr>
              <a:buSzPct val="60000"/>
              <a:buFont typeface="Times New Roman"/>
              <a:buChar char="•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Serve al cliente finale (V.A. esterno) ?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942840" indent="-565920">
              <a:lnSpc>
                <a:spcPts val="1698"/>
              </a:lnSpc>
              <a:spcBef>
                <a:spcPts val="499"/>
              </a:spcBef>
              <a:buClr>
                <a:srgbClr val="fafd00"/>
              </a:buClr>
              <a:buSzPct val="60000"/>
              <a:buFont typeface="Times New Roman"/>
              <a:buChar char="•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Serve ad un cliente interno (V.A. per clienti interni) ? 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942840" indent="0">
              <a:lnSpc>
                <a:spcPts val="1698"/>
              </a:lnSpc>
              <a:spcBef>
                <a:spcPts val="499"/>
              </a:spcBef>
              <a:buNone/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(Cosa accadrebbe se non la facessimo ?)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942840" indent="-565920">
              <a:lnSpc>
                <a:spcPts val="1698"/>
              </a:lnSpc>
              <a:spcBef>
                <a:spcPts val="499"/>
              </a:spcBef>
              <a:buClr>
                <a:srgbClr val="fafd00"/>
              </a:buClr>
              <a:buSzPct val="60000"/>
              <a:buFont typeface="Times New Roman"/>
              <a:buChar char="•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Non serve né al cliente finale né interno (senza V.A.)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942840" indent="0">
              <a:lnSpc>
                <a:spcPts val="1698"/>
              </a:lnSpc>
              <a:spcBef>
                <a:spcPts val="499"/>
              </a:spcBef>
              <a:buNone/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(se disponibili dati dettagliati fare Analisi Pareto per costo di attività)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lnSpc>
                <a:spcPts val="1698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2.</a:t>
            </a: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ANALISI CRITICA DEI RITORNI DI FLUSSO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942840" indent="-565920">
              <a:lnSpc>
                <a:spcPts val="1698"/>
              </a:lnSpc>
              <a:spcBef>
                <a:spcPts val="499"/>
              </a:spcBef>
              <a:buClr>
                <a:srgbClr val="fafd00"/>
              </a:buClr>
              <a:buSzPct val="60000"/>
              <a:buFont typeface="Times New Roman"/>
              <a:buChar char="•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Perché esistono ?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942840" indent="-565920">
              <a:lnSpc>
                <a:spcPts val="1698"/>
              </a:lnSpc>
              <a:spcBef>
                <a:spcPts val="499"/>
              </a:spcBef>
              <a:buClr>
                <a:srgbClr val="fafd00"/>
              </a:buClr>
              <a:buSzPct val="60000"/>
              <a:buFont typeface="Times New Roman"/>
              <a:buChar char="•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Un livello maggiore di precisione è sufficiente ad eliminarli ?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942840" indent="0">
              <a:lnSpc>
                <a:spcPts val="1698"/>
              </a:lnSpc>
              <a:spcBef>
                <a:spcPts val="499"/>
              </a:spcBef>
              <a:buNone/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3.</a:t>
            </a: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   ACCORPAMENTO ATTIVITA’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lnSpc>
                <a:spcPts val="1698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4.</a:t>
            </a: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METODO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942840" indent="-565920">
              <a:lnSpc>
                <a:spcPts val="1698"/>
              </a:lnSpc>
              <a:spcBef>
                <a:spcPts val="499"/>
              </a:spcBef>
              <a:buClr>
                <a:srgbClr val="fafd00"/>
              </a:buClr>
              <a:buSzPct val="60000"/>
              <a:buFont typeface="Times New Roman"/>
              <a:buChar char="•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it-IT" sz="2000" spc="-1" strike="noStrike">
                <a:solidFill>
                  <a:srgbClr val="fafd00"/>
                </a:solidFill>
                <a:latin typeface="Times New Roman"/>
              </a:rPr>
              <a:t>Come viene svolta l’attività (procedure operative, modulistica, layout, professionalità organizzative, office automation, informatizzazione)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93560" y="837720"/>
            <a:ext cx="829944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CHECK LIST PER MIGLIORAMENTO PROCESSI</a:t>
            </a:r>
            <a:endParaRPr b="1" lang="en-US" sz="2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93200" y="1828440"/>
            <a:ext cx="82249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1698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unto di partenza: DIAGRAMMA DI FLUSSO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lnSpc>
                <a:spcPts val="1698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lnSpc>
                <a:spcPts val="1698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5.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CORRETTA ALLOCAZIONE ATTIVITA’/FUNZIONE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       (verticale o orizzontale)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lnSpc>
                <a:spcPts val="1698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6.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CESSIONE ATTIVITA’ ALL’ESTERNO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952560" indent="-285840">
              <a:spcBef>
                <a:spcPts val="499"/>
              </a:spcBef>
              <a:buClr>
                <a:srgbClr val="fafd00"/>
              </a:buClr>
              <a:buSzPct val="60000"/>
              <a:buFont typeface="Times New Roman"/>
              <a:buChar char="•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Acquisto di servizi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952560" indent="-285840">
              <a:spcBef>
                <a:spcPts val="499"/>
              </a:spcBef>
              <a:buClr>
                <a:srgbClr val="fafd00"/>
              </a:buClr>
              <a:buSzPct val="60000"/>
              <a:buFont typeface="Times New Roman"/>
              <a:buChar char="•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Cessione ad altri settori aziendali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9525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7.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  PARALLELIZZAZIONE ATTIVITA’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8.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BILANCIAMENTO DEI CARICHI DI LAVORO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9.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ACCORPAMENTO ATTIVITA’/RUOLI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10.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LIVELLO DI PRECISIONE IN RAPPORTO ALLE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       NECESSITA’ (valutazione del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rischio in relazione al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costo o al tempo)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93560" y="609120"/>
            <a:ext cx="8299440" cy="22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RIPROGETTAZIONE - ANALISI DEL VALORE AGGIUNTO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963" name=""/>
          <p:cNvGraphicFramePr/>
          <p:nvPr/>
        </p:nvGraphicFramePr>
        <p:xfrm>
          <a:off x="760320" y="754200"/>
          <a:ext cx="8032680" cy="55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754200"/>
                    <a:ext cx="8032680" cy="55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93560" y="685440"/>
            <a:ext cx="829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ALCUNI SPUNTI PER IL MIGLIORAMENTO DELLA QUALITA’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63400" y="190512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57160" indent="-476280">
              <a:spcBef>
                <a:spcPts val="4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ALLINEAMENTO TRA CLIENTE E FORNITORE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spcBef>
                <a:spcPts val="4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MIGLIORAMENTO DELLE COMUNICAZIONI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spcBef>
                <a:spcPts val="4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SEMPLIFICAZIONE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spcBef>
                <a:spcPts val="4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STANDARDIZZAZIONE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spcBef>
                <a:spcPts val="4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FORMAZIONE DEL PERSONALE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spcBef>
                <a:spcPts val="4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AUTOMAZIONE</a:t>
            </a:r>
            <a:endParaRPr b="1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93560" y="304560"/>
            <a:ext cx="8299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ALCUNI SPUNTI PER IL MIGLIORAMENTO DEI COSTI</a:t>
            </a:r>
            <a:endParaRPr b="1" lang="en-US" sz="2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51040" y="1371240"/>
            <a:ext cx="7448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831240" indent="-461880"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LIMINAZIONE DEGLI SPRECHI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31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31240" indent="-461880"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MIGLIORE UTILIZZO DEI MEZZI ESISTENTI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31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31240" indent="-461880"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OLUZIONI PER ELIMINARE ATTIVITA’ RIDONDANTI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31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31240" indent="-461880"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LLARGAMENTO DEI COMPITI (unificazione delle attività simili/consecutive)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31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31240" indent="-461880"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UTOMAZION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93560" y="609120"/>
            <a:ext cx="829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ALCUNI SPUNTI PER LA RIDUZIONE DEI TEMPI</a:t>
            </a:r>
            <a:endParaRPr b="1" lang="en-US" sz="28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51040" y="1600200"/>
            <a:ext cx="7448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57160" indent="-476280"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ARALLELIZZAZION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AMBIAMENTI DI SEQUENZA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LIMINAZIONE DELLE FERMATE/MICRO FERMAT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INCRONIZZAZIONE DELLE ATTIVITA’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857160" indent="-476280">
              <a:spcBef>
                <a:spcPts val="601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UTOMAZION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335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LASSIFICAZIONE DEI PROCESSI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3400" y="228600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Due categorie di processi :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662040" indent="-471600">
              <a:spcBef>
                <a:spcPts val="901"/>
              </a:spcBef>
              <a:spcAft>
                <a:spcPts val="3501"/>
              </a:spcAft>
              <a:buClr>
                <a:srgbClr val="000000"/>
              </a:buClr>
              <a:buSzPct val="5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CESSI PRIMARI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662040" indent="-471600">
              <a:spcBef>
                <a:spcPts val="901"/>
              </a:spcBef>
              <a:spcAft>
                <a:spcPts val="3501"/>
              </a:spcAft>
              <a:buClr>
                <a:srgbClr val="000000"/>
              </a:buClr>
              <a:buSzPct val="5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CESSI DI SUPPORTO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1" name="RULLIO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93560" y="685800"/>
            <a:ext cx="8299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RIPROGETTAZIONE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63400" y="152388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lvl="1" marL="702720" indent="-390240">
              <a:lnSpc>
                <a:spcPts val="2699"/>
              </a:lnSpc>
              <a:spcBef>
                <a:spcPts val="7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afd00"/>
                </a:solidFill>
                <a:latin typeface="Times New Roman"/>
              </a:rPr>
              <a:t>DISEGNARE IL NUOVO FLUSSO (es: diagramma funzionale)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02720" indent="0">
              <a:lnSpc>
                <a:spcPts val="26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02720" indent="-390240">
              <a:lnSpc>
                <a:spcPts val="2699"/>
              </a:lnSpc>
              <a:spcBef>
                <a:spcPts val="7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afd00"/>
                </a:solidFill>
                <a:latin typeface="Times New Roman"/>
              </a:rPr>
              <a:t>VERIFICARE: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046160" indent="-187200">
              <a:lnSpc>
                <a:spcPts val="2699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afd00"/>
                </a:solidFill>
                <a:latin typeface="Times New Roman"/>
              </a:rPr>
              <a:t>La riduzione ottenuta in termini di n° di fasi e n° di funzioni coinvolte 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046160" indent="-187200">
              <a:lnSpc>
                <a:spcPts val="2699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afd00"/>
                </a:solidFill>
                <a:latin typeface="Times New Roman"/>
              </a:rPr>
              <a:t>L’elenco delle cause dei problemi per verificare se sono state eliminat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02720" indent="0">
              <a:lnSpc>
                <a:spcPts val="26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02720" indent="-390240">
              <a:lnSpc>
                <a:spcPts val="2699"/>
              </a:lnSpc>
              <a:spcBef>
                <a:spcPts val="7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afd00"/>
                </a:solidFill>
                <a:latin typeface="Times New Roman"/>
              </a:rPr>
              <a:t>DEFINIRE LE AZIONI DA CONDURRE PER REALIZZARE IL NUOVO FLUSSO</a:t>
            </a:r>
            <a:br>
              <a:rPr sz="3200"/>
            </a:br>
            <a:r>
              <a:rPr b="1" lang="it-IT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ORGANIZZAZIONE PER PROCESSI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51040" y="990360"/>
            <a:ext cx="7448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fafd00"/>
                </a:solidFill>
                <a:latin typeface="Times New Roman"/>
              </a:rPr>
              <a:t>CRITERI DI RIFERIMENTO</a:t>
            </a:r>
            <a:br>
              <a:rPr sz="2600"/>
            </a:br>
            <a:endParaRPr b="1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lvl="1" marL="788400" indent="-438120">
              <a:spcBef>
                <a:spcPts val="64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afd00"/>
                </a:solidFill>
                <a:latin typeface="Times New Roman"/>
              </a:rPr>
              <a:t>PRIORITA’ AI PROCESSI PRIMARI</a:t>
            </a:r>
            <a:br>
              <a:rPr sz="2600"/>
            </a:br>
            <a:r>
              <a:rPr b="1" lang="it-IT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lvl="1" marL="788400" indent="-438120">
              <a:spcBef>
                <a:spcPts val="64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afd00"/>
                </a:solidFill>
                <a:latin typeface="Times New Roman"/>
              </a:rPr>
              <a:t>PROCESSI DI SUPPORTO IN “PULL” (guidati dai primari)</a:t>
            </a:r>
            <a:br>
              <a:rPr sz="2600"/>
            </a:br>
            <a:r>
              <a:rPr b="1" lang="it-IT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lvl="1" marL="788400" indent="-438120">
              <a:spcBef>
                <a:spcPts val="64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afd00"/>
                </a:solidFill>
                <a:latin typeface="Times New Roman"/>
              </a:rPr>
              <a:t>INDIVIDUAZIONE DELLE RESPONSABILITA’ DI PROCESSO (process owner)</a:t>
            </a:r>
            <a:endParaRPr b="1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lvl="1" marL="78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lvl="1" marL="788400" indent="-438120">
              <a:spcBef>
                <a:spcPts val="64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afd00"/>
                </a:solidFill>
                <a:latin typeface="Times New Roman"/>
              </a:rPr>
              <a:t>DECENTRAMENTO DEI PROCESSI DI SUPPORTO</a:t>
            </a:r>
            <a:endParaRPr b="1" lang="en-US" sz="2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RESTAZIONI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851040" y="1282680"/>
            <a:ext cx="7448400" cy="37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ts val="33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afd00"/>
                </a:solidFill>
                <a:latin typeface="Times New Roman"/>
              </a:rPr>
              <a:t>DEFINIRE E RACCOGLIERE LE MISURE PER CONOSCERE LE PRESTAZIONI DEL PROCESSO IN TERMINI DI: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79760" indent="-433080">
              <a:lnSpc>
                <a:spcPts val="3300"/>
              </a:lnSpc>
              <a:spcBef>
                <a:spcPts val="7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afd00"/>
                </a:solidFill>
                <a:latin typeface="Times New Roman"/>
              </a:rPr>
              <a:t>EFFICACIA (Qualità percepita dai clienti, tempo ...)</a:t>
            </a:r>
            <a:br>
              <a:rPr sz="3200"/>
            </a:br>
            <a:r>
              <a:rPr b="1" lang="it-IT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79760" indent="-433080">
              <a:lnSpc>
                <a:spcPts val="3300"/>
              </a:lnSpc>
              <a:spcBef>
                <a:spcPts val="799"/>
              </a:spcBef>
              <a:buClr>
                <a:srgbClr val="fafd00"/>
              </a:buClr>
              <a:buSzPct val="56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afd00"/>
                </a:solidFill>
                <a:latin typeface="Times New Roman"/>
              </a:rPr>
              <a:t>EFFICIENZA (costo, n° di rilavorazioni ...)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93560" y="685440"/>
            <a:ext cx="829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SCELTA DEGLI INTERVENTI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978" name=""/>
          <p:cNvGraphicFramePr/>
          <p:nvPr/>
        </p:nvGraphicFramePr>
        <p:xfrm>
          <a:off x="471600" y="1933560"/>
          <a:ext cx="782316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1933560"/>
                    <a:ext cx="782316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3560" y="0"/>
            <a:ext cx="82994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PROCESSI PRIMARI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1040" y="990720"/>
            <a:ext cx="7448400" cy="516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51160" indent="-366480">
              <a:lnSpc>
                <a:spcPts val="3498"/>
              </a:lnSpc>
              <a:spcBef>
                <a:spcPts val="2361"/>
              </a:spcBef>
              <a:buClr>
                <a:srgbClr val="000000"/>
              </a:buClr>
              <a:buSzPct val="5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ELLI  A MAGGIOR IMPATTO SUL BUSINESS DELL'AZIENDA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51160" indent="-366480">
              <a:lnSpc>
                <a:spcPts val="3498"/>
              </a:lnSpc>
              <a:spcBef>
                <a:spcPts val="2361"/>
              </a:spcBef>
              <a:buClr>
                <a:srgbClr val="000000"/>
              </a:buClr>
              <a:buSzPct val="5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"CARATTERISTICI" DEL SETTORE IN CUI OPERA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51160" indent="-366480">
              <a:lnSpc>
                <a:spcPts val="3498"/>
              </a:lnSpc>
              <a:spcBef>
                <a:spcPts val="2361"/>
              </a:spcBef>
              <a:buClr>
                <a:srgbClr val="000000"/>
              </a:buClr>
              <a:buSzPct val="5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REANO "VALORE" RICONOSCIUTO DAL CLIENTE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51160" indent="-366480">
              <a:lnSpc>
                <a:spcPts val="3498"/>
              </a:lnSpc>
              <a:spcBef>
                <a:spcPts val="2361"/>
              </a:spcBef>
              <a:buClr>
                <a:srgbClr val="000000"/>
              </a:buClr>
              <a:buSzPct val="5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RITICI PER AVERE SUCCESSO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poter fronteggiare o battere la concorrenza)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51160" indent="0">
              <a:lnSpc>
                <a:spcPts val="3498"/>
              </a:lnSpc>
              <a:spcBef>
                <a:spcPts val="23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NO UN NUMERO LIMITATO (5- 8)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1" name="RULLIO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3560" y="304920"/>
            <a:ext cx="8299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ESEMPI DI PROCESSI PRIMARI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3400" y="1066320"/>
            <a:ext cx="82267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lvl="1" marL="465840" indent="0">
              <a:lnSpc>
                <a:spcPts val="3197"/>
              </a:lnSpc>
              <a:spcBef>
                <a:spcPts val="27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ZIENDA CON PRODUZIONE PER COMMESSA: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65840" indent="0">
              <a:lnSpc>
                <a:spcPts val="3197"/>
              </a:lnSpc>
              <a:spcBef>
                <a:spcPts val="27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65840" indent="-309960">
              <a:lnSpc>
                <a:spcPts val="3197"/>
              </a:lnSpc>
              <a:spcBef>
                <a:spcPts val="2764"/>
              </a:spcBef>
              <a:buClr>
                <a:srgbClr val="000000"/>
              </a:buClr>
              <a:buSzPct val="5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PARARE L’ “OFFERTA”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65840" indent="-309960">
              <a:lnSpc>
                <a:spcPts val="3197"/>
              </a:lnSpc>
              <a:spcBef>
                <a:spcPts val="2764"/>
              </a:spcBef>
              <a:buClr>
                <a:srgbClr val="000000"/>
              </a:buClr>
              <a:buSzPct val="5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GETTARE E INDUSTRIALIZZAR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65840" indent="-309960">
              <a:lnSpc>
                <a:spcPts val="3197"/>
              </a:lnSpc>
              <a:spcBef>
                <a:spcPts val="2764"/>
              </a:spcBef>
              <a:buClr>
                <a:srgbClr val="000000"/>
              </a:buClr>
              <a:buSzPct val="5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PPROVVIGIONARE MATERIALI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65840" indent="-309960">
              <a:lnSpc>
                <a:spcPts val="3197"/>
              </a:lnSpc>
              <a:spcBef>
                <a:spcPts val="2764"/>
              </a:spcBef>
              <a:buClr>
                <a:srgbClr val="000000"/>
              </a:buClr>
              <a:buSzPct val="5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DURRE COMPONENTI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65840" indent="-309960">
              <a:lnSpc>
                <a:spcPts val="3197"/>
              </a:lnSpc>
              <a:spcBef>
                <a:spcPts val="2764"/>
              </a:spcBef>
              <a:buClr>
                <a:srgbClr val="000000"/>
              </a:buClr>
              <a:buSzPct val="5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RASPORTARE/INSTALLARE 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65840" indent="-309960">
              <a:lnSpc>
                <a:spcPts val="3197"/>
              </a:lnSpc>
              <a:spcBef>
                <a:spcPts val="2764"/>
              </a:spcBef>
              <a:buClr>
                <a:srgbClr val="000000"/>
              </a:buClr>
              <a:buSzPct val="5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TARE I COMPONENTI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65840" indent="0">
              <a:lnSpc>
                <a:spcPts val="3197"/>
              </a:lnSpc>
              <a:spcBef>
                <a:spcPts val="27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1" name="RULLIO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51040" y="108000"/>
            <a:ext cx="7448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PROCESSI DI SUPPORTO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50680" y="990360"/>
            <a:ext cx="69404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ELLI CHE SI DEVONO SVOLGERE PER GARANTIRE L’OPERATIVITÀ, L’EFFICACIA E L’EFFICIENZA DEI PROCESSI PRIMARI E QUELLI NECESSARI PER GESTIRE L’AZIENDA.</a:t>
            </a:r>
            <a:endParaRPr b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1" name="RULLIO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0T12:29:36Z</dcterms:created>
  <dc:creator/>
  <dc:description/>
  <dc:language>en-US</dc:language>
  <cp:lastModifiedBy>M.Francesca Renzi</cp:lastModifiedBy>
  <cp:lastPrinted>2004-10-26T13:12:08Z</cp:lastPrinted>
  <dcterms:modified xsi:type="dcterms:W3CDTF">2004-10-26T13:18:26Z</dcterms:modified>
  <cp:revision>381</cp:revision>
  <dc:subject>SS-MB/gg</dc:subject>
  <dc:title>BALANCED SCORECARD</dc:title>
</cp:coreProperties>
</file>