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933-28B3-4927-9678-8E6C98C7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2DF-546E-4A9D-B7C9-327DB982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B2C-EB5B-4BA8-8DD2-2E81E187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96F-5599-4B65-9589-6843DC6D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193-5838-47E9-B93E-F499250C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1B3-358F-42D1-B7E9-ABABE540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642-9FB9-4DA0-BFAB-2686EC20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FF4-2DF1-49E8-923C-FD3F5DFC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300-F531-4E57-A8E8-6240A602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C4AE-4587-4109-8207-CF3B597E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4DD-FDA2-45A6-B8F0-79E8AF19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752-4548-4A24-9DE9-132379E8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DB28-17C7-4CC7-9188-5D137AF54C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990720"/>
            <a:ext cx="69343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Master in Economia e Tecnolog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ella Società dell’inform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200400"/>
            <a:ext cx="5790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li strumenti per il miglio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0040" y="5334120"/>
            <a:ext cx="2931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ott.ssa Valentina Vittuc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Università degli Studi Roma 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AD2-DEFD-4F32-86FE-B27D17010C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Articolazione della fase del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1905120"/>
            <a:ext cx="41911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dentificazione delle possibili prior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lezione della prior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finizione degli obiett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3276720"/>
            <a:ext cx="4114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sservazione della situ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48160" y="3657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2767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accolta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4343400"/>
            <a:ext cx="4114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nalisi de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5410080"/>
            <a:ext cx="3200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dentificazione delle  c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790960" y="5715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1080" y="533412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cisioni guidate da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5867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B92-329E-4BC0-A4DD-59C9A1F064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Articolazione della fase del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2209680"/>
            <a:ext cx="32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dividuazione delle cause re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3429000"/>
            <a:ext cx="3886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finizione delle 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 migliora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2B0-B9D3-4ECA-82D5-18DB4F3B6A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pianificazione può essere distinta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ianificazione strategica;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finisce le strategie di medio e lungo termine. La tempificazione della pianificazione strategica dipende dalla velocità di cambiamento del settore in cui opera l’azie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’ un attività del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6A2-6DA7-4434-AA36-DFA7DF7846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icro-pianificazione continua;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 tratta di un numero elevato di iniziative di piccola entit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’ realizzata direttamente dagli oper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arantisce l’assestamento dei processi attraverso l’assestamento ed il miglioramento dei risultati raggiu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BE3-D407-4D6F-ABFE-8731B3E0B8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Gli strumenti del miglioramento continu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133720"/>
            <a:ext cx="2971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glio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743200" y="29718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752800" y="2956680"/>
            <a:ext cx="30528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809880"/>
            <a:ext cx="25905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cro-pianif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3886200"/>
            <a:ext cx="25905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anif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ate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5029200"/>
            <a:ext cx="1600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7 strum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atis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4572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5105520"/>
            <a:ext cx="1600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m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nager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066320" y="5791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2560" y="6019920"/>
            <a:ext cx="15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ruppi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iglior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5791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880" y="601992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tribu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dividu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943240" y="5867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3960" y="6019920"/>
            <a:ext cx="10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ruppi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og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58672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14280" y="613404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alanc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core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38E-16D6-45C7-AC00-7AFEFCA456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 7 strumenti statisti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rendere operativo il miglioramento continuo dei processi aziendali è necessario 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ogni operatore effettui il monitoraggio sistematico dell’attività che gli compet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969-A5B0-4B57-B27E-9683B6614E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coinvolgimento delle risorse umane nella realizzazione del miglioramento continuo deriva dalle seguenti considerazion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’uomo ha capacità illimitate che si esprimono pienamente solo se è  nella giusta condizio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singolo operatore è l’esperto del processo (o attività) di cui si occup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raggiungere l’eccellenza è necessario curare i dettagl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126-7B4A-42FA-A114-5C67651B6F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7 strumenti statist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914400"/>
            <a:ext cx="6858000" cy="518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2640" y="1592280"/>
          <a:ext cx="4845240" cy="38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2640" y="1592280"/>
                    <a:ext cx="484524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76B-E253-4EE5-BC21-D369E5A142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Strumenti del “piccolo scienziato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2209680"/>
          <a:ext cx="7772400" cy="3886200"/>
        </p:xfrm>
        <a:graphic>
          <a:graphicData uri="http://schemas.openxmlformats.org/drawingml/2006/table">
            <a:tbl>
              <a:tblPr/>
              <a:tblGrid>
                <a:gridCol w="4572000"/>
                <a:gridCol w="3200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ivit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men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cogliere i da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pretare i da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oglio raccolta da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cc33"/>
                          </a:solidFill>
                          <a:latin typeface="Times New Roman"/>
                        </a:rPr>
                        <a:t>Istogram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iare le relazioni causa/effe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bilire le prior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iagramma causa/effe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ramma di Pare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atificare i da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re le correlazio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ificare se un processo è sotto controll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Analisi per stratific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agramma di correl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ta di control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35F-EBF2-480B-9233-AC3247989E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li strumenti statistici consent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una visione oggettiva della situaz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e quin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di rendere operative le fasi d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1752480"/>
            <a:ext cx="12193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4A9-8EE5-4979-B76E-4D1F141204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Miglioramento continu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soddisfazione del cliente non ha limiti: ogni livello di qualità raggiunto perde presto valore per il client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aziende, per essere competitive non possono non tener conto della dinamicità delle esigenze del mercat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concetto di miglioramento continuo diviene l’essenza della qualit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4495680"/>
            <a:ext cx="9144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B84-DABC-4DB1-9269-AB67476846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Il foglio raccolta da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’ il primo strumento e consente di inquadrare il problema sulla base di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ati certi ed oggettiv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ve essere semplice e di immediata comprens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548-EEC7-47A5-8FCA-D05E4784F4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Es. foglio raccolta dati settore automobilis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71600" y="2057400"/>
          <a:ext cx="6095880" cy="4571640"/>
        </p:xfrm>
        <a:graphic>
          <a:graphicData uri="http://schemas.openxmlformats.org/drawingml/2006/table">
            <a:tbl>
              <a:tblPr/>
              <a:tblGrid>
                <a:gridCol w="2286000"/>
                <a:gridCol w="609480"/>
                <a:gridCol w="685800"/>
                <a:gridCol w="685800"/>
                <a:gridCol w="609840"/>
                <a:gridCol w="761760"/>
                <a:gridCol w="4572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et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pada fulmi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pada male avvit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ro spor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II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pada spor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593-265B-4E99-949D-0511B796FD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2193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Desk informatico. Supponiamo che le varie richieste siano state raggruppate in categorie ampie di problemi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diamo il foglio raccolta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8B5-E729-49D8-9B97-BD20426CA5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grpSp>
          <p:nvGrpSpPr>
            <p:cNvPr id="121" name=""/>
            <p:cNvGrpSpPr/>
            <p:nvPr/>
          </p:nvGrpSpPr>
          <p:grpSpPr>
            <a:xfrm>
              <a:off x="5040" y="3600"/>
              <a:ext cx="9132840" cy="6850440"/>
              <a:chOff x="5040" y="3600"/>
              <a:chExt cx="9132840" cy="685044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040" y="3600"/>
                <a:ext cx="3148920" cy="1200240"/>
                <a:chOff x="5040" y="3600"/>
                <a:chExt cx="3148920" cy="1200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79920" y="3600"/>
                  <a:ext cx="2998800" cy="120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040" y="3600"/>
                  <a:ext cx="3148920" cy="120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154320" y="3600"/>
                <a:ext cx="4214160" cy="1200240"/>
                <a:chOff x="3154320" y="3600"/>
                <a:chExt cx="4214160" cy="12002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228840" y="3600"/>
                  <a:ext cx="4064760" cy="120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settiman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154320" y="3600"/>
                  <a:ext cx="4214160" cy="120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7369200" y="3600"/>
                <a:ext cx="1768680" cy="1200240"/>
                <a:chOff x="7369200" y="3600"/>
                <a:chExt cx="1768680" cy="12002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7444080" y="3600"/>
                  <a:ext cx="1618560" cy="120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 settiman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369200" y="3600"/>
                  <a:ext cx="1768680" cy="120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040" y="1203840"/>
                <a:ext cx="3148920" cy="917640"/>
                <a:chOff x="5040" y="1203840"/>
                <a:chExt cx="3148920" cy="9176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9920" y="1203840"/>
                  <a:ext cx="2998800" cy="91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tegoria di problem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040" y="1203840"/>
                  <a:ext cx="3148920" cy="91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3154320" y="1203840"/>
                <a:ext cx="1440360" cy="917640"/>
                <a:chOff x="3154320" y="1203840"/>
                <a:chExt cx="1440360" cy="9176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228840" y="1203840"/>
                  <a:ext cx="1290600" cy="91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632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000000"/>
                      </a:solidFill>
                      <a:latin typeface="Times New Roman"/>
                    </a:rPr>
                    <a:t>Risolt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54320" y="1203840"/>
                  <a:ext cx="1440360" cy="91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595040" y="1203840"/>
                <a:ext cx="1438920" cy="917640"/>
                <a:chOff x="4595040" y="1203840"/>
                <a:chExt cx="1438920" cy="9176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669920" y="1203840"/>
                  <a:ext cx="1288800" cy="91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iferit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595040" y="1203840"/>
                  <a:ext cx="1438920" cy="91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034680" y="1203840"/>
                <a:ext cx="1333800" cy="917640"/>
                <a:chOff x="6034680" y="1203840"/>
                <a:chExt cx="1333800" cy="9176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109560" y="1203840"/>
                  <a:ext cx="1184040" cy="91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034680" y="1203840"/>
                  <a:ext cx="1333800" cy="91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7369200" y="1203840"/>
                <a:ext cx="1768680" cy="917640"/>
                <a:chOff x="7369200" y="1203840"/>
                <a:chExt cx="1768680" cy="9176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444080" y="1203840"/>
                  <a:ext cx="1618560" cy="91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369200" y="1203840"/>
                  <a:ext cx="1768680" cy="91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040" y="2121840"/>
                <a:ext cx="3148920" cy="635400"/>
                <a:chOff x="5040" y="2121840"/>
                <a:chExt cx="3148920" cy="6354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79920" y="2121840"/>
                  <a:ext cx="299880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 operativ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040" y="2121840"/>
                  <a:ext cx="314892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3154320" y="2121840"/>
                <a:ext cx="1440360" cy="635400"/>
                <a:chOff x="3154320" y="2121840"/>
                <a:chExt cx="1440360" cy="6354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3228840" y="2121840"/>
                  <a:ext cx="129060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154320" y="2121840"/>
                  <a:ext cx="144036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595040" y="2121840"/>
                <a:ext cx="1438920" cy="635400"/>
                <a:chOff x="4595040" y="2121840"/>
                <a:chExt cx="1438920" cy="6354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669920" y="2121840"/>
                  <a:ext cx="128880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95040" y="2121840"/>
                  <a:ext cx="143892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6034680" y="2121840"/>
                <a:ext cx="1333800" cy="635400"/>
                <a:chOff x="6034680" y="2121840"/>
                <a:chExt cx="1333800" cy="6354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109560" y="2121840"/>
                  <a:ext cx="118404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034680" y="2121840"/>
                  <a:ext cx="133380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7369200" y="2121840"/>
                <a:ext cx="1768680" cy="635400"/>
                <a:chOff x="7369200" y="2121840"/>
                <a:chExt cx="1768680" cy="6354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444080" y="2121840"/>
                  <a:ext cx="161856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369200" y="2121840"/>
                  <a:ext cx="176868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5040" y="2757240"/>
                <a:ext cx="3148920" cy="635760"/>
                <a:chOff x="5040" y="2757240"/>
                <a:chExt cx="3148920" cy="6357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79920" y="2757240"/>
                  <a:ext cx="2998800" cy="63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ord process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040" y="2757240"/>
                  <a:ext cx="3148920" cy="63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3154320" y="2757240"/>
                <a:ext cx="1440360" cy="635760"/>
                <a:chOff x="3154320" y="2757240"/>
                <a:chExt cx="1440360" cy="6357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228840" y="2757240"/>
                  <a:ext cx="1290600" cy="63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154320" y="2757240"/>
                  <a:ext cx="1440360" cy="63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595040" y="2757240"/>
                <a:ext cx="1438920" cy="635760"/>
                <a:chOff x="4595040" y="2757240"/>
                <a:chExt cx="1438920" cy="635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669920" y="2757240"/>
                  <a:ext cx="1288800" cy="63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595040" y="2757240"/>
                  <a:ext cx="1438920" cy="63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034680" y="2757240"/>
                <a:ext cx="1333800" cy="635760"/>
                <a:chOff x="6034680" y="2757240"/>
                <a:chExt cx="1333800" cy="635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109560" y="2757240"/>
                  <a:ext cx="1184040" cy="63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034680" y="2757240"/>
                  <a:ext cx="1333800" cy="63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7369200" y="2757240"/>
                <a:ext cx="1768680" cy="635760"/>
                <a:chOff x="7369200" y="2757240"/>
                <a:chExt cx="1768680" cy="635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7444080" y="2757240"/>
                  <a:ext cx="1618560" cy="63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69200" y="2757240"/>
                  <a:ext cx="1768680" cy="63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5040" y="3393360"/>
                <a:ext cx="3148920" cy="635400"/>
                <a:chOff x="5040" y="3393360"/>
                <a:chExt cx="3148920" cy="6354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79920" y="3393360"/>
                  <a:ext cx="299880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unicazion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040" y="3393360"/>
                  <a:ext cx="314892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3154320" y="3393360"/>
                <a:ext cx="1440360" cy="635400"/>
                <a:chOff x="3154320" y="3393360"/>
                <a:chExt cx="1440360" cy="6354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228840" y="3393360"/>
                  <a:ext cx="129060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154320" y="3393360"/>
                  <a:ext cx="144036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595040" y="3393360"/>
                <a:ext cx="1438920" cy="635400"/>
                <a:chOff x="4595040" y="3393360"/>
                <a:chExt cx="1438920" cy="6354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669920" y="3393360"/>
                  <a:ext cx="128880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595040" y="3393360"/>
                  <a:ext cx="143892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6034680" y="3393360"/>
                <a:ext cx="1333800" cy="635400"/>
                <a:chOff x="6034680" y="3393360"/>
                <a:chExt cx="1333800" cy="6354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6109560" y="3393360"/>
                  <a:ext cx="118404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034680" y="3393360"/>
                  <a:ext cx="133380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369200" y="3393360"/>
                <a:ext cx="1768680" cy="635400"/>
                <a:chOff x="7369200" y="3393360"/>
                <a:chExt cx="1768680" cy="6354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7444080" y="3393360"/>
                  <a:ext cx="161856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369200" y="3393360"/>
                  <a:ext cx="176868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040" y="4029120"/>
                <a:ext cx="3148920" cy="635400"/>
                <a:chOff x="5040" y="4029120"/>
                <a:chExt cx="3148920" cy="6354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79920" y="4029120"/>
                  <a:ext cx="299880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re applicazioni P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040" y="4029120"/>
                  <a:ext cx="314892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54320" y="4029120"/>
                <a:ext cx="1440360" cy="635400"/>
                <a:chOff x="3154320" y="4029120"/>
                <a:chExt cx="1440360" cy="6354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228840" y="4029120"/>
                  <a:ext cx="129060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54320" y="4029120"/>
                  <a:ext cx="144036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4595040" y="4029120"/>
                <a:ext cx="1438920" cy="635400"/>
                <a:chOff x="4595040" y="4029120"/>
                <a:chExt cx="1438920" cy="6354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669920" y="4029120"/>
                  <a:ext cx="128880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595040" y="4029120"/>
                  <a:ext cx="143892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6034680" y="4029120"/>
                <a:ext cx="1333800" cy="635400"/>
                <a:chOff x="6034680" y="4029120"/>
                <a:chExt cx="1333800" cy="6354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109560" y="4029120"/>
                  <a:ext cx="118404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034680" y="4029120"/>
                  <a:ext cx="133380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7369200" y="4029120"/>
                <a:ext cx="1768680" cy="635400"/>
                <a:chOff x="7369200" y="4029120"/>
                <a:chExt cx="1768680" cy="6354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7444080" y="4029120"/>
                  <a:ext cx="161856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369200" y="4029120"/>
                  <a:ext cx="176868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5040" y="4664880"/>
                <a:ext cx="3148920" cy="635400"/>
                <a:chOff x="5040" y="4664880"/>
                <a:chExt cx="3148920" cy="6354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9920" y="4664880"/>
                  <a:ext cx="299880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ftware statistic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040" y="4664880"/>
                  <a:ext cx="314892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154320" y="4664880"/>
                <a:ext cx="1440360" cy="635400"/>
                <a:chOff x="3154320" y="4664880"/>
                <a:chExt cx="1440360" cy="6354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228840" y="4664880"/>
                  <a:ext cx="129060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154320" y="4664880"/>
                  <a:ext cx="144036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595040" y="4664880"/>
                <a:ext cx="1438920" cy="635400"/>
                <a:chOff x="4595040" y="4664880"/>
                <a:chExt cx="1438920" cy="6354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669920" y="4664880"/>
                  <a:ext cx="128880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595040" y="4664880"/>
                  <a:ext cx="143892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034680" y="4664880"/>
                <a:ext cx="1333800" cy="635400"/>
                <a:chOff x="6034680" y="4664880"/>
                <a:chExt cx="1333800" cy="6354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109560" y="4664880"/>
                  <a:ext cx="118404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034680" y="4664880"/>
                  <a:ext cx="133380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369200" y="4664880"/>
                <a:ext cx="1768680" cy="635400"/>
                <a:chOff x="7369200" y="4664880"/>
                <a:chExt cx="1768680" cy="6354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444080" y="4664880"/>
                  <a:ext cx="161856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369200" y="4664880"/>
                  <a:ext cx="176868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040" y="5300280"/>
                <a:ext cx="3148920" cy="918000"/>
                <a:chOff x="5040" y="5300280"/>
                <a:chExt cx="3148920" cy="918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79920" y="5300280"/>
                  <a:ext cx="2998800" cy="91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nguaggi di programmazion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040" y="5300280"/>
                  <a:ext cx="3148920" cy="91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54320" y="5300280"/>
                <a:ext cx="1440360" cy="918000"/>
                <a:chOff x="3154320" y="5300280"/>
                <a:chExt cx="1440360" cy="9180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28840" y="5300280"/>
                  <a:ext cx="1290600" cy="91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54320" y="5300280"/>
                  <a:ext cx="1440360" cy="91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595040" y="5300280"/>
                <a:ext cx="1438920" cy="918000"/>
                <a:chOff x="4595040" y="5300280"/>
                <a:chExt cx="1438920" cy="9180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669920" y="5300280"/>
                  <a:ext cx="1288800" cy="91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595040" y="5300280"/>
                  <a:ext cx="1438920" cy="91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034680" y="5300280"/>
                <a:ext cx="1333800" cy="918000"/>
                <a:chOff x="6034680" y="5300280"/>
                <a:chExt cx="1333800" cy="9180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109560" y="5300280"/>
                  <a:ext cx="1184040" cy="91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34680" y="5300280"/>
                  <a:ext cx="1333800" cy="91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7369200" y="5300280"/>
                <a:ext cx="1768680" cy="918000"/>
                <a:chOff x="7369200" y="5300280"/>
                <a:chExt cx="1768680" cy="9180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7444080" y="5300280"/>
                  <a:ext cx="1618560" cy="91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369200" y="5300280"/>
                  <a:ext cx="1768680" cy="91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5040" y="6218640"/>
                <a:ext cx="3148920" cy="635400"/>
                <a:chOff x="5040" y="6218640"/>
                <a:chExt cx="3148920" cy="635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9920" y="6218640"/>
                  <a:ext cx="299880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r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040" y="6218640"/>
                  <a:ext cx="314892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154320" y="6218640"/>
                <a:ext cx="1440360" cy="635400"/>
                <a:chOff x="3154320" y="6218640"/>
                <a:chExt cx="1440360" cy="635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228840" y="6218640"/>
                  <a:ext cx="129060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154320" y="6218640"/>
                  <a:ext cx="144036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595040" y="6218640"/>
                <a:ext cx="1438920" cy="635400"/>
                <a:chOff x="4595040" y="6218640"/>
                <a:chExt cx="1438920" cy="635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669920" y="6218640"/>
                  <a:ext cx="128880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595040" y="6218640"/>
                  <a:ext cx="143892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034680" y="6218640"/>
                <a:ext cx="1333800" cy="635400"/>
                <a:chOff x="6034680" y="6218640"/>
                <a:chExt cx="1333800" cy="635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109560" y="6218640"/>
                  <a:ext cx="118404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034680" y="6218640"/>
                  <a:ext cx="133380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7369200" y="6218640"/>
                <a:ext cx="1768680" cy="635400"/>
                <a:chOff x="7369200" y="6218640"/>
                <a:chExt cx="1768680" cy="635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7444080" y="6218640"/>
                  <a:ext cx="1618560" cy="6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69200" y="6218640"/>
                  <a:ext cx="1768680" cy="6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"/>
            <p:cNvSpPr/>
            <p:nvPr/>
          </p:nvSpPr>
          <p:spPr>
            <a:xfrm>
              <a:off x="0" y="0"/>
              <a:ext cx="91436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13BA-EBC5-4A0A-87C1-AAB9DA8D86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9933"/>
                </a:solidFill>
                <a:latin typeface="Times New Roman"/>
              </a:rPr>
              <a:t>L’istogra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’ uno strumento che cons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a visione sintetica dei d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 agevola l’interpret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dirizza l’analisi delle cause del fenomeno in es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8FC-F7D1-4F4B-B8C6-C1B65BED1F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76160" y="8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B63-9FB6-4331-B878-D3DBAAAD63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7644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E36-9CC7-4FF9-9F87-59B75CFC1F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9933"/>
                </a:solidFill>
                <a:latin typeface="Times New Roman"/>
              </a:rPr>
              <a:t>Istogra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EDA-2453-4C20-B3EA-B165A00216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0000"/>
                </a:solidFill>
                <a:latin typeface="Times New Roman"/>
              </a:rPr>
              <a:t>Diagramma Causa/Effet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’ stato messo a punto da Ishikawa. Si tratta di una rappresentazione grafica delle relazioni esistenti tra un fenomeno e le cause che lo hanno determin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72DE-68D8-4907-A54F-C589636A27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Metodi di definizione delle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1) metodo della classificazione delle cause dell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4 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 Si fa ricorso a cause predetermi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ac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anodo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eto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ateri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874-299A-42A6-BFE6-87BA4BC4FA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obiettivo del miglioramento può essere raggiunto in due mod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randi innovazio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 piccoli pa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473-1007-4ADF-B242-8027391E9F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2) metodo delle fasi dei processi: si analizzano le cause in funzione delle diverse fasi del pro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3) metodo di elencazione delle cause: si tratta di un metodo destrutturato che consiste in una elencazione cre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E74-7243-4568-82E6-BE7909C9FA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a volta elencate l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ause possibil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si passa alla individuazione di quelle probabili ed, infine, si devono ricercare le cause impor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ulla base delle cause importanti si imposta l’intervento migliorativo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27E-DDBA-47CD-9F4C-1BB1A3E028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0000"/>
                </a:solidFill>
                <a:latin typeface="Times New Roman"/>
              </a:rPr>
              <a:t>Diagramma causa/effet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3341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81680" y="4724280"/>
            <a:ext cx="1676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37000" y="41148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Eff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96920" y="2971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914400" y="54864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6480" y="59198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bat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429000" y="548604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68560" y="603396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nta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44197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4720" y="405288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and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3040" y="4648320"/>
            <a:ext cx="8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or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47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7360" y="438156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o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33920" y="44197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50292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15080" y="46864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43520" y="39765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benz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114800" y="42667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42200" y="400068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arbur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95680" y="441972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05880" y="44337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golf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047760" y="914040"/>
            <a:ext cx="457200" cy="5791320"/>
          </a:xfrm>
          <a:custGeom>
            <a:avLst/>
            <a:gdLst>
              <a:gd name="textAreaLeft" fmla="*/ 0 w 457200"/>
              <a:gd name="textAreaRight" fmla="*/ 164880 w 45720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5E7-C3AB-4AEB-A57B-2F039E45E2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cc"/>
                </a:solidFill>
                <a:latin typeface="Times New Roman"/>
              </a:rPr>
              <a:t>Il diagramma di Pare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’ uno strumento grafico che permette di individuare le cause che determinano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arte dal presupposto che sono pochissimi i fattori importanti e molti quelli di scarsa ent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’importanza dei fattori varia in funzion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l settore di apparten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ll’obiettivo da conseg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EDC-BD39-4AA4-9D03-6014D7DF85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cc"/>
                </a:solidFill>
                <a:latin typeface="Times New Roman"/>
              </a:rPr>
              <a:t>Fasi per costruire il diagramma di Pare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) decidere come classificare i dati: è necessario decidere i criteri e il periodo di osservazion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B) rilevare i dati e ordinarli: si utilizza il foglio raccolta dati e si ordinano con l’istogramma in ordine decresc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) si calcola l’incidenza % di ogni fat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D8F-90E7-48D2-BC21-B510C400655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) si disegna il diagra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ull’asse delle ascisse si riportano i fattori in ordine decresc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ull’asse delle ordinate la frequenza con la quale si manifesta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) si costruisce la linea cumulativa che stabilisce l’incidenza globale di più fattori (o cause di un probl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CA9-6117-450C-BB1D-A3857D17545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cc"/>
                </a:solidFill>
                <a:latin typeface="Times New Roman"/>
              </a:rPr>
              <a:t>Diagramma di Pare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397160"/>
          <a:ext cx="7391520" cy="492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7160"/>
                    <a:ext cx="7391520" cy="49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552D-61E4-4F45-BB2E-8DD4872368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cc"/>
                </a:solidFill>
                <a:latin typeface="Times New Roman"/>
              </a:rPr>
              <a:t>Il diagramma di Pareto consente di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dividuare le aree prioritarie di interv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are concretezza agli scopi (es. ridurre del 50% il valore della prima bar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frontare il prima e il dopo di un’azione di migliora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0A00-4AEC-4E9D-A4B8-018EEC348B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22200" y="927000"/>
            <a:ext cx="4695840" cy="25718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152960" y="3578400"/>
            <a:ext cx="4638600" cy="26668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732960" y="482292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ahoma"/>
              </a:rPr>
              <a:t>Prima del miglior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62200" y="3598920"/>
            <a:ext cx="985680" cy="1117440"/>
          </a:xfrm>
          <a:prstGeom prst="upArrow">
            <a:avLst>
              <a:gd name="adj1" fmla="val 50000"/>
              <a:gd name="adj2" fmla="val 28342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6640" y="129528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ahoma"/>
              </a:rPr>
              <a:t>Dopo il miglior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8560" y="1901880"/>
            <a:ext cx="1189080" cy="1363680"/>
          </a:xfrm>
          <a:prstGeom prst="downArrow">
            <a:avLst>
              <a:gd name="adj1" fmla="val 50000"/>
              <a:gd name="adj2" fmla="val 28671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confronto diagramma di Pareto nel 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408-B38D-489C-B0BB-6575D1D7BF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9900"/>
                </a:solidFill>
                <a:latin typeface="Times New Roman"/>
              </a:rPr>
              <a:t>L’analisi per stratific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 questo metodo o dati raccolti vengono suddivisi in una serie di gruppi o categorie omogen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gruppi vengono definiti str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dati associati ad ogni stratificazione consentono di individuare quale gruppo di elementi è causa del fenom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5D2-BAB2-4245-9B53-39CD6EF2FE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Vantaggi del miglioramento continu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iglioramento della competitività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duzione graduale delle non conformità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iglioramento del valore percepito dal client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iglioramento dell’efficien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2C7-1CC7-4AF0-8E29-54C4BC4813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9900"/>
                </a:solidFill>
                <a:latin typeface="Times New Roman"/>
              </a:rPr>
              <a:t>I fattori di stratific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appresentano i fattori logici attraverso i quali si raggruppano i da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sempi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perato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c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teriali e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60920" y="3365640"/>
            <a:ext cx="326376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5124600" y="3678120"/>
          <a:ext cx="241920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4600" y="3678120"/>
                    <a:ext cx="241920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D7E-2ABE-4936-9ADE-01469D2CF11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’obiettivo del metodo della stratificazione è quello di individuare le cause più significative che determinano un fenom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metodo deve essere applicato fin dalla fase di impostazione della raccolta dati per realizzare successivamente diversi diagrammi di Pareto per ogni fattore di stratificazione individu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E56-8445-4E9A-9F06-E5450596D93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cc9900"/>
                </a:solidFill>
                <a:latin typeface="Times New Roman"/>
              </a:rPr>
              <a:t>Fasi costruzione diagramma stratific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tabilire il fenomeno da indag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dividuare i fattori di stratif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lassificare i dati in funzione dei fattori di stratificazione scel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appresentare graficamente ogni stra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205-7544-46BF-AC0D-C0CE12D0010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00"/>
                </a:solidFill>
                <a:latin typeface="Times New Roman"/>
              </a:rPr>
              <a:t>Diagramma di correl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sente di verificare se esiste una correlazione tra due fattori e con quale intensità sono correlati tra lo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’ utile utilizzarlo dopo il diagramma causa/effetto perché permette di individuare le cause che hanno maggiore incidenza sull’effe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684-FD79-4E79-A2BC-836CF0B1D5E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00"/>
                </a:solidFill>
                <a:latin typeface="Times New Roman"/>
              </a:rPr>
              <a:t>Fasi costruzione diagramma di correl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accolta dati: in questo caso i dati sono raccolti a coppie (valore della causa e valore dell’effet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appresentazione grafica dei da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terpretazione del diagramma misurazione della correl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14E-F15B-41A0-ABE3-898E358442A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066680" y="42840"/>
          <a:ext cx="7696080" cy="681516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282680"/>
                <a:gridCol w="1282320"/>
                <a:gridCol w="1283040"/>
              </a:tblGrid>
              <a:tr h="25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 CLI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 PEZZI VENDU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 CLI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 PEZZI VENDU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152280" y="228600"/>
            <a:ext cx="60984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Es. raccolta dati per corre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C33-5219-4A1A-BAAA-E02B37DF8F1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Times New Roman"/>
              </a:rPr>
              <a:t>Costruzione grafico di correl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657680" cy="27144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191120" y="4010040"/>
            <a:ext cx="4638600" cy="26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38F-116D-4A61-A60F-E6AE5D83744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00"/>
                </a:solidFill>
                <a:latin typeface="Times New Roman"/>
              </a:rPr>
              <a:t>Diagramma di Correl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1447920" y="1752480"/>
            <a:ext cx="6172200" cy="426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828800" y="1981080"/>
          <a:ext cx="4724280" cy="350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981080"/>
                    <a:ext cx="4724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482-235D-467A-84CB-EE2B7AA8DD9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Times New Roman"/>
              </a:rPr>
              <a:t>Carta di controllo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sente di verificare se un processo è o meno in stato di controll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gni processo ha una variabilità naturale che dipende dal modo in cui il processo è stato progett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Variabilità: valori che può assumere un processo in un certo arco di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C2F-2C12-4DDF-A6F6-7C41B405003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cause di variabilità possono ess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un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: variabilità natu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ciali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alterano la variabilità natu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controllare il processo è necessario registrare e rappresentare graficamente in ordine cronologico i valori di un parame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0D3-254C-418F-8895-4E7937B806E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Miglioramento Continuo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gn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solvere i problemi all’ori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durre la possibilità che i problemi si verifichi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igliorare le capacità di far fronte a richieste dei clienti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FFC-764C-4CF5-8BC1-DDEF1E44AD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 gruppi di miglioramen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gruppi di miglioramento sono gruppi di lavoro ai quali partecipano i dipendenti per condurre attività di miglioramento. Generalmente nel gruppo non ci sono gerarch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ssono ess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mali: quando sono istituzionalizzati e previsti nella struttura organizz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formali: quando esistono di fat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E01561_" descr=""/>
          <p:cNvPicPr/>
          <p:nvPr/>
        </p:nvPicPr>
        <p:blipFill>
          <a:blip r:embed="rId1"/>
          <a:stretch/>
        </p:blipFill>
        <p:spPr>
          <a:xfrm>
            <a:off x="4408560" y="2286000"/>
            <a:ext cx="4583160" cy="266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21F-1817-4665-8D90-821E61BCF06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terfunzionali: quando i partecipanti appartengono a funzioni di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rizzontali: quando i partecipanti appartengono allo stesso livello gerarch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Verticali: quando i partecipanti appartengono a diversi livelli gerarch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mane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emporanei: quando operano fino al conseguimento degli obiettiv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6ACE-0798-4F9F-B8E2-E3A811564E5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aratteristiche dei gruppi di migliora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eneralmente nel gruppo non ci sono gerarch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 partecipanti devono conoscere metodi e tecn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’oggetto dell’attività di miglioramento deve essere chiaro a tut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gruppo deve essere composto da non meno di 5 persone e non più di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gruppo deve effettuare un attività di pianificazione delle attività necessarie al raggiungimento degli obiettiv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3ED-9E00-411F-BD6A-3774CF8AC3C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TIPI DI GRUPPI DI MIGLIOR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IRCOLI DELLA QUALITA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RUPPI CED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QUALITY 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RUPPI MIGLIORAMENTO DI UN PRO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ASK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FB8-6F11-43EF-9B61-237F25F6D6F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 CIRCOLI DELLA QUALITA’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ono gruppi stabili di miglioramento impegnati nella risoluzione di problemi operativi (es. repart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personale vi partecipa volontariamente e sceglie in autonomia le tematiche da affron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tilizzano gli strumenti statist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314-5F44-42C4-AB62-83FEF7F38F1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GRUPPI CEDAC</a:t>
            </a:r>
            <a:br>
              <a:rPr sz="4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AUSE &amp; EFFECT DIAGRAM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WITH AUXIL OF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ono gruppi interfunzionali, temporanei costituiti dalla direzione per risolvere determinati proble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o strumento utilizzato è il diagramma causa effe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etodo consente di far avere informazioni bottom up alla dire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E48-9EB8-4BAF-97F7-5141CF89EE6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QUALITY COMMITT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1560" y="1916280"/>
            <a:ext cx="8920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’ un gruppo di governo dei grandi problemi della qualit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ll’azi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’ guidato dal direttore generale (o da un manager da ques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legato) e composto dai responsabili delle varie funzio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riesame è periodico e può riguardare l’andamento 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Business, risultati azioni miglioramento, risultati indagi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 soddisfazioni dei clienti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603-2E20-4E7C-8B4F-F537A949E99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GRUPPI DI MIGLIORAMENTO DI UN PROCES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ono gruppi stabili scelti dalla direz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team leader è il responsabile del proces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anno come scopo il miglioramento di un pro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ssono essere interfunzionali o intra-funzio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ono gruppi stabili scelti dalla direz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team leader è il responsabile del proces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anno come scopo il miglioramento di un pro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ssono essere interfunzionali o intra-funzio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53A-9DCC-4B2B-9FD8-0BC4C3624B6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TASK FO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8280" y="1828800"/>
            <a:ext cx="8624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ono gruppi interfunziona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ono formati dalla dire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ascono per problemi specif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 propongono di raggiungere obiettivi determin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econdo tempi e scadenze definite anticipat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AAAF-16C4-446E-96F9-299EB1506F7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l miglioramento continuo richied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ppoggio e partecipazione de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deguata pianificazione e organizz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mbiente ada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etodi, tecniche e strumenti opera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813-E5EA-4650-B33D-85BE7E6C11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Azioni del management per realizzare il miglior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are ai collaboratori una visione chiara della situ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ollecitare attivamente idee nuove dando il giusto riconoscimento a quelle più va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are in modo che i collaboratori realizzino i loro output adeguati rispetto alle esigenze del cliente intern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313-BC68-4E4D-9BF4-71FC281ED0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coraggiare i collaboratori a formalizzare diagrammi di flusso relativi ai loro processi lavora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coraggiare la discussione dei 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coraggiare le discussioni periodiche tra i collaboratori a tutti i livel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Azioni del management per realizzare il miglior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2C8-4B73-4385-96C5-47276E9AC8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La Ruota di De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o strumento concettuale che consente di realizzare il migliorament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505320"/>
            <a:ext cx="3657600" cy="289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3505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5029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1680" y="4038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63240" y="5299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85640" y="53751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33000" y="407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F035-5077-43D9-9596-B8B99BC2F2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10-26T15:52:02Z</dcterms:modified>
  <cp:revision>46</cp:revision>
  <dc:subject/>
  <dc:title>PowerPoint Presentation</dc:title>
</cp:coreProperties>
</file>